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4E638ED-7F1B-42FF-896D-C0FEAC0D7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7, 11, 1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16, 8,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6 + 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N - 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N - (2 + 9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n/6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2n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N + 7   2.  .5N  or n/2    3. 4n + 3 = 2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Y = n/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Y = n - 4    6.  Y = 7 - n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9078-2BB3-419F-AB72-9C9D72706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9838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A51C-5586-4EFC-B9CC-7B20824C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6123-EC69-4D6F-B674-FCD5D2AC5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4267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4267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9838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9838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9838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CE3F-BFCD-4E13-A245-80516519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A11A-9750-4A30-A598-05AE884A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5D52-6F32-4C51-AE1C-DB791AD4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9368-B17A-437C-98EB-781A5E6A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05DE-B1ED-4F4D-B761-FABDD639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F133-982A-452E-BF8A-F4867E93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2819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6C06-EAFB-4880-AF8E-F98DD725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2554-9D68-47B8-9656-9D4C7A81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3926-F752-47A4-BE82-EBD84F75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5156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5C7A-219C-4CE6-8B70-A8637B90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9838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9CE5-4662-47A5-AB41-BFDD6700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371600" y="49838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60B7-37E0-44D3-821B-596D145D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37160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5156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70C6-BF29-4A7A-9922-65AA6725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35560" y="4267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699880" y="4267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371600" y="49838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35560" y="49838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699880" y="49838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6F55-6F7F-4B71-8559-63EACE15C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C47A-D6E2-46CA-86F1-045A3233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05C9-96D6-47E9-A753-81152DB2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C81A-1BA9-4863-99CF-0D56B771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2819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020F-9ADC-4587-88AF-3DE22881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A1F6-FAF1-474B-81DE-56CAFB31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9838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88B5-131B-4432-9109-2A46FE56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267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9838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25A3-5DB3-461D-B0DC-33F452D2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 rot="16200000">
            <a:off x="4304520" y="6513480"/>
            <a:ext cx="610200" cy="685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1203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12031"/>
              </a:path>
            </a:pathLst>
          </a:cu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52280"/>
            <a:ext cx="9144000" cy="6629400"/>
            <a:chOff x="0" y="152280"/>
            <a:chExt cx="9144000" cy="6629400"/>
          </a:xfrm>
        </p:grpSpPr>
        <p:sp>
          <p:nvSpPr>
            <p:cNvPr id="2" name=""/>
            <p:cNvSpPr/>
            <p:nvPr/>
          </p:nvSpPr>
          <p:spPr>
            <a:xfrm flipH="1">
              <a:off x="5029200" y="152280"/>
              <a:ext cx="4114800" cy="6629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305" y="540"/>
                    <a:pt x="3009" y="5080"/>
                    <a:pt x="3009" y="10800"/>
                  </a:cubicBezTo>
                  <a:cubicBezTo>
                    <a:pt x="3009" y="16520"/>
                    <a:pt x="12305" y="2106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52280"/>
              <a:ext cx="4114800" cy="6629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305" y="540"/>
                    <a:pt x="3009" y="5080"/>
                    <a:pt x="3009" y="10800"/>
                  </a:cubicBezTo>
                  <a:cubicBezTo>
                    <a:pt x="3009" y="16520"/>
                    <a:pt x="12305" y="2106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228600" y="76320"/>
            <a:ext cx="8763120" cy="1523880"/>
            <a:chOff x="228600" y="76320"/>
            <a:chExt cx="8763120" cy="1523880"/>
          </a:xfrm>
        </p:grpSpPr>
        <p:sp>
          <p:nvSpPr>
            <p:cNvPr id="5" name=""/>
            <p:cNvSpPr/>
            <p:nvPr/>
          </p:nvSpPr>
          <p:spPr>
            <a:xfrm>
              <a:off x="228600" y="76320"/>
              <a:ext cx="3962520" cy="152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497" y="250"/>
                    <a:pt x="1393" y="5080"/>
                    <a:pt x="1393" y="10800"/>
                  </a:cubicBezTo>
                  <a:cubicBezTo>
                    <a:pt x="1393" y="16520"/>
                    <a:pt x="11497" y="2135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4724280" y="76320"/>
              <a:ext cx="4267440" cy="152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497" y="250"/>
                    <a:pt x="1393" y="5080"/>
                    <a:pt x="1393" y="10800"/>
                  </a:cubicBezTo>
                  <a:cubicBezTo>
                    <a:pt x="1393" y="16520"/>
                    <a:pt x="11497" y="2135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80" y="152280"/>
              <a:ext cx="7925040" cy="137160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ccff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99ccff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99ccff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2362320" y="640080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DE86-27DD-4DA8-9AE1-3295D4FECAFC}" type="slidenum"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76320"/>
            <a:ext cx="9144000" cy="6705360"/>
            <a:chOff x="0" y="76320"/>
            <a:chExt cx="9144000" cy="6705360"/>
          </a:xfrm>
        </p:grpSpPr>
        <p:sp>
          <p:nvSpPr>
            <p:cNvPr id="50" name=""/>
            <p:cNvSpPr/>
            <p:nvPr/>
          </p:nvSpPr>
          <p:spPr>
            <a:xfrm flipH="1">
              <a:off x="5029200" y="152280"/>
              <a:ext cx="4114800" cy="6629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305" y="540"/>
                    <a:pt x="3009" y="5080"/>
                    <a:pt x="3009" y="10800"/>
                  </a:cubicBezTo>
                  <a:cubicBezTo>
                    <a:pt x="3009" y="16520"/>
                    <a:pt x="12305" y="2106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76320"/>
              <a:ext cx="4114800" cy="670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305" y="540"/>
                    <a:pt x="3009" y="5080"/>
                    <a:pt x="3009" y="10800"/>
                  </a:cubicBezTo>
                  <a:cubicBezTo>
                    <a:pt x="3009" y="16520"/>
                    <a:pt x="12305" y="2106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28600" y="2590920"/>
            <a:ext cx="8763120" cy="1523880"/>
            <a:chOff x="228600" y="2590920"/>
            <a:chExt cx="8763120" cy="1523880"/>
          </a:xfrm>
        </p:grpSpPr>
        <p:sp>
          <p:nvSpPr>
            <p:cNvPr id="53" name=""/>
            <p:cNvSpPr/>
            <p:nvPr/>
          </p:nvSpPr>
          <p:spPr>
            <a:xfrm>
              <a:off x="228600" y="2590920"/>
              <a:ext cx="3962520" cy="152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497" y="250"/>
                    <a:pt x="1393" y="5080"/>
                    <a:pt x="1393" y="10800"/>
                  </a:cubicBezTo>
                  <a:cubicBezTo>
                    <a:pt x="1393" y="16520"/>
                    <a:pt x="11497" y="2135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724280" y="2590920"/>
              <a:ext cx="4267440" cy="152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497" y="250"/>
                    <a:pt x="1393" y="5080"/>
                    <a:pt x="1393" y="10800"/>
                  </a:cubicBezTo>
                  <a:cubicBezTo>
                    <a:pt x="1393" y="16520"/>
                    <a:pt x="11497" y="2135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2666880"/>
              <a:ext cx="7925040" cy="137160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251424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1808-2274-4991-BED7-DD5E3BEE554F}" type="slidenum"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ccff"/>
              </a:buClr>
              <a:buFont typeface="Times New Roman"/>
              <a:buChar char="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Font typeface="Times New Roman"/>
              <a:buChar char="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Font typeface="Times New Roman"/>
              <a:buChar char="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Warm-up</a:t>
            </a:r>
            <a:r>
              <a:rPr b="0" lang="en-US" sz="2000" spc="-1" strike="noStrike">
                <a:solidFill>
                  <a:srgbClr val="6600cc"/>
                </a:solidFill>
                <a:latin typeface="Times New Roman"/>
              </a:rPr>
              <a:t>:  Students will complete a function table with a given two-operation function.</a:t>
            </a:r>
            <a:endParaRPr b="0" lang="en-US" sz="2000" spc="-1" strike="noStrike">
              <a:solidFill>
                <a:srgbClr val="6600cc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143000" y="1828800"/>
          <a:ext cx="2590920" cy="403848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</a:tblGrid>
              <a:tr h="808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Y = </a:t>
                      </a:r>
                      <a:r>
                        <a:rPr b="0" lang="en-US" sz="1800" spc="-1" strike="noStrike" u="sng">
                          <a:solidFill>
                            <a:srgbClr val="4d4d4d"/>
                          </a:solidFill>
                          <a:uFillTx/>
                          <a:latin typeface="Arial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  + 3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5181480" y="1981080"/>
          <a:ext cx="2819520" cy="4038840"/>
        </p:xfrm>
        <a:graphic>
          <a:graphicData uri="http://schemas.openxmlformats.org/drawingml/2006/table">
            <a:tbl>
              <a:tblPr/>
              <a:tblGrid>
                <a:gridCol w="1409760"/>
                <a:gridCol w="1409760"/>
              </a:tblGrid>
              <a:tr h="808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N = 24 - 4p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2660760" y="3652920"/>
            <a:ext cx="4956120" cy="1089000"/>
          </a:xfrm>
          <a:custGeom>
            <a:avLst/>
            <a:gdLst/>
            <a:ahLst/>
            <a:rect l="l" t="t" r="r" b="b"/>
            <a:pathLst>
              <a:path w="13767" h="3027">
                <a:moveTo>
                  <a:pt x="8062" y="10344"/>
                </a:moveTo>
                <a:lnTo>
                  <a:pt x="8062" y="10344"/>
                </a:lnTo>
              </a:path>
              <a:path w="13767" h="3027">
                <a:moveTo>
                  <a:pt x="7392" y="11757"/>
                </a:moveTo>
                <a:lnTo>
                  <a:pt x="7392" y="11757"/>
                </a:lnTo>
              </a:path>
              <a:path w="13767" h="3027">
                <a:moveTo>
                  <a:pt x="8582" y="11112"/>
                </a:moveTo>
                <a:cubicBezTo>
                  <a:pt x="8623" y="11085"/>
                  <a:pt x="8666" y="11065"/>
                  <a:pt x="8706" y="11038"/>
                </a:cubicBezTo>
              </a:path>
              <a:path w="13767" h="3027">
                <a:moveTo>
                  <a:pt x="8607" y="11237"/>
                </a:moveTo>
                <a:cubicBezTo>
                  <a:pt x="8688" y="11183"/>
                  <a:pt x="8719" y="11163"/>
                  <a:pt x="8781" y="11137"/>
                </a:cubicBezTo>
              </a:path>
              <a:path w="13767" h="3027">
                <a:moveTo>
                  <a:pt x="8781" y="11137"/>
                </a:moveTo>
                <a:lnTo>
                  <a:pt x="8781" y="11137"/>
                </a:lnTo>
              </a:path>
              <a:path w="13767" h="3027">
                <a:moveTo>
                  <a:pt x="18628" y="10145"/>
                </a:moveTo>
                <a:lnTo>
                  <a:pt x="18628" y="10145"/>
                </a:lnTo>
              </a:path>
              <a:path w="13767" h="3027">
                <a:moveTo>
                  <a:pt x="18628" y="10145"/>
                </a:moveTo>
                <a:lnTo>
                  <a:pt x="18628" y="10145"/>
                </a:lnTo>
              </a:path>
              <a:path w="13767" h="3027">
                <a:moveTo>
                  <a:pt x="18628" y="10145"/>
                </a:moveTo>
                <a:lnTo>
                  <a:pt x="18628" y="10145"/>
                </a:lnTo>
              </a:path>
              <a:path w="13767" h="3027">
                <a:moveTo>
                  <a:pt x="19050" y="11137"/>
                </a:moveTo>
                <a:lnTo>
                  <a:pt x="19050" y="11137"/>
                </a:lnTo>
              </a:path>
              <a:path w="13767" h="3027">
                <a:moveTo>
                  <a:pt x="20737" y="10964"/>
                </a:moveTo>
                <a:lnTo>
                  <a:pt x="20737" y="10964"/>
                </a:lnTo>
              </a:path>
              <a:path w="13767" h="3027">
                <a:moveTo>
                  <a:pt x="20563" y="12725"/>
                </a:moveTo>
                <a:lnTo>
                  <a:pt x="20563" y="12725"/>
                </a:lnTo>
              </a:path>
              <a:path w="13767" h="3027">
                <a:moveTo>
                  <a:pt x="21158" y="13171"/>
                </a:moveTo>
                <a:lnTo>
                  <a:pt x="21158" y="1317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90840" y="3490920"/>
            <a:ext cx="1135080" cy="1295280"/>
          </a:xfrm>
          <a:custGeom>
            <a:avLst/>
            <a:gdLst/>
            <a:ahLst/>
            <a:rect l="l" t="t" r="r" b="b"/>
            <a:pathLst>
              <a:path w="3151" h="3597">
                <a:moveTo>
                  <a:pt x="6995" y="9798"/>
                </a:moveTo>
                <a:cubicBezTo>
                  <a:pt x="7049" y="9784"/>
                  <a:pt x="7092" y="9731"/>
                  <a:pt x="7144" y="9699"/>
                </a:cubicBezTo>
                <a:cubicBezTo>
                  <a:pt x="7222" y="9724"/>
                  <a:pt x="7149" y="9870"/>
                  <a:pt x="7119" y="9922"/>
                </a:cubicBezTo>
                <a:cubicBezTo>
                  <a:pt x="7067" y="10011"/>
                  <a:pt x="7003" y="10066"/>
                  <a:pt x="6921" y="10120"/>
                </a:cubicBezTo>
                <a:cubicBezTo>
                  <a:pt x="6996" y="10120"/>
                  <a:pt x="7040" y="10078"/>
                  <a:pt x="7119" y="10071"/>
                </a:cubicBezTo>
                <a:cubicBezTo>
                  <a:pt x="7185" y="10065"/>
                  <a:pt x="7168" y="10110"/>
                  <a:pt x="7243" y="10120"/>
                </a:cubicBezTo>
              </a:path>
              <a:path w="3151" h="3597">
                <a:moveTo>
                  <a:pt x="7466" y="9823"/>
                </a:moveTo>
                <a:cubicBezTo>
                  <a:pt x="7364" y="9823"/>
                  <a:pt x="7335" y="9883"/>
                  <a:pt x="7293" y="9971"/>
                </a:cubicBezTo>
                <a:cubicBezTo>
                  <a:pt x="7270" y="10039"/>
                  <a:pt x="7259" y="10057"/>
                  <a:pt x="7293" y="10096"/>
                </a:cubicBezTo>
                <a:cubicBezTo>
                  <a:pt x="7427" y="10129"/>
                  <a:pt x="7498" y="10125"/>
                  <a:pt x="7541" y="9971"/>
                </a:cubicBezTo>
                <a:cubicBezTo>
                  <a:pt x="7562" y="9895"/>
                  <a:pt x="7512" y="9826"/>
                  <a:pt x="7441" y="9798"/>
                </a:cubicBezTo>
                <a:cubicBezTo>
                  <a:pt x="7425" y="9798"/>
                  <a:pt x="7408" y="9798"/>
                  <a:pt x="7392" y="9798"/>
                </a:cubicBezTo>
              </a:path>
              <a:path w="3151" h="3597">
                <a:moveTo>
                  <a:pt x="6970" y="10319"/>
                </a:moveTo>
                <a:cubicBezTo>
                  <a:pt x="7062" y="10246"/>
                  <a:pt x="7127" y="10281"/>
                  <a:pt x="7243" y="10269"/>
                </a:cubicBezTo>
                <a:cubicBezTo>
                  <a:pt x="7363" y="10256"/>
                  <a:pt x="7469" y="10244"/>
                  <a:pt x="7590" y="10244"/>
                </a:cubicBezTo>
              </a:path>
              <a:path w="3151" h="3597">
                <a:moveTo>
                  <a:pt x="7417" y="10344"/>
                </a:moveTo>
                <a:cubicBezTo>
                  <a:pt x="7347" y="10344"/>
                  <a:pt x="7309" y="10333"/>
                  <a:pt x="7268" y="10319"/>
                </a:cubicBezTo>
                <a:cubicBezTo>
                  <a:pt x="7250" y="10399"/>
                  <a:pt x="7200" y="10457"/>
                  <a:pt x="7193" y="10542"/>
                </a:cubicBezTo>
                <a:cubicBezTo>
                  <a:pt x="7193" y="10550"/>
                  <a:pt x="7193" y="10559"/>
                  <a:pt x="7193" y="10567"/>
                </a:cubicBezTo>
                <a:cubicBezTo>
                  <a:pt x="7257" y="10567"/>
                  <a:pt x="7306" y="10514"/>
                  <a:pt x="7367" y="10517"/>
                </a:cubicBezTo>
                <a:cubicBezTo>
                  <a:pt x="7417" y="10542"/>
                  <a:pt x="7433" y="10550"/>
                  <a:pt x="7466" y="10567"/>
                </a:cubicBezTo>
                <a:cubicBezTo>
                  <a:pt x="7435" y="10659"/>
                  <a:pt x="7387" y="10828"/>
                  <a:pt x="7243" y="10765"/>
                </a:cubicBezTo>
                <a:cubicBezTo>
                  <a:pt x="7235" y="10749"/>
                  <a:pt x="7226" y="10732"/>
                  <a:pt x="7218" y="10716"/>
                </a:cubicBezTo>
              </a:path>
              <a:path w="3151" h="3597">
                <a:moveTo>
                  <a:pt x="7962" y="10269"/>
                </a:moveTo>
                <a:cubicBezTo>
                  <a:pt x="7928" y="10352"/>
                  <a:pt x="7871" y="10427"/>
                  <a:pt x="7863" y="10517"/>
                </a:cubicBezTo>
                <a:cubicBezTo>
                  <a:pt x="7863" y="10542"/>
                  <a:pt x="7863" y="10550"/>
                  <a:pt x="7863" y="10517"/>
                </a:cubicBezTo>
              </a:path>
              <a:path w="3151" h="3597">
                <a:moveTo>
                  <a:pt x="7739" y="10393"/>
                </a:moveTo>
                <a:cubicBezTo>
                  <a:pt x="7821" y="10385"/>
                  <a:pt x="7935" y="10390"/>
                  <a:pt x="8012" y="10368"/>
                </a:cubicBezTo>
                <a:cubicBezTo>
                  <a:pt x="8029" y="10360"/>
                  <a:pt x="8045" y="10352"/>
                  <a:pt x="8062" y="10344"/>
                </a:cubicBezTo>
              </a:path>
              <a:path w="3151" h="3597">
                <a:moveTo>
                  <a:pt x="8260" y="10120"/>
                </a:moveTo>
                <a:cubicBezTo>
                  <a:pt x="8301" y="10113"/>
                  <a:pt x="8343" y="10103"/>
                  <a:pt x="8384" y="10096"/>
                </a:cubicBezTo>
                <a:cubicBezTo>
                  <a:pt x="8429" y="10185"/>
                  <a:pt x="8399" y="10217"/>
                  <a:pt x="8334" y="10294"/>
                </a:cubicBezTo>
                <a:cubicBezTo>
                  <a:pt x="8366" y="10294"/>
                  <a:pt x="8506" y="10283"/>
                  <a:pt x="8483" y="10368"/>
                </a:cubicBezTo>
                <a:cubicBezTo>
                  <a:pt x="8453" y="10482"/>
                  <a:pt x="8349" y="10461"/>
                  <a:pt x="8260" y="10468"/>
                </a:cubicBezTo>
              </a:path>
              <a:path w="3151" h="3597">
                <a:moveTo>
                  <a:pt x="7218" y="11385"/>
                </a:moveTo>
                <a:cubicBezTo>
                  <a:pt x="7198" y="11345"/>
                  <a:pt x="7189" y="11339"/>
                  <a:pt x="7193" y="11311"/>
                </a:cubicBezTo>
                <a:cubicBezTo>
                  <a:pt x="7181" y="11415"/>
                  <a:pt x="7164" y="11520"/>
                  <a:pt x="7119" y="11609"/>
                </a:cubicBezTo>
                <a:cubicBezTo>
                  <a:pt x="7190" y="11551"/>
                  <a:pt x="7250" y="11538"/>
                  <a:pt x="7342" y="11534"/>
                </a:cubicBezTo>
                <a:cubicBezTo>
                  <a:pt x="7462" y="11529"/>
                  <a:pt x="7432" y="11530"/>
                  <a:pt x="7441" y="11385"/>
                </a:cubicBezTo>
              </a:path>
              <a:path w="3151" h="3597">
                <a:moveTo>
                  <a:pt x="7367" y="11088"/>
                </a:moveTo>
                <a:cubicBezTo>
                  <a:pt x="7367" y="11314"/>
                  <a:pt x="7368" y="11534"/>
                  <a:pt x="7392" y="11757"/>
                </a:cubicBezTo>
                <a:cubicBezTo>
                  <a:pt x="7392" y="11782"/>
                  <a:pt x="7392" y="11790"/>
                  <a:pt x="7392" y="11757"/>
                </a:cubicBezTo>
              </a:path>
              <a:path w="3151" h="3597">
                <a:moveTo>
                  <a:pt x="7739" y="11038"/>
                </a:moveTo>
                <a:cubicBezTo>
                  <a:pt x="7739" y="11214"/>
                  <a:pt x="7760" y="11384"/>
                  <a:pt x="7764" y="11559"/>
                </a:cubicBezTo>
                <a:cubicBezTo>
                  <a:pt x="7764" y="11620"/>
                  <a:pt x="7755" y="11636"/>
                  <a:pt x="7789" y="11658"/>
                </a:cubicBezTo>
              </a:path>
              <a:path w="3151" h="3597">
                <a:moveTo>
                  <a:pt x="7565" y="11435"/>
                </a:moveTo>
                <a:cubicBezTo>
                  <a:pt x="7677" y="11371"/>
                  <a:pt x="7789" y="11311"/>
                  <a:pt x="7913" y="11286"/>
                </a:cubicBezTo>
              </a:path>
              <a:path w="3151" h="3597">
                <a:moveTo>
                  <a:pt x="8062" y="11013"/>
                </a:moveTo>
                <a:cubicBezTo>
                  <a:pt x="8133" y="10963"/>
                  <a:pt x="8170" y="10948"/>
                  <a:pt x="8260" y="10939"/>
                </a:cubicBezTo>
                <a:cubicBezTo>
                  <a:pt x="8269" y="11095"/>
                  <a:pt x="8249" y="11124"/>
                  <a:pt x="8161" y="11261"/>
                </a:cubicBezTo>
                <a:cubicBezTo>
                  <a:pt x="8270" y="11244"/>
                  <a:pt x="8354" y="11242"/>
                  <a:pt x="8334" y="11410"/>
                </a:cubicBezTo>
                <a:cubicBezTo>
                  <a:pt x="8325" y="11490"/>
                  <a:pt x="8104" y="11766"/>
                  <a:pt x="8012" y="11633"/>
                </a:cubicBezTo>
                <a:cubicBezTo>
                  <a:pt x="8012" y="11608"/>
                  <a:pt x="8012" y="11584"/>
                  <a:pt x="8012" y="11559"/>
                </a:cubicBezTo>
              </a:path>
              <a:path w="3151" h="3597">
                <a:moveTo>
                  <a:pt x="9376" y="10443"/>
                </a:moveTo>
                <a:cubicBezTo>
                  <a:pt x="9344" y="10537"/>
                  <a:pt x="9361" y="10453"/>
                  <a:pt x="9351" y="10393"/>
                </a:cubicBezTo>
                <a:cubicBezTo>
                  <a:pt x="9440" y="10383"/>
                  <a:pt x="9545" y="10367"/>
                  <a:pt x="9624" y="10319"/>
                </a:cubicBezTo>
                <a:cubicBezTo>
                  <a:pt x="9654" y="10289"/>
                  <a:pt x="9668" y="10278"/>
                  <a:pt x="9699" y="10269"/>
                </a:cubicBezTo>
                <a:cubicBezTo>
                  <a:pt x="9699" y="10473"/>
                  <a:pt x="9667" y="10689"/>
                  <a:pt x="9674" y="10889"/>
                </a:cubicBezTo>
                <a:cubicBezTo>
                  <a:pt x="9692" y="10980"/>
                  <a:pt x="9701" y="11055"/>
                  <a:pt x="9699" y="10988"/>
                </a:cubicBezTo>
              </a:path>
              <a:path w="3151" h="3597">
                <a:moveTo>
                  <a:pt x="9054" y="11162"/>
                </a:moveTo>
                <a:cubicBezTo>
                  <a:pt x="9197" y="11320"/>
                  <a:pt x="9374" y="11392"/>
                  <a:pt x="9599" y="11361"/>
                </a:cubicBezTo>
                <a:cubicBezTo>
                  <a:pt x="9832" y="11329"/>
                  <a:pt x="9989" y="11100"/>
                  <a:pt x="10046" y="10889"/>
                </a:cubicBezTo>
                <a:cubicBezTo>
                  <a:pt x="10130" y="10579"/>
                  <a:pt x="10038" y="10396"/>
                  <a:pt x="9798" y="10220"/>
                </a:cubicBezTo>
                <a:cubicBezTo>
                  <a:pt x="9596" y="10072"/>
                  <a:pt x="9393" y="10078"/>
                  <a:pt x="9153" y="10120"/>
                </a:cubicBezTo>
                <a:cubicBezTo>
                  <a:pt x="8942" y="10157"/>
                  <a:pt x="8855" y="10340"/>
                  <a:pt x="8830" y="10542"/>
                </a:cubicBezTo>
                <a:cubicBezTo>
                  <a:pt x="8787" y="10885"/>
                  <a:pt x="8972" y="11202"/>
                  <a:pt x="9277" y="11361"/>
                </a:cubicBezTo>
                <a:cubicBezTo>
                  <a:pt x="9436" y="11406"/>
                  <a:pt x="9479" y="11428"/>
                  <a:pt x="9575" y="11361"/>
                </a:cubicBezTo>
              </a:path>
              <a:path w="3151" h="3597">
                <a:moveTo>
                  <a:pt x="6995" y="11981"/>
                </a:moveTo>
                <a:cubicBezTo>
                  <a:pt x="6982" y="12059"/>
                  <a:pt x="6953" y="12131"/>
                  <a:pt x="6921" y="12204"/>
                </a:cubicBezTo>
                <a:cubicBezTo>
                  <a:pt x="6989" y="12190"/>
                  <a:pt x="7045" y="12179"/>
                  <a:pt x="7119" y="12179"/>
                </a:cubicBezTo>
              </a:path>
              <a:path w="3151" h="3597">
                <a:moveTo>
                  <a:pt x="7243" y="12055"/>
                </a:moveTo>
                <a:cubicBezTo>
                  <a:pt x="7193" y="12177"/>
                  <a:pt x="7175" y="12225"/>
                  <a:pt x="7193" y="12353"/>
                </a:cubicBezTo>
                <a:cubicBezTo>
                  <a:pt x="7322" y="12333"/>
                  <a:pt x="7482" y="12278"/>
                  <a:pt x="7392" y="12105"/>
                </a:cubicBezTo>
                <a:cubicBezTo>
                  <a:pt x="7329" y="12042"/>
                  <a:pt x="7319" y="12009"/>
                  <a:pt x="7268" y="12055"/>
                </a:cubicBezTo>
              </a:path>
              <a:path w="3151" h="3597">
                <a:moveTo>
                  <a:pt x="6921" y="12576"/>
                </a:moveTo>
                <a:cubicBezTo>
                  <a:pt x="7066" y="12542"/>
                  <a:pt x="7193" y="12526"/>
                  <a:pt x="7342" y="12526"/>
                </a:cubicBezTo>
                <a:cubicBezTo>
                  <a:pt x="7350" y="12526"/>
                  <a:pt x="7359" y="12526"/>
                  <a:pt x="7367" y="12526"/>
                </a:cubicBezTo>
              </a:path>
              <a:path w="3151" h="3597">
                <a:moveTo>
                  <a:pt x="7268" y="12725"/>
                </a:moveTo>
                <a:cubicBezTo>
                  <a:pt x="7218" y="12730"/>
                  <a:pt x="7105" y="12729"/>
                  <a:pt x="7094" y="12774"/>
                </a:cubicBezTo>
                <a:cubicBezTo>
                  <a:pt x="7094" y="12782"/>
                  <a:pt x="7094" y="12791"/>
                  <a:pt x="7094" y="12799"/>
                </a:cubicBezTo>
                <a:cubicBezTo>
                  <a:pt x="7171" y="12877"/>
                  <a:pt x="7261" y="12808"/>
                  <a:pt x="7342" y="12898"/>
                </a:cubicBezTo>
                <a:cubicBezTo>
                  <a:pt x="7420" y="12984"/>
                  <a:pt x="7225" y="13040"/>
                  <a:pt x="7193" y="13047"/>
                </a:cubicBezTo>
                <a:cubicBezTo>
                  <a:pt x="7177" y="13047"/>
                  <a:pt x="7160" y="13047"/>
                  <a:pt x="7144" y="13047"/>
                </a:cubicBezTo>
              </a:path>
              <a:path w="3151" h="3597">
                <a:moveTo>
                  <a:pt x="7789" y="12402"/>
                </a:moveTo>
                <a:cubicBezTo>
                  <a:pt x="7772" y="12488"/>
                  <a:pt x="7764" y="12556"/>
                  <a:pt x="7764" y="12650"/>
                </a:cubicBezTo>
                <a:cubicBezTo>
                  <a:pt x="7764" y="12675"/>
                  <a:pt x="7764" y="12683"/>
                  <a:pt x="7764" y="12700"/>
                </a:cubicBezTo>
              </a:path>
              <a:path w="3151" h="3597">
                <a:moveTo>
                  <a:pt x="7640" y="12576"/>
                </a:moveTo>
                <a:cubicBezTo>
                  <a:pt x="7704" y="12576"/>
                  <a:pt x="7765" y="12568"/>
                  <a:pt x="7813" y="12576"/>
                </a:cubicBezTo>
                <a:cubicBezTo>
                  <a:pt x="7880" y="12587"/>
                  <a:pt x="7879" y="12554"/>
                  <a:pt x="7938" y="12502"/>
                </a:cubicBezTo>
              </a:path>
              <a:path w="3151" h="3597">
                <a:moveTo>
                  <a:pt x="8062" y="12303"/>
                </a:moveTo>
                <a:cubicBezTo>
                  <a:pt x="8120" y="12288"/>
                  <a:pt x="8245" y="12229"/>
                  <a:pt x="8260" y="12328"/>
                </a:cubicBezTo>
                <a:cubicBezTo>
                  <a:pt x="8277" y="12435"/>
                  <a:pt x="8258" y="12450"/>
                  <a:pt x="8186" y="12502"/>
                </a:cubicBezTo>
                <a:cubicBezTo>
                  <a:pt x="8261" y="12489"/>
                  <a:pt x="8359" y="12446"/>
                  <a:pt x="8359" y="12576"/>
                </a:cubicBezTo>
                <a:cubicBezTo>
                  <a:pt x="8359" y="12710"/>
                  <a:pt x="8260" y="12711"/>
                  <a:pt x="8161" y="12750"/>
                </a:cubicBezTo>
              </a:path>
              <a:path w="3151" h="3597">
                <a:moveTo>
                  <a:pt x="9302" y="12849"/>
                </a:moveTo>
                <a:cubicBezTo>
                  <a:pt x="9311" y="12999"/>
                  <a:pt x="9327" y="13144"/>
                  <a:pt x="9327" y="132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16800" y="3537000"/>
            <a:ext cx="1305000" cy="507960"/>
          </a:xfrm>
          <a:custGeom>
            <a:avLst/>
            <a:gdLst/>
            <a:ahLst/>
            <a:rect l="l" t="t" r="r" b="b"/>
            <a:pathLst>
              <a:path w="3623" h="1415">
                <a:moveTo>
                  <a:pt x="18628" y="10120"/>
                </a:moveTo>
                <a:cubicBezTo>
                  <a:pt x="18637" y="10084"/>
                  <a:pt x="18645" y="10050"/>
                  <a:pt x="18678" y="10046"/>
                </a:cubicBezTo>
                <a:cubicBezTo>
                  <a:pt x="18721" y="10041"/>
                  <a:pt x="18746" y="10043"/>
                  <a:pt x="18777" y="10071"/>
                </a:cubicBezTo>
                <a:cubicBezTo>
                  <a:pt x="18818" y="10107"/>
                  <a:pt x="18770" y="10190"/>
                  <a:pt x="18728" y="10220"/>
                </a:cubicBezTo>
                <a:cubicBezTo>
                  <a:pt x="18668" y="10262"/>
                  <a:pt x="18639" y="10301"/>
                  <a:pt x="18604" y="10368"/>
                </a:cubicBezTo>
                <a:cubicBezTo>
                  <a:pt x="18574" y="10425"/>
                  <a:pt x="18562" y="10438"/>
                  <a:pt x="18529" y="10492"/>
                </a:cubicBezTo>
                <a:cubicBezTo>
                  <a:pt x="18538" y="10425"/>
                  <a:pt x="18530" y="10393"/>
                  <a:pt x="18604" y="10393"/>
                </a:cubicBezTo>
                <a:cubicBezTo>
                  <a:pt x="18664" y="10393"/>
                  <a:pt x="18651" y="10403"/>
                  <a:pt x="18678" y="10443"/>
                </a:cubicBezTo>
                <a:cubicBezTo>
                  <a:pt x="18693" y="10466"/>
                  <a:pt x="18749" y="10483"/>
                  <a:pt x="18777" y="10468"/>
                </a:cubicBezTo>
                <a:cubicBezTo>
                  <a:pt x="18807" y="10438"/>
                  <a:pt x="18818" y="10424"/>
                  <a:pt x="18827" y="10393"/>
                </a:cubicBezTo>
              </a:path>
              <a:path w="3623" h="1415">
                <a:moveTo>
                  <a:pt x="18926" y="10170"/>
                </a:moveTo>
                <a:cubicBezTo>
                  <a:pt x="18965" y="10234"/>
                  <a:pt x="18953" y="10273"/>
                  <a:pt x="18926" y="10344"/>
                </a:cubicBezTo>
                <a:cubicBezTo>
                  <a:pt x="18997" y="10358"/>
                  <a:pt x="19012" y="10362"/>
                  <a:pt x="19075" y="10344"/>
                </a:cubicBezTo>
                <a:cubicBezTo>
                  <a:pt x="19110" y="10344"/>
                  <a:pt x="19123" y="10335"/>
                  <a:pt x="19124" y="10294"/>
                </a:cubicBezTo>
              </a:path>
              <a:path w="3623" h="1415">
                <a:moveTo>
                  <a:pt x="19124" y="10046"/>
                </a:moveTo>
                <a:cubicBezTo>
                  <a:pt x="19124" y="9988"/>
                  <a:pt x="19124" y="10112"/>
                  <a:pt x="19124" y="10170"/>
                </a:cubicBezTo>
                <a:cubicBezTo>
                  <a:pt x="19124" y="10239"/>
                  <a:pt x="19088" y="10423"/>
                  <a:pt x="19149" y="10443"/>
                </a:cubicBezTo>
              </a:path>
              <a:path w="3623" h="1415">
                <a:moveTo>
                  <a:pt x="19273" y="10269"/>
                </a:moveTo>
                <a:cubicBezTo>
                  <a:pt x="19331" y="10269"/>
                  <a:pt x="19389" y="10269"/>
                  <a:pt x="19447" y="10269"/>
                </a:cubicBezTo>
              </a:path>
              <a:path w="3623" h="1415">
                <a:moveTo>
                  <a:pt x="19645" y="10046"/>
                </a:moveTo>
                <a:cubicBezTo>
                  <a:pt x="19684" y="10059"/>
                  <a:pt x="19684" y="10144"/>
                  <a:pt x="19670" y="10195"/>
                </a:cubicBezTo>
                <a:cubicBezTo>
                  <a:pt x="19648" y="10217"/>
                  <a:pt x="19639" y="10222"/>
                  <a:pt x="19645" y="10244"/>
                </a:cubicBezTo>
                <a:cubicBezTo>
                  <a:pt x="19710" y="10244"/>
                  <a:pt x="19764" y="10234"/>
                  <a:pt x="19819" y="10220"/>
                </a:cubicBezTo>
                <a:cubicBezTo>
                  <a:pt x="19827" y="10220"/>
                  <a:pt x="19836" y="10220"/>
                  <a:pt x="19844" y="10220"/>
                </a:cubicBezTo>
              </a:path>
              <a:path w="3623" h="1415">
                <a:moveTo>
                  <a:pt x="19844" y="9971"/>
                </a:moveTo>
                <a:cubicBezTo>
                  <a:pt x="19844" y="10072"/>
                  <a:pt x="19866" y="10167"/>
                  <a:pt x="19869" y="10269"/>
                </a:cubicBezTo>
                <a:cubicBezTo>
                  <a:pt x="19869" y="10281"/>
                  <a:pt x="19893" y="10501"/>
                  <a:pt x="19893" y="10368"/>
                </a:cubicBezTo>
              </a:path>
              <a:path w="3623" h="1415">
                <a:moveTo>
                  <a:pt x="20042" y="9922"/>
                </a:moveTo>
                <a:cubicBezTo>
                  <a:pt x="19987" y="10072"/>
                  <a:pt x="19977" y="10210"/>
                  <a:pt x="20017" y="10368"/>
                </a:cubicBezTo>
                <a:cubicBezTo>
                  <a:pt x="20026" y="10404"/>
                  <a:pt x="20109" y="10454"/>
                  <a:pt x="20141" y="10418"/>
                </a:cubicBezTo>
                <a:cubicBezTo>
                  <a:pt x="20149" y="10401"/>
                  <a:pt x="20158" y="10385"/>
                  <a:pt x="20166" y="10368"/>
                </a:cubicBezTo>
              </a:path>
              <a:path w="3623" h="1415">
                <a:moveTo>
                  <a:pt x="20216" y="10096"/>
                </a:moveTo>
                <a:cubicBezTo>
                  <a:pt x="20229" y="10056"/>
                  <a:pt x="20264" y="10071"/>
                  <a:pt x="20315" y="10071"/>
                </a:cubicBezTo>
                <a:cubicBezTo>
                  <a:pt x="20323" y="10071"/>
                  <a:pt x="20332" y="10071"/>
                  <a:pt x="20340" y="10071"/>
                </a:cubicBezTo>
                <a:cubicBezTo>
                  <a:pt x="20321" y="10210"/>
                  <a:pt x="20294" y="10241"/>
                  <a:pt x="20191" y="10344"/>
                </a:cubicBezTo>
                <a:cubicBezTo>
                  <a:pt x="20283" y="10362"/>
                  <a:pt x="20344" y="10335"/>
                  <a:pt x="20439" y="10319"/>
                </a:cubicBezTo>
              </a:path>
              <a:path w="3623" h="1415">
                <a:moveTo>
                  <a:pt x="20365" y="9823"/>
                </a:moveTo>
                <a:cubicBezTo>
                  <a:pt x="20436" y="9840"/>
                  <a:pt x="20550" y="9963"/>
                  <a:pt x="20588" y="10021"/>
                </a:cubicBezTo>
                <a:cubicBezTo>
                  <a:pt x="20689" y="10173"/>
                  <a:pt x="20700" y="10356"/>
                  <a:pt x="20563" y="10492"/>
                </a:cubicBezTo>
                <a:cubicBezTo>
                  <a:pt x="20555" y="10492"/>
                  <a:pt x="20546" y="10492"/>
                  <a:pt x="20538" y="10492"/>
                </a:cubicBezTo>
              </a:path>
              <a:path w="3623" h="1415">
                <a:moveTo>
                  <a:pt x="20166" y="10666"/>
                </a:moveTo>
                <a:cubicBezTo>
                  <a:pt x="20076" y="10677"/>
                  <a:pt x="20024" y="10698"/>
                  <a:pt x="19943" y="10740"/>
                </a:cubicBezTo>
                <a:cubicBezTo>
                  <a:pt x="19878" y="10774"/>
                  <a:pt x="19714" y="10843"/>
                  <a:pt x="19819" y="10939"/>
                </a:cubicBezTo>
                <a:cubicBezTo>
                  <a:pt x="19906" y="11019"/>
                  <a:pt x="20038" y="11060"/>
                  <a:pt x="20067" y="11162"/>
                </a:cubicBezTo>
                <a:cubicBezTo>
                  <a:pt x="19992" y="11187"/>
                  <a:pt x="19899" y="11220"/>
                  <a:pt x="19943" y="11088"/>
                </a:cubicBezTo>
                <a:cubicBezTo>
                  <a:pt x="19972" y="11002"/>
                  <a:pt x="20061" y="10931"/>
                  <a:pt x="20067" y="10840"/>
                </a:cubicBezTo>
                <a:cubicBezTo>
                  <a:pt x="20067" y="10823"/>
                  <a:pt x="20067" y="10807"/>
                  <a:pt x="20067" y="10790"/>
                </a:cubicBezTo>
              </a:path>
              <a:path w="3623" h="1415">
                <a:moveTo>
                  <a:pt x="18504" y="10815"/>
                </a:moveTo>
                <a:cubicBezTo>
                  <a:pt x="18628" y="10815"/>
                  <a:pt x="18758" y="10841"/>
                  <a:pt x="18703" y="11013"/>
                </a:cubicBezTo>
                <a:cubicBezTo>
                  <a:pt x="18656" y="11161"/>
                  <a:pt x="18511" y="11238"/>
                  <a:pt x="18380" y="11212"/>
                </a:cubicBezTo>
                <a:cubicBezTo>
                  <a:pt x="18429" y="11126"/>
                  <a:pt x="18538" y="11104"/>
                  <a:pt x="18653" y="11162"/>
                </a:cubicBezTo>
                <a:cubicBezTo>
                  <a:pt x="18676" y="11185"/>
                  <a:pt x="18684" y="11196"/>
                  <a:pt x="18678" y="11162"/>
                </a:cubicBezTo>
              </a:path>
              <a:path w="3623" h="1415">
                <a:moveTo>
                  <a:pt x="18777" y="10864"/>
                </a:moveTo>
                <a:cubicBezTo>
                  <a:pt x="18777" y="10908"/>
                  <a:pt x="18760" y="10983"/>
                  <a:pt x="18802" y="11013"/>
                </a:cubicBezTo>
                <a:cubicBezTo>
                  <a:pt x="18904" y="11086"/>
                  <a:pt x="18948" y="10978"/>
                  <a:pt x="19000" y="10914"/>
                </a:cubicBezTo>
              </a:path>
              <a:path w="3623" h="1415">
                <a:moveTo>
                  <a:pt x="18976" y="10740"/>
                </a:moveTo>
                <a:cubicBezTo>
                  <a:pt x="18976" y="10844"/>
                  <a:pt x="18979" y="10964"/>
                  <a:pt x="19000" y="11063"/>
                </a:cubicBezTo>
                <a:cubicBezTo>
                  <a:pt x="19015" y="11131"/>
                  <a:pt x="19012" y="11150"/>
                  <a:pt x="19050" y="11137"/>
                </a:cubicBezTo>
              </a:path>
              <a:path w="3623" h="1415">
                <a:moveTo>
                  <a:pt x="19298" y="10889"/>
                </a:moveTo>
                <a:cubicBezTo>
                  <a:pt x="19323" y="10889"/>
                  <a:pt x="19347" y="10889"/>
                  <a:pt x="19372" y="10889"/>
                </a:cubicBezTo>
              </a:path>
              <a:path w="3623" h="1415">
                <a:moveTo>
                  <a:pt x="20365" y="10914"/>
                </a:moveTo>
                <a:cubicBezTo>
                  <a:pt x="20414" y="10914"/>
                  <a:pt x="20464" y="10914"/>
                  <a:pt x="20513" y="10914"/>
                </a:cubicBezTo>
              </a:path>
              <a:path w="3623" h="1415">
                <a:moveTo>
                  <a:pt x="20389" y="11038"/>
                </a:moveTo>
                <a:cubicBezTo>
                  <a:pt x="20549" y="11038"/>
                  <a:pt x="20591" y="11033"/>
                  <a:pt x="20737" y="10964"/>
                </a:cubicBezTo>
              </a:path>
              <a:path w="3623" h="1415">
                <a:moveTo>
                  <a:pt x="21034" y="10567"/>
                </a:moveTo>
                <a:cubicBezTo>
                  <a:pt x="21056" y="10697"/>
                  <a:pt x="21092" y="10831"/>
                  <a:pt x="21109" y="10964"/>
                </a:cubicBezTo>
                <a:cubicBezTo>
                  <a:pt x="21109" y="10980"/>
                  <a:pt x="21109" y="10997"/>
                  <a:pt x="21109" y="11013"/>
                </a:cubicBezTo>
              </a:path>
              <a:path w="3623" h="1415">
                <a:moveTo>
                  <a:pt x="21208" y="10542"/>
                </a:moveTo>
                <a:cubicBezTo>
                  <a:pt x="21229" y="10665"/>
                  <a:pt x="21232" y="10789"/>
                  <a:pt x="21258" y="10914"/>
                </a:cubicBezTo>
                <a:cubicBezTo>
                  <a:pt x="21295" y="11091"/>
                  <a:pt x="21479" y="11043"/>
                  <a:pt x="21580" y="10939"/>
                </a:cubicBezTo>
                <a:cubicBezTo>
                  <a:pt x="21621" y="10858"/>
                  <a:pt x="21638" y="10845"/>
                  <a:pt x="21630" y="10790"/>
                </a:cubicBezTo>
                <a:cubicBezTo>
                  <a:pt x="21469" y="10808"/>
                  <a:pt x="21435" y="10905"/>
                  <a:pt x="21357" y="11038"/>
                </a:cubicBezTo>
              </a:path>
              <a:path w="3623" h="1415">
                <a:moveTo>
                  <a:pt x="21059" y="11088"/>
                </a:moveTo>
                <a:cubicBezTo>
                  <a:pt x="21235" y="11156"/>
                  <a:pt x="21391" y="11190"/>
                  <a:pt x="21580" y="11137"/>
                </a:cubicBezTo>
                <a:cubicBezTo>
                  <a:pt x="21766" y="11085"/>
                  <a:pt x="21960" y="10910"/>
                  <a:pt x="22002" y="10716"/>
                </a:cubicBezTo>
                <a:cubicBezTo>
                  <a:pt x="22056" y="10469"/>
                  <a:pt x="21875" y="10360"/>
                  <a:pt x="21679" y="10294"/>
                </a:cubicBezTo>
                <a:cubicBezTo>
                  <a:pt x="21520" y="10241"/>
                  <a:pt x="21222" y="10184"/>
                  <a:pt x="21059" y="10269"/>
                </a:cubicBezTo>
                <a:cubicBezTo>
                  <a:pt x="20905" y="10349"/>
                  <a:pt x="20795" y="10533"/>
                  <a:pt x="20737" y="10691"/>
                </a:cubicBezTo>
                <a:cubicBezTo>
                  <a:pt x="20664" y="10890"/>
                  <a:pt x="20751" y="10981"/>
                  <a:pt x="20910" y="11088"/>
                </a:cubicBezTo>
                <a:cubicBezTo>
                  <a:pt x="21068" y="11195"/>
                  <a:pt x="21184" y="11200"/>
                  <a:pt x="21357" y="111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17840" y="4545000"/>
            <a:ext cx="1063440" cy="500040"/>
          </a:xfrm>
          <a:custGeom>
            <a:avLst/>
            <a:gdLst/>
            <a:ahLst/>
            <a:rect l="l" t="t" r="r" b="b"/>
            <a:pathLst>
              <a:path w="2953" h="1390">
                <a:moveTo>
                  <a:pt x="7317" y="13543"/>
                </a:moveTo>
                <a:cubicBezTo>
                  <a:pt x="7317" y="13488"/>
                  <a:pt x="7345" y="13401"/>
                  <a:pt x="7243" y="13419"/>
                </a:cubicBezTo>
                <a:cubicBezTo>
                  <a:pt x="7155" y="13434"/>
                  <a:pt x="7062" y="13515"/>
                  <a:pt x="6995" y="13568"/>
                </a:cubicBezTo>
                <a:cubicBezTo>
                  <a:pt x="7051" y="13737"/>
                  <a:pt x="7200" y="13694"/>
                  <a:pt x="7317" y="13816"/>
                </a:cubicBezTo>
                <a:cubicBezTo>
                  <a:pt x="7325" y="13841"/>
                  <a:pt x="7334" y="13866"/>
                  <a:pt x="7342" y="13891"/>
                </a:cubicBezTo>
                <a:cubicBezTo>
                  <a:pt x="7284" y="13997"/>
                  <a:pt x="7213" y="14077"/>
                  <a:pt x="7094" y="13965"/>
                </a:cubicBezTo>
                <a:cubicBezTo>
                  <a:pt x="6992" y="13869"/>
                  <a:pt x="7194" y="13737"/>
                  <a:pt x="7243" y="13692"/>
                </a:cubicBezTo>
                <a:cubicBezTo>
                  <a:pt x="7300" y="13640"/>
                  <a:pt x="7374" y="13593"/>
                  <a:pt x="7317" y="13543"/>
                </a:cubicBezTo>
                <a:cubicBezTo>
                  <a:pt x="7309" y="13535"/>
                  <a:pt x="7301" y="13527"/>
                  <a:pt x="7293" y="13519"/>
                </a:cubicBezTo>
              </a:path>
              <a:path w="2953" h="1390">
                <a:moveTo>
                  <a:pt x="7789" y="13519"/>
                </a:moveTo>
                <a:cubicBezTo>
                  <a:pt x="7742" y="13589"/>
                  <a:pt x="7710" y="13779"/>
                  <a:pt x="7689" y="13891"/>
                </a:cubicBezTo>
                <a:cubicBezTo>
                  <a:pt x="7689" y="13899"/>
                  <a:pt x="7689" y="13907"/>
                  <a:pt x="7689" y="13915"/>
                </a:cubicBezTo>
              </a:path>
              <a:path w="2953" h="1390">
                <a:moveTo>
                  <a:pt x="7516" y="13767"/>
                </a:moveTo>
                <a:cubicBezTo>
                  <a:pt x="7629" y="13725"/>
                  <a:pt x="7742" y="13699"/>
                  <a:pt x="7863" y="13692"/>
                </a:cubicBezTo>
                <a:cubicBezTo>
                  <a:pt x="7871" y="13692"/>
                  <a:pt x="7880" y="13692"/>
                  <a:pt x="7888" y="13692"/>
                </a:cubicBezTo>
              </a:path>
              <a:path w="2953" h="1390">
                <a:moveTo>
                  <a:pt x="7987" y="13419"/>
                </a:moveTo>
                <a:cubicBezTo>
                  <a:pt x="8063" y="13366"/>
                  <a:pt x="8123" y="13348"/>
                  <a:pt x="8210" y="13320"/>
                </a:cubicBezTo>
                <a:cubicBezTo>
                  <a:pt x="8198" y="13482"/>
                  <a:pt x="8161" y="13539"/>
                  <a:pt x="8037" y="13643"/>
                </a:cubicBezTo>
                <a:cubicBezTo>
                  <a:pt x="8121" y="13558"/>
                  <a:pt x="8249" y="13531"/>
                  <a:pt x="8285" y="13692"/>
                </a:cubicBezTo>
                <a:cubicBezTo>
                  <a:pt x="8317" y="13831"/>
                  <a:pt x="8134" y="13917"/>
                  <a:pt x="8012" y="13891"/>
                </a:cubicBezTo>
                <a:cubicBezTo>
                  <a:pt x="8012" y="13883"/>
                  <a:pt x="8012" y="13874"/>
                  <a:pt x="8012" y="13866"/>
                </a:cubicBezTo>
              </a:path>
              <a:path w="2953" h="1390">
                <a:moveTo>
                  <a:pt x="9475" y="12799"/>
                </a:moveTo>
                <a:cubicBezTo>
                  <a:pt x="9524" y="12982"/>
                  <a:pt x="9519" y="13163"/>
                  <a:pt x="9550" y="13345"/>
                </a:cubicBezTo>
                <a:cubicBezTo>
                  <a:pt x="9558" y="13362"/>
                  <a:pt x="9567" y="13378"/>
                  <a:pt x="9575" y="13395"/>
                </a:cubicBezTo>
              </a:path>
              <a:path w="2953" h="1390">
                <a:moveTo>
                  <a:pt x="8880" y="13419"/>
                </a:moveTo>
                <a:cubicBezTo>
                  <a:pt x="9002" y="13586"/>
                  <a:pt x="9152" y="13667"/>
                  <a:pt x="9376" y="13667"/>
                </a:cubicBezTo>
                <a:cubicBezTo>
                  <a:pt x="9628" y="13667"/>
                  <a:pt x="9910" y="13494"/>
                  <a:pt x="9947" y="13221"/>
                </a:cubicBezTo>
                <a:cubicBezTo>
                  <a:pt x="9985" y="12940"/>
                  <a:pt x="9746" y="12713"/>
                  <a:pt x="9500" y="12650"/>
                </a:cubicBezTo>
                <a:cubicBezTo>
                  <a:pt x="9262" y="12589"/>
                  <a:pt x="8891" y="12619"/>
                  <a:pt x="8830" y="12923"/>
                </a:cubicBezTo>
                <a:cubicBezTo>
                  <a:pt x="8747" y="13335"/>
                  <a:pt x="8940" y="13470"/>
                  <a:pt x="9203" y="136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43800" y="4419720"/>
            <a:ext cx="517320" cy="196560"/>
          </a:xfrm>
          <a:custGeom>
            <a:avLst/>
            <a:gdLst/>
            <a:ahLst/>
            <a:rect l="l" t="t" r="r" b="b"/>
            <a:pathLst>
              <a:path w="1439" h="547">
                <a:moveTo>
                  <a:pt x="18504" y="12452"/>
                </a:moveTo>
                <a:cubicBezTo>
                  <a:pt x="18556" y="12452"/>
                  <a:pt x="18591" y="12428"/>
                  <a:pt x="18628" y="12402"/>
                </a:cubicBezTo>
                <a:cubicBezTo>
                  <a:pt x="18636" y="12394"/>
                  <a:pt x="18645" y="12386"/>
                  <a:pt x="18653" y="12378"/>
                </a:cubicBezTo>
                <a:cubicBezTo>
                  <a:pt x="18707" y="12431"/>
                  <a:pt x="18667" y="12601"/>
                  <a:pt x="18604" y="12675"/>
                </a:cubicBezTo>
                <a:cubicBezTo>
                  <a:pt x="18519" y="12739"/>
                  <a:pt x="18499" y="12751"/>
                  <a:pt x="18455" y="12799"/>
                </a:cubicBezTo>
                <a:cubicBezTo>
                  <a:pt x="18541" y="12821"/>
                  <a:pt x="18629" y="12782"/>
                  <a:pt x="18728" y="12774"/>
                </a:cubicBezTo>
                <a:cubicBezTo>
                  <a:pt x="18736" y="12774"/>
                  <a:pt x="18744" y="12774"/>
                  <a:pt x="18752" y="12774"/>
                </a:cubicBezTo>
              </a:path>
              <a:path w="1439" h="547">
                <a:moveTo>
                  <a:pt x="18852" y="12402"/>
                </a:moveTo>
                <a:cubicBezTo>
                  <a:pt x="18846" y="12453"/>
                  <a:pt x="18835" y="12500"/>
                  <a:pt x="18827" y="12551"/>
                </a:cubicBezTo>
                <a:cubicBezTo>
                  <a:pt x="18958" y="12564"/>
                  <a:pt x="18994" y="12583"/>
                  <a:pt x="19100" y="12502"/>
                </a:cubicBezTo>
              </a:path>
              <a:path w="1439" h="547">
                <a:moveTo>
                  <a:pt x="19050" y="12303"/>
                </a:moveTo>
                <a:cubicBezTo>
                  <a:pt x="19050" y="12463"/>
                  <a:pt x="19058" y="12617"/>
                  <a:pt x="19075" y="12774"/>
                </a:cubicBezTo>
                <a:cubicBezTo>
                  <a:pt x="19075" y="12766"/>
                  <a:pt x="19075" y="12758"/>
                  <a:pt x="19075" y="12750"/>
                </a:cubicBezTo>
              </a:path>
              <a:path w="1439" h="547">
                <a:moveTo>
                  <a:pt x="19248" y="12601"/>
                </a:moveTo>
                <a:cubicBezTo>
                  <a:pt x="19314" y="12601"/>
                  <a:pt x="19381" y="12601"/>
                  <a:pt x="19447" y="12601"/>
                </a:cubicBezTo>
              </a:path>
              <a:path w="1439" h="547">
                <a:moveTo>
                  <a:pt x="19596" y="12353"/>
                </a:moveTo>
                <a:cubicBezTo>
                  <a:pt x="19596" y="12422"/>
                  <a:pt x="19613" y="12483"/>
                  <a:pt x="19621" y="12551"/>
                </a:cubicBezTo>
                <a:cubicBezTo>
                  <a:pt x="19735" y="12539"/>
                  <a:pt x="19819" y="12527"/>
                  <a:pt x="19893" y="12452"/>
                </a:cubicBezTo>
              </a:path>
              <a:path w="1439" h="547">
                <a:moveTo>
                  <a:pt x="19819" y="12278"/>
                </a:moveTo>
                <a:cubicBezTo>
                  <a:pt x="19802" y="12430"/>
                  <a:pt x="19794" y="12572"/>
                  <a:pt x="19794" y="12725"/>
                </a:cubicBezTo>
                <a:cubicBezTo>
                  <a:pt x="19794" y="12741"/>
                  <a:pt x="19794" y="12758"/>
                  <a:pt x="19794" y="12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920" y="4840200"/>
            <a:ext cx="642960" cy="642960"/>
          </a:xfrm>
          <a:custGeom>
            <a:avLst/>
            <a:gdLst/>
            <a:ahLst/>
            <a:rect l="l" t="t" r="r" b="b"/>
            <a:pathLst>
              <a:path w="1787" h="1787">
                <a:moveTo>
                  <a:pt x="8582" y="13444"/>
                </a:moveTo>
                <a:cubicBezTo>
                  <a:pt x="8640" y="13444"/>
                  <a:pt x="8698" y="13444"/>
                  <a:pt x="8756" y="13444"/>
                </a:cubicBezTo>
              </a:path>
              <a:path w="1787" h="1787">
                <a:moveTo>
                  <a:pt x="7243" y="14288"/>
                </a:moveTo>
                <a:cubicBezTo>
                  <a:pt x="7251" y="14288"/>
                  <a:pt x="7335" y="14288"/>
                  <a:pt x="7268" y="14288"/>
                </a:cubicBezTo>
                <a:cubicBezTo>
                  <a:pt x="7135" y="14288"/>
                  <a:pt x="7122" y="14253"/>
                  <a:pt x="7094" y="14362"/>
                </a:cubicBezTo>
                <a:cubicBezTo>
                  <a:pt x="7075" y="14419"/>
                  <a:pt x="7066" y="14426"/>
                  <a:pt x="7069" y="14461"/>
                </a:cubicBezTo>
                <a:cubicBezTo>
                  <a:pt x="7162" y="14446"/>
                  <a:pt x="7203" y="14431"/>
                  <a:pt x="7293" y="14461"/>
                </a:cubicBezTo>
                <a:cubicBezTo>
                  <a:pt x="7278" y="14595"/>
                  <a:pt x="7233" y="14616"/>
                  <a:pt x="7094" y="14635"/>
                </a:cubicBezTo>
                <a:cubicBezTo>
                  <a:pt x="7036" y="14635"/>
                  <a:pt x="7012" y="14651"/>
                  <a:pt x="7020" y="14610"/>
                </a:cubicBezTo>
              </a:path>
              <a:path w="1787" h="1787">
                <a:moveTo>
                  <a:pt x="7491" y="14238"/>
                </a:moveTo>
                <a:cubicBezTo>
                  <a:pt x="7399" y="14272"/>
                  <a:pt x="7317" y="14391"/>
                  <a:pt x="7317" y="14511"/>
                </a:cubicBezTo>
                <a:cubicBezTo>
                  <a:pt x="7317" y="14627"/>
                  <a:pt x="7516" y="14581"/>
                  <a:pt x="7565" y="14536"/>
                </a:cubicBezTo>
                <a:cubicBezTo>
                  <a:pt x="7609" y="14495"/>
                  <a:pt x="7607" y="14361"/>
                  <a:pt x="7541" y="14337"/>
                </a:cubicBezTo>
                <a:cubicBezTo>
                  <a:pt x="7524" y="14337"/>
                  <a:pt x="7508" y="14337"/>
                  <a:pt x="7491" y="14337"/>
                </a:cubicBezTo>
              </a:path>
              <a:path w="1787" h="1787">
                <a:moveTo>
                  <a:pt x="6970" y="14833"/>
                </a:moveTo>
                <a:cubicBezTo>
                  <a:pt x="7132" y="14798"/>
                  <a:pt x="7300" y="14790"/>
                  <a:pt x="7466" y="14759"/>
                </a:cubicBezTo>
                <a:cubicBezTo>
                  <a:pt x="7557" y="14741"/>
                  <a:pt x="7564" y="14732"/>
                  <a:pt x="7615" y="14734"/>
                </a:cubicBezTo>
              </a:path>
              <a:path w="1787" h="1787">
                <a:moveTo>
                  <a:pt x="7491" y="14932"/>
                </a:moveTo>
                <a:cubicBezTo>
                  <a:pt x="7436" y="14932"/>
                  <a:pt x="7410" y="14918"/>
                  <a:pt x="7392" y="14957"/>
                </a:cubicBezTo>
                <a:cubicBezTo>
                  <a:pt x="7372" y="15001"/>
                  <a:pt x="7351" y="15035"/>
                  <a:pt x="7342" y="15081"/>
                </a:cubicBezTo>
                <a:cubicBezTo>
                  <a:pt x="7379" y="15081"/>
                  <a:pt x="7500" y="15042"/>
                  <a:pt x="7516" y="15056"/>
                </a:cubicBezTo>
                <a:cubicBezTo>
                  <a:pt x="7626" y="15146"/>
                  <a:pt x="7475" y="15236"/>
                  <a:pt x="7392" y="15230"/>
                </a:cubicBezTo>
                <a:cubicBezTo>
                  <a:pt x="7334" y="15211"/>
                  <a:pt x="7328" y="15202"/>
                  <a:pt x="7293" y="15205"/>
                </a:cubicBezTo>
              </a:path>
              <a:path w="1787" h="1787">
                <a:moveTo>
                  <a:pt x="8012" y="14660"/>
                </a:moveTo>
                <a:cubicBezTo>
                  <a:pt x="8012" y="14743"/>
                  <a:pt x="8012" y="14825"/>
                  <a:pt x="8012" y="14908"/>
                </a:cubicBezTo>
              </a:path>
              <a:path w="1787" h="1787">
                <a:moveTo>
                  <a:pt x="7888" y="14808"/>
                </a:moveTo>
                <a:cubicBezTo>
                  <a:pt x="7971" y="14788"/>
                  <a:pt x="8056" y="14803"/>
                  <a:pt x="8136" y="14784"/>
                </a:cubicBezTo>
                <a:cubicBezTo>
                  <a:pt x="8161" y="14776"/>
                  <a:pt x="8185" y="14767"/>
                  <a:pt x="8210" y="147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88080" y="4660920"/>
            <a:ext cx="339840" cy="196920"/>
          </a:xfrm>
          <a:custGeom>
            <a:avLst/>
            <a:gdLst/>
            <a:ahLst/>
            <a:rect l="l" t="t" r="r" b="b"/>
            <a:pathLst>
              <a:path w="943" h="547">
                <a:moveTo>
                  <a:pt x="18703" y="13072"/>
                </a:moveTo>
                <a:cubicBezTo>
                  <a:pt x="18762" y="13072"/>
                  <a:pt x="18803" y="13079"/>
                  <a:pt x="18852" y="13097"/>
                </a:cubicBezTo>
                <a:cubicBezTo>
                  <a:pt x="18897" y="13266"/>
                  <a:pt x="18847" y="13449"/>
                  <a:pt x="18628" y="13494"/>
                </a:cubicBezTo>
                <a:cubicBezTo>
                  <a:pt x="18612" y="13486"/>
                  <a:pt x="18595" y="13477"/>
                  <a:pt x="18579" y="13469"/>
                </a:cubicBezTo>
                <a:cubicBezTo>
                  <a:pt x="18646" y="13301"/>
                  <a:pt x="18684" y="13257"/>
                  <a:pt x="18852" y="13370"/>
                </a:cubicBezTo>
                <a:cubicBezTo>
                  <a:pt x="18881" y="13400"/>
                  <a:pt x="18892" y="13402"/>
                  <a:pt x="18901" y="13345"/>
                </a:cubicBezTo>
              </a:path>
              <a:path w="943" h="547">
                <a:moveTo>
                  <a:pt x="18951" y="13022"/>
                </a:moveTo>
                <a:cubicBezTo>
                  <a:pt x="18961" y="13090"/>
                  <a:pt x="18971" y="13152"/>
                  <a:pt x="18976" y="13221"/>
                </a:cubicBezTo>
                <a:cubicBezTo>
                  <a:pt x="19091" y="13271"/>
                  <a:pt x="19076" y="13239"/>
                  <a:pt x="19174" y="13171"/>
                </a:cubicBezTo>
              </a:path>
              <a:path w="943" h="547">
                <a:moveTo>
                  <a:pt x="19149" y="12948"/>
                </a:moveTo>
                <a:cubicBezTo>
                  <a:pt x="19149" y="13049"/>
                  <a:pt x="19096" y="13350"/>
                  <a:pt x="19199" y="13419"/>
                </a:cubicBezTo>
                <a:cubicBezTo>
                  <a:pt x="19207" y="13411"/>
                  <a:pt x="19216" y="13403"/>
                  <a:pt x="19224" y="13395"/>
                </a:cubicBezTo>
              </a:path>
              <a:path w="943" h="547">
                <a:moveTo>
                  <a:pt x="19372" y="13146"/>
                </a:moveTo>
                <a:cubicBezTo>
                  <a:pt x="19422" y="13146"/>
                  <a:pt x="19471" y="13146"/>
                  <a:pt x="19521" y="131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88120" y="4419720"/>
            <a:ext cx="322200" cy="366480"/>
          </a:xfrm>
          <a:custGeom>
            <a:avLst/>
            <a:gdLst/>
            <a:ahLst/>
            <a:rect l="l" t="t" r="r" b="b"/>
            <a:pathLst>
              <a:path w="894" h="1018">
                <a:moveTo>
                  <a:pt x="20117" y="12278"/>
                </a:moveTo>
                <a:cubicBezTo>
                  <a:pt x="20091" y="12384"/>
                  <a:pt x="20030" y="12478"/>
                  <a:pt x="20017" y="12601"/>
                </a:cubicBezTo>
                <a:cubicBezTo>
                  <a:pt x="20001" y="12751"/>
                  <a:pt x="20004" y="12752"/>
                  <a:pt x="20117" y="12774"/>
                </a:cubicBezTo>
              </a:path>
              <a:path w="894" h="1018">
                <a:moveTo>
                  <a:pt x="20290" y="12402"/>
                </a:moveTo>
                <a:cubicBezTo>
                  <a:pt x="20290" y="12467"/>
                  <a:pt x="20286" y="12515"/>
                  <a:pt x="20265" y="12576"/>
                </a:cubicBezTo>
                <a:cubicBezTo>
                  <a:pt x="20392" y="12614"/>
                  <a:pt x="20456" y="12601"/>
                  <a:pt x="20563" y="12526"/>
                </a:cubicBezTo>
              </a:path>
              <a:path w="894" h="1018">
                <a:moveTo>
                  <a:pt x="20538" y="12378"/>
                </a:moveTo>
                <a:cubicBezTo>
                  <a:pt x="20538" y="12501"/>
                  <a:pt x="20542" y="12605"/>
                  <a:pt x="20563" y="12725"/>
                </a:cubicBezTo>
              </a:path>
              <a:path w="894" h="1018">
                <a:moveTo>
                  <a:pt x="20613" y="12303"/>
                </a:moveTo>
                <a:cubicBezTo>
                  <a:pt x="20734" y="12425"/>
                  <a:pt x="20945" y="12592"/>
                  <a:pt x="20861" y="12799"/>
                </a:cubicBezTo>
                <a:cubicBezTo>
                  <a:pt x="20828" y="12832"/>
                  <a:pt x="20795" y="12865"/>
                  <a:pt x="20762" y="12898"/>
                </a:cubicBezTo>
              </a:path>
              <a:path w="894" h="1018">
                <a:moveTo>
                  <a:pt x="19993" y="12923"/>
                </a:moveTo>
                <a:cubicBezTo>
                  <a:pt x="19978" y="13012"/>
                  <a:pt x="19925" y="13161"/>
                  <a:pt x="19968" y="13246"/>
                </a:cubicBezTo>
                <a:cubicBezTo>
                  <a:pt x="19976" y="13238"/>
                  <a:pt x="19985" y="13229"/>
                  <a:pt x="19993" y="13221"/>
                </a:cubicBezTo>
              </a:path>
              <a:path w="894" h="1018">
                <a:moveTo>
                  <a:pt x="20166" y="12874"/>
                </a:moveTo>
                <a:cubicBezTo>
                  <a:pt x="20166" y="12983"/>
                  <a:pt x="20141" y="13119"/>
                  <a:pt x="20191" y="13221"/>
                </a:cubicBezTo>
                <a:cubicBezTo>
                  <a:pt x="20266" y="13376"/>
                  <a:pt x="20415" y="13175"/>
                  <a:pt x="20464" y="13122"/>
                </a:cubicBezTo>
                <a:cubicBezTo>
                  <a:pt x="20464" y="13080"/>
                  <a:pt x="20472" y="13064"/>
                  <a:pt x="20439" y="13072"/>
                </a:cubicBezTo>
                <a:cubicBezTo>
                  <a:pt x="20317" y="13105"/>
                  <a:pt x="20292" y="13160"/>
                  <a:pt x="20265" y="1329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55960" y="4589640"/>
            <a:ext cx="4732200" cy="1107720"/>
          </a:xfrm>
          <a:custGeom>
            <a:avLst/>
            <a:gdLst/>
            <a:ahLst/>
            <a:rect l="l" t="t" r="r" b="b"/>
            <a:pathLst>
              <a:path w="13148" h="3076">
                <a:moveTo>
                  <a:pt x="8210" y="14759"/>
                </a:moveTo>
                <a:lnTo>
                  <a:pt x="8210" y="14759"/>
                </a:lnTo>
              </a:path>
              <a:path w="13148" h="3076">
                <a:moveTo>
                  <a:pt x="8880" y="15726"/>
                </a:moveTo>
                <a:cubicBezTo>
                  <a:pt x="9018" y="15726"/>
                  <a:pt x="9072" y="15720"/>
                  <a:pt x="9153" y="15652"/>
                </a:cubicBezTo>
              </a:path>
              <a:path w="13148" h="3076">
                <a:moveTo>
                  <a:pt x="9153" y="15652"/>
                </a:moveTo>
                <a:lnTo>
                  <a:pt x="9153" y="15652"/>
                </a:lnTo>
              </a:path>
              <a:path w="13148" h="3076">
                <a:moveTo>
                  <a:pt x="9575" y="15131"/>
                </a:moveTo>
                <a:cubicBezTo>
                  <a:pt x="9584" y="15277"/>
                  <a:pt x="9582" y="15437"/>
                  <a:pt x="9624" y="15577"/>
                </a:cubicBezTo>
                <a:cubicBezTo>
                  <a:pt x="9624" y="15569"/>
                  <a:pt x="9624" y="15561"/>
                  <a:pt x="9624" y="15553"/>
                </a:cubicBezTo>
              </a:path>
              <a:path w="13148" h="3076">
                <a:moveTo>
                  <a:pt x="19075" y="12750"/>
                </a:moveTo>
                <a:lnTo>
                  <a:pt x="19075" y="12750"/>
                </a:lnTo>
              </a:path>
              <a:path w="13148" h="3076">
                <a:moveTo>
                  <a:pt x="19794" y="12774"/>
                </a:moveTo>
                <a:lnTo>
                  <a:pt x="19794" y="12774"/>
                </a:lnTo>
              </a:path>
              <a:path w="13148" h="3076">
                <a:moveTo>
                  <a:pt x="19224" y="13395"/>
                </a:moveTo>
                <a:lnTo>
                  <a:pt x="19224" y="13395"/>
                </a:lnTo>
              </a:path>
              <a:path w="13148" h="3076">
                <a:moveTo>
                  <a:pt x="19124" y="15180"/>
                </a:moveTo>
                <a:lnTo>
                  <a:pt x="19124" y="15180"/>
                </a:lnTo>
              </a:path>
              <a:path w="13148" h="3076">
                <a:moveTo>
                  <a:pt x="20017" y="15056"/>
                </a:moveTo>
                <a:lnTo>
                  <a:pt x="20017" y="15056"/>
                </a:lnTo>
              </a:path>
              <a:path w="13148" h="3076">
                <a:moveTo>
                  <a:pt x="21158" y="14536"/>
                </a:moveTo>
                <a:cubicBezTo>
                  <a:pt x="21294" y="14725"/>
                  <a:pt x="21485" y="14952"/>
                  <a:pt x="21282" y="15180"/>
                </a:cubicBezTo>
                <a:cubicBezTo>
                  <a:pt x="21241" y="15205"/>
                  <a:pt x="21199" y="15230"/>
                  <a:pt x="21158" y="15255"/>
                </a:cubicBezTo>
              </a:path>
              <a:path w="13148" h="3076">
                <a:moveTo>
                  <a:pt x="21158" y="15255"/>
                </a:moveTo>
                <a:lnTo>
                  <a:pt x="21158" y="15255"/>
                </a:lnTo>
              </a:path>
              <a:path w="13148" h="3076">
                <a:moveTo>
                  <a:pt x="20712" y="15577"/>
                </a:moveTo>
                <a:lnTo>
                  <a:pt x="20712" y="15577"/>
                </a:lnTo>
              </a:path>
              <a:path w="13148" h="3076">
                <a:moveTo>
                  <a:pt x="19100" y="15825"/>
                </a:moveTo>
                <a:lnTo>
                  <a:pt x="19100" y="15825"/>
                </a:lnTo>
              </a:path>
              <a:path w="13148" h="3076">
                <a:moveTo>
                  <a:pt x="21059" y="15751"/>
                </a:moveTo>
                <a:cubicBezTo>
                  <a:pt x="21109" y="15751"/>
                  <a:pt x="21158" y="15751"/>
                  <a:pt x="21208" y="15751"/>
                </a:cubicBezTo>
              </a:path>
              <a:path w="13148" h="3076">
                <a:moveTo>
                  <a:pt x="21208" y="15751"/>
                </a:moveTo>
                <a:lnTo>
                  <a:pt x="21208" y="1575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81200" y="5187960"/>
            <a:ext cx="1293840" cy="563400"/>
          </a:xfrm>
          <a:custGeom>
            <a:avLst/>
            <a:gdLst/>
            <a:ahLst/>
            <a:rect l="l" t="t" r="r" b="b"/>
            <a:pathLst>
              <a:path w="3597" h="1563">
                <a:moveTo>
                  <a:pt x="8359" y="14536"/>
                </a:moveTo>
                <a:cubicBezTo>
                  <a:pt x="8372" y="14496"/>
                  <a:pt x="8477" y="14419"/>
                  <a:pt x="8533" y="14412"/>
                </a:cubicBezTo>
                <a:cubicBezTo>
                  <a:pt x="8549" y="14420"/>
                  <a:pt x="8566" y="14428"/>
                  <a:pt x="8582" y="14436"/>
                </a:cubicBezTo>
                <a:cubicBezTo>
                  <a:pt x="8572" y="14540"/>
                  <a:pt x="8545" y="14661"/>
                  <a:pt x="8434" y="14709"/>
                </a:cubicBezTo>
                <a:cubicBezTo>
                  <a:pt x="8434" y="14701"/>
                  <a:pt x="8434" y="14692"/>
                  <a:pt x="8434" y="14684"/>
                </a:cubicBezTo>
                <a:cubicBezTo>
                  <a:pt x="8519" y="14670"/>
                  <a:pt x="8655" y="14625"/>
                  <a:pt x="8682" y="14759"/>
                </a:cubicBezTo>
                <a:cubicBezTo>
                  <a:pt x="8705" y="14874"/>
                  <a:pt x="8573" y="14905"/>
                  <a:pt x="8508" y="14932"/>
                </a:cubicBezTo>
              </a:path>
              <a:path w="3597" h="1563">
                <a:moveTo>
                  <a:pt x="7169" y="15602"/>
                </a:moveTo>
                <a:cubicBezTo>
                  <a:pt x="7184" y="15712"/>
                  <a:pt x="7193" y="15813"/>
                  <a:pt x="7193" y="15925"/>
                </a:cubicBezTo>
                <a:cubicBezTo>
                  <a:pt x="7193" y="15933"/>
                  <a:pt x="7193" y="15941"/>
                  <a:pt x="7193" y="15949"/>
                </a:cubicBezTo>
              </a:path>
              <a:path w="3597" h="1563">
                <a:moveTo>
                  <a:pt x="7565" y="15602"/>
                </a:moveTo>
                <a:cubicBezTo>
                  <a:pt x="7514" y="15550"/>
                  <a:pt x="7440" y="15714"/>
                  <a:pt x="7417" y="15776"/>
                </a:cubicBezTo>
                <a:cubicBezTo>
                  <a:pt x="7369" y="15906"/>
                  <a:pt x="7462" y="16032"/>
                  <a:pt x="7615" y="15974"/>
                </a:cubicBezTo>
                <a:cubicBezTo>
                  <a:pt x="7736" y="15928"/>
                  <a:pt x="7797" y="15814"/>
                  <a:pt x="7739" y="15701"/>
                </a:cubicBezTo>
                <a:cubicBezTo>
                  <a:pt x="7717" y="15657"/>
                  <a:pt x="7658" y="15613"/>
                  <a:pt x="7615" y="15602"/>
                </a:cubicBezTo>
              </a:path>
              <a:path w="3597" h="1563">
                <a:moveTo>
                  <a:pt x="8012" y="15652"/>
                </a:moveTo>
                <a:cubicBezTo>
                  <a:pt x="8012" y="15713"/>
                  <a:pt x="7984" y="15857"/>
                  <a:pt x="8037" y="15875"/>
                </a:cubicBezTo>
              </a:path>
              <a:path w="3597" h="1563">
                <a:moveTo>
                  <a:pt x="7938" y="15776"/>
                </a:moveTo>
                <a:cubicBezTo>
                  <a:pt x="8018" y="15776"/>
                  <a:pt x="8085" y="15735"/>
                  <a:pt x="8161" y="15726"/>
                </a:cubicBezTo>
                <a:cubicBezTo>
                  <a:pt x="8257" y="15726"/>
                  <a:pt x="8287" y="15728"/>
                  <a:pt x="8334" y="15677"/>
                </a:cubicBezTo>
              </a:path>
              <a:path w="3597" h="1563">
                <a:moveTo>
                  <a:pt x="8384" y="15577"/>
                </a:moveTo>
                <a:cubicBezTo>
                  <a:pt x="8390" y="15574"/>
                  <a:pt x="8615" y="15459"/>
                  <a:pt x="8582" y="15577"/>
                </a:cubicBezTo>
                <a:cubicBezTo>
                  <a:pt x="8543" y="15637"/>
                  <a:pt x="8539" y="15649"/>
                  <a:pt x="8508" y="15677"/>
                </a:cubicBezTo>
                <a:cubicBezTo>
                  <a:pt x="8581" y="15689"/>
                  <a:pt x="8698" y="15718"/>
                  <a:pt x="8657" y="15825"/>
                </a:cubicBezTo>
                <a:cubicBezTo>
                  <a:pt x="8636" y="15880"/>
                  <a:pt x="8399" y="15999"/>
                  <a:pt x="8384" y="15900"/>
                </a:cubicBezTo>
                <a:cubicBezTo>
                  <a:pt x="8392" y="15883"/>
                  <a:pt x="8401" y="15867"/>
                  <a:pt x="8409" y="15850"/>
                </a:cubicBezTo>
              </a:path>
              <a:path w="3597" h="1563">
                <a:moveTo>
                  <a:pt x="8830" y="15602"/>
                </a:moveTo>
                <a:cubicBezTo>
                  <a:pt x="8871" y="15602"/>
                  <a:pt x="8913" y="15602"/>
                  <a:pt x="8954" y="15602"/>
                </a:cubicBezTo>
              </a:path>
              <a:path w="3597" h="1563">
                <a:moveTo>
                  <a:pt x="9773" y="15056"/>
                </a:moveTo>
                <a:cubicBezTo>
                  <a:pt x="9837" y="15014"/>
                  <a:pt x="10007" y="14951"/>
                  <a:pt x="10071" y="15032"/>
                </a:cubicBezTo>
                <a:cubicBezTo>
                  <a:pt x="10140" y="15120"/>
                  <a:pt x="9971" y="15213"/>
                  <a:pt x="9922" y="15230"/>
                </a:cubicBezTo>
                <a:cubicBezTo>
                  <a:pt x="10007" y="15230"/>
                  <a:pt x="10163" y="15193"/>
                  <a:pt x="10220" y="15280"/>
                </a:cubicBezTo>
                <a:cubicBezTo>
                  <a:pt x="10340" y="15462"/>
                  <a:pt x="9972" y="15553"/>
                  <a:pt x="9872" y="15528"/>
                </a:cubicBezTo>
                <a:cubicBezTo>
                  <a:pt x="9856" y="15511"/>
                  <a:pt x="9839" y="15495"/>
                  <a:pt x="9823" y="15478"/>
                </a:cubicBezTo>
              </a:path>
              <a:path w="3597" h="1563">
                <a:moveTo>
                  <a:pt x="9128" y="15627"/>
                </a:moveTo>
                <a:cubicBezTo>
                  <a:pt x="9395" y="15754"/>
                  <a:pt x="9595" y="15833"/>
                  <a:pt x="9897" y="15825"/>
                </a:cubicBezTo>
                <a:cubicBezTo>
                  <a:pt x="10162" y="15818"/>
                  <a:pt x="10686" y="15744"/>
                  <a:pt x="10765" y="15404"/>
                </a:cubicBezTo>
                <a:cubicBezTo>
                  <a:pt x="10845" y="15060"/>
                  <a:pt x="10399" y="14860"/>
                  <a:pt x="10145" y="14808"/>
                </a:cubicBezTo>
                <a:cubicBezTo>
                  <a:pt x="9827" y="14743"/>
                  <a:pt x="9490" y="14786"/>
                  <a:pt x="9277" y="15056"/>
                </a:cubicBezTo>
                <a:cubicBezTo>
                  <a:pt x="9072" y="15316"/>
                  <a:pt x="9086" y="15706"/>
                  <a:pt x="9451" y="15801"/>
                </a:cubicBezTo>
                <a:cubicBezTo>
                  <a:pt x="9674" y="15801"/>
                  <a:pt x="9749" y="15801"/>
                  <a:pt x="9897" y="1577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26160" y="4670280"/>
            <a:ext cx="1374840" cy="1473480"/>
          </a:xfrm>
          <a:custGeom>
            <a:avLst/>
            <a:gdLst/>
            <a:ahLst/>
            <a:rect l="l" t="t" r="r" b="b"/>
            <a:pathLst>
              <a:path w="3821" h="4094">
                <a:moveTo>
                  <a:pt x="20910" y="12973"/>
                </a:moveTo>
                <a:cubicBezTo>
                  <a:pt x="20966" y="12992"/>
                  <a:pt x="20998" y="12998"/>
                  <a:pt x="21059" y="12998"/>
                </a:cubicBezTo>
              </a:path>
              <a:path w="3821" h="4094">
                <a:moveTo>
                  <a:pt x="20960" y="13221"/>
                </a:moveTo>
                <a:cubicBezTo>
                  <a:pt x="21059" y="13196"/>
                  <a:pt x="21092" y="13188"/>
                  <a:pt x="21158" y="13171"/>
                </a:cubicBezTo>
              </a:path>
              <a:path w="3821" h="4094">
                <a:moveTo>
                  <a:pt x="21704" y="13146"/>
                </a:moveTo>
                <a:cubicBezTo>
                  <a:pt x="21565" y="13216"/>
                  <a:pt x="21500" y="13251"/>
                  <a:pt x="21456" y="13395"/>
                </a:cubicBezTo>
                <a:cubicBezTo>
                  <a:pt x="21600" y="13505"/>
                  <a:pt x="21714" y="13568"/>
                  <a:pt x="21754" y="13742"/>
                </a:cubicBezTo>
                <a:cubicBezTo>
                  <a:pt x="21515" y="13742"/>
                  <a:pt x="21505" y="13628"/>
                  <a:pt x="21654" y="13419"/>
                </a:cubicBezTo>
                <a:cubicBezTo>
                  <a:pt x="21727" y="13347"/>
                  <a:pt x="21760" y="13353"/>
                  <a:pt x="21754" y="13295"/>
                </a:cubicBezTo>
              </a:path>
              <a:path w="3821" h="4094">
                <a:moveTo>
                  <a:pt x="21183" y="13915"/>
                </a:moveTo>
                <a:cubicBezTo>
                  <a:pt x="21419" y="14052"/>
                  <a:pt x="21605" y="14072"/>
                  <a:pt x="21878" y="13990"/>
                </a:cubicBezTo>
                <a:cubicBezTo>
                  <a:pt x="22146" y="13909"/>
                  <a:pt x="22283" y="13668"/>
                  <a:pt x="22200" y="13395"/>
                </a:cubicBezTo>
                <a:cubicBezTo>
                  <a:pt x="22094" y="13046"/>
                  <a:pt x="21820" y="13059"/>
                  <a:pt x="21530" y="13097"/>
                </a:cubicBezTo>
                <a:cubicBezTo>
                  <a:pt x="21242" y="13135"/>
                  <a:pt x="21113" y="13233"/>
                  <a:pt x="21109" y="13543"/>
                </a:cubicBezTo>
                <a:cubicBezTo>
                  <a:pt x="21104" y="13961"/>
                  <a:pt x="21270" y="14032"/>
                  <a:pt x="21630" y="14114"/>
                </a:cubicBezTo>
              </a:path>
              <a:path w="3821" h="4094">
                <a:moveTo>
                  <a:pt x="18554" y="14759"/>
                </a:moveTo>
                <a:cubicBezTo>
                  <a:pt x="18632" y="14743"/>
                  <a:pt x="18733" y="14684"/>
                  <a:pt x="18777" y="14808"/>
                </a:cubicBezTo>
                <a:cubicBezTo>
                  <a:pt x="18839" y="14983"/>
                  <a:pt x="18625" y="15193"/>
                  <a:pt x="18455" y="15156"/>
                </a:cubicBezTo>
                <a:cubicBezTo>
                  <a:pt x="18410" y="15111"/>
                  <a:pt x="18393" y="15101"/>
                  <a:pt x="18405" y="15056"/>
                </a:cubicBezTo>
                <a:cubicBezTo>
                  <a:pt x="18505" y="15066"/>
                  <a:pt x="18590" y="15102"/>
                  <a:pt x="18678" y="15131"/>
                </a:cubicBezTo>
                <a:cubicBezTo>
                  <a:pt x="18686" y="15131"/>
                  <a:pt x="18695" y="15131"/>
                  <a:pt x="18703" y="15131"/>
                </a:cubicBezTo>
              </a:path>
              <a:path w="3821" h="4094">
                <a:moveTo>
                  <a:pt x="18852" y="14734"/>
                </a:moveTo>
                <a:cubicBezTo>
                  <a:pt x="18869" y="14793"/>
                  <a:pt x="18851" y="14911"/>
                  <a:pt x="18901" y="14957"/>
                </a:cubicBezTo>
                <a:cubicBezTo>
                  <a:pt x="18989" y="15037"/>
                  <a:pt x="19064" y="14929"/>
                  <a:pt x="19124" y="14883"/>
                </a:cubicBezTo>
              </a:path>
              <a:path w="3821" h="4094">
                <a:moveTo>
                  <a:pt x="19100" y="14709"/>
                </a:moveTo>
                <a:cubicBezTo>
                  <a:pt x="19100" y="14781"/>
                  <a:pt x="19060" y="15159"/>
                  <a:pt x="19124" y="15180"/>
                </a:cubicBezTo>
              </a:path>
              <a:path w="3821" h="4094">
                <a:moveTo>
                  <a:pt x="19323" y="14957"/>
                </a:moveTo>
                <a:cubicBezTo>
                  <a:pt x="19425" y="14933"/>
                  <a:pt x="19493" y="14948"/>
                  <a:pt x="19571" y="14883"/>
                </a:cubicBezTo>
              </a:path>
              <a:path w="3821" h="4094">
                <a:moveTo>
                  <a:pt x="19695" y="14660"/>
                </a:moveTo>
                <a:cubicBezTo>
                  <a:pt x="19748" y="14702"/>
                  <a:pt x="19763" y="14808"/>
                  <a:pt x="19819" y="14858"/>
                </a:cubicBezTo>
                <a:cubicBezTo>
                  <a:pt x="19874" y="14907"/>
                  <a:pt x="19999" y="14824"/>
                  <a:pt x="20042" y="14808"/>
                </a:cubicBezTo>
              </a:path>
              <a:path w="3821" h="4094">
                <a:moveTo>
                  <a:pt x="19993" y="14560"/>
                </a:moveTo>
                <a:cubicBezTo>
                  <a:pt x="19993" y="14710"/>
                  <a:pt x="20013" y="14857"/>
                  <a:pt x="20017" y="15007"/>
                </a:cubicBezTo>
                <a:cubicBezTo>
                  <a:pt x="20017" y="15023"/>
                  <a:pt x="20017" y="15040"/>
                  <a:pt x="20017" y="15056"/>
                </a:cubicBezTo>
              </a:path>
              <a:path w="3821" h="4094">
                <a:moveTo>
                  <a:pt x="20439" y="14486"/>
                </a:moveTo>
                <a:cubicBezTo>
                  <a:pt x="20403" y="14631"/>
                  <a:pt x="20352" y="14768"/>
                  <a:pt x="20340" y="14932"/>
                </a:cubicBezTo>
                <a:cubicBezTo>
                  <a:pt x="20329" y="15088"/>
                  <a:pt x="20324" y="15148"/>
                  <a:pt x="20439" y="15205"/>
                </a:cubicBezTo>
              </a:path>
              <a:path w="3821" h="4094">
                <a:moveTo>
                  <a:pt x="20737" y="14660"/>
                </a:moveTo>
                <a:cubicBezTo>
                  <a:pt x="20723" y="14807"/>
                  <a:pt x="20668" y="14957"/>
                  <a:pt x="20687" y="15106"/>
                </a:cubicBezTo>
                <a:cubicBezTo>
                  <a:pt x="20695" y="15123"/>
                  <a:pt x="20704" y="15139"/>
                  <a:pt x="20712" y="15156"/>
                </a:cubicBezTo>
                <a:cubicBezTo>
                  <a:pt x="20801" y="15145"/>
                  <a:pt x="21044" y="15135"/>
                  <a:pt x="21010" y="14982"/>
                </a:cubicBezTo>
                <a:cubicBezTo>
                  <a:pt x="21002" y="14982"/>
                  <a:pt x="20993" y="14982"/>
                  <a:pt x="20985" y="14982"/>
                </a:cubicBezTo>
                <a:cubicBezTo>
                  <a:pt x="20880" y="15048"/>
                  <a:pt x="20780" y="15131"/>
                  <a:pt x="20910" y="15180"/>
                </a:cubicBezTo>
              </a:path>
              <a:path w="3821" h="4094">
                <a:moveTo>
                  <a:pt x="20737" y="15354"/>
                </a:moveTo>
                <a:cubicBezTo>
                  <a:pt x="20722" y="15522"/>
                  <a:pt x="20753" y="15689"/>
                  <a:pt x="20712" y="15850"/>
                </a:cubicBezTo>
              </a:path>
              <a:path w="3821" h="4094">
                <a:moveTo>
                  <a:pt x="19323" y="15627"/>
                </a:moveTo>
                <a:cubicBezTo>
                  <a:pt x="19398" y="15627"/>
                  <a:pt x="19459" y="15633"/>
                  <a:pt x="19521" y="15602"/>
                </a:cubicBezTo>
              </a:path>
              <a:path w="3821" h="4094">
                <a:moveTo>
                  <a:pt x="20836" y="15553"/>
                </a:moveTo>
                <a:cubicBezTo>
                  <a:pt x="20939" y="15553"/>
                  <a:pt x="21033" y="15536"/>
                  <a:pt x="21134" y="15528"/>
                </a:cubicBezTo>
              </a:path>
              <a:path w="3821" h="4094">
                <a:moveTo>
                  <a:pt x="21605" y="15949"/>
                </a:moveTo>
                <a:cubicBezTo>
                  <a:pt x="21460" y="16030"/>
                  <a:pt x="21378" y="16088"/>
                  <a:pt x="21307" y="16247"/>
                </a:cubicBezTo>
                <a:cubicBezTo>
                  <a:pt x="21260" y="16389"/>
                  <a:pt x="21241" y="16431"/>
                  <a:pt x="21307" y="16520"/>
                </a:cubicBezTo>
                <a:cubicBezTo>
                  <a:pt x="21511" y="16577"/>
                  <a:pt x="21713" y="16543"/>
                  <a:pt x="21754" y="16272"/>
                </a:cubicBezTo>
                <a:cubicBezTo>
                  <a:pt x="21799" y="15974"/>
                  <a:pt x="21597" y="16045"/>
                  <a:pt x="21431" y="16024"/>
                </a:cubicBezTo>
                <a:cubicBezTo>
                  <a:pt x="21423" y="16016"/>
                  <a:pt x="21414" y="16007"/>
                  <a:pt x="21406" y="15999"/>
                </a:cubicBezTo>
              </a:path>
              <a:path w="3821" h="4094">
                <a:moveTo>
                  <a:pt x="21010" y="16793"/>
                </a:moveTo>
                <a:cubicBezTo>
                  <a:pt x="21214" y="16985"/>
                  <a:pt x="21371" y="17019"/>
                  <a:pt x="21654" y="16942"/>
                </a:cubicBezTo>
                <a:cubicBezTo>
                  <a:pt x="21952" y="16861"/>
                  <a:pt x="22302" y="16595"/>
                  <a:pt x="22200" y="16247"/>
                </a:cubicBezTo>
                <a:cubicBezTo>
                  <a:pt x="22091" y="15876"/>
                  <a:pt x="21622" y="15894"/>
                  <a:pt x="21307" y="15925"/>
                </a:cubicBezTo>
                <a:cubicBezTo>
                  <a:pt x="21004" y="15954"/>
                  <a:pt x="20710" y="16114"/>
                  <a:pt x="20662" y="16446"/>
                </a:cubicBezTo>
                <a:cubicBezTo>
                  <a:pt x="20578" y="17031"/>
                  <a:pt x="21108" y="17027"/>
                  <a:pt x="21506" y="170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54200" y="4313160"/>
            <a:ext cx="893880" cy="615960"/>
          </a:xfrm>
          <a:custGeom>
            <a:avLst/>
            <a:gdLst/>
            <a:ahLst/>
            <a:rect l="l" t="t" r="r" b="b"/>
            <a:pathLst>
              <a:path w="2482" h="1712">
                <a:moveTo>
                  <a:pt x="7144" y="11981"/>
                </a:moveTo>
                <a:cubicBezTo>
                  <a:pt x="7127" y="12108"/>
                  <a:pt x="7116" y="12229"/>
                  <a:pt x="7094" y="12353"/>
                </a:cubicBezTo>
              </a:path>
              <a:path w="2482" h="1712">
                <a:moveTo>
                  <a:pt x="7094" y="12353"/>
                </a:moveTo>
                <a:lnTo>
                  <a:pt x="7094" y="12353"/>
                </a:lnTo>
              </a:path>
              <a:path w="2482" h="1712">
                <a:moveTo>
                  <a:pt x="7938" y="12502"/>
                </a:moveTo>
                <a:lnTo>
                  <a:pt x="7938" y="12502"/>
                </a:lnTo>
              </a:path>
              <a:path w="2482" h="1712">
                <a:moveTo>
                  <a:pt x="7888" y="13692"/>
                </a:moveTo>
                <a:lnTo>
                  <a:pt x="7888" y="13692"/>
                </a:lnTo>
              </a:path>
              <a:path w="2482" h="1712">
                <a:moveTo>
                  <a:pt x="8558" y="13618"/>
                </a:moveTo>
                <a:cubicBezTo>
                  <a:pt x="8643" y="13609"/>
                  <a:pt x="8722" y="13589"/>
                  <a:pt x="8806" y="13568"/>
                </a:cubicBezTo>
              </a:path>
              <a:path w="2482" h="1712">
                <a:moveTo>
                  <a:pt x="8806" y="13568"/>
                </a:moveTo>
                <a:lnTo>
                  <a:pt x="8806" y="13568"/>
                </a:lnTo>
              </a:path>
              <a:path w="2482" h="1712">
                <a:moveTo>
                  <a:pt x="9575" y="13395"/>
                </a:moveTo>
                <a:lnTo>
                  <a:pt x="9575" y="1339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95240" y="57862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208" y="16073"/>
                </a:moveTo>
                <a:lnTo>
                  <a:pt x="2208" y="1607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76960" y="2276640"/>
            <a:ext cx="268200" cy="28440"/>
          </a:xfrm>
          <a:custGeom>
            <a:avLst/>
            <a:gdLst/>
            <a:ahLst/>
            <a:rect l="l" t="t" r="r" b="b"/>
            <a:pathLst>
              <a:path w="745" h="76">
                <a:moveTo>
                  <a:pt x="17438" y="6400"/>
                </a:moveTo>
                <a:cubicBezTo>
                  <a:pt x="17557" y="6400"/>
                  <a:pt x="17668" y="6385"/>
                  <a:pt x="17785" y="6375"/>
                </a:cubicBezTo>
                <a:cubicBezTo>
                  <a:pt x="17894" y="6366"/>
                  <a:pt x="18029" y="6392"/>
                  <a:pt x="18132" y="6350"/>
                </a:cubicBezTo>
                <a:cubicBezTo>
                  <a:pt x="18155" y="6327"/>
                  <a:pt x="18159" y="6319"/>
                  <a:pt x="18182" y="63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53160" y="5527800"/>
            <a:ext cx="231840" cy="187200"/>
          </a:xfrm>
          <a:custGeom>
            <a:avLst/>
            <a:gdLst/>
            <a:ahLst/>
            <a:rect l="l" t="t" r="r" b="b"/>
            <a:pathLst>
              <a:path w="646" h="522">
                <a:moveTo>
                  <a:pt x="18653" y="15478"/>
                </a:moveTo>
                <a:cubicBezTo>
                  <a:pt x="18838" y="15552"/>
                  <a:pt x="18915" y="15633"/>
                  <a:pt x="18752" y="15801"/>
                </a:cubicBezTo>
                <a:cubicBezTo>
                  <a:pt x="18647" y="15909"/>
                  <a:pt x="18599" y="15869"/>
                  <a:pt x="18479" y="15825"/>
                </a:cubicBezTo>
                <a:cubicBezTo>
                  <a:pt x="18539" y="15706"/>
                  <a:pt x="18669" y="15688"/>
                  <a:pt x="18802" y="15801"/>
                </a:cubicBezTo>
                <a:cubicBezTo>
                  <a:pt x="18802" y="15829"/>
                  <a:pt x="18805" y="15834"/>
                  <a:pt x="18827" y="15801"/>
                </a:cubicBezTo>
              </a:path>
              <a:path w="646" h="522">
                <a:moveTo>
                  <a:pt x="18901" y="15478"/>
                </a:moveTo>
                <a:cubicBezTo>
                  <a:pt x="18928" y="15560"/>
                  <a:pt x="18939" y="15593"/>
                  <a:pt x="18951" y="15652"/>
                </a:cubicBezTo>
                <a:cubicBezTo>
                  <a:pt x="19066" y="15633"/>
                  <a:pt x="19038" y="15621"/>
                  <a:pt x="19124" y="15528"/>
                </a:cubicBezTo>
              </a:path>
              <a:path w="646" h="522">
                <a:moveTo>
                  <a:pt x="19100" y="15354"/>
                </a:moveTo>
                <a:cubicBezTo>
                  <a:pt x="19090" y="15517"/>
                  <a:pt x="19060" y="15669"/>
                  <a:pt x="19100" y="158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24840" y="5554800"/>
            <a:ext cx="231480" cy="142560"/>
          </a:xfrm>
          <a:custGeom>
            <a:avLst/>
            <a:gdLst/>
            <a:ahLst/>
            <a:rect l="l" t="t" r="r" b="b"/>
            <a:pathLst>
              <a:path w="646" h="397">
                <a:moveTo>
                  <a:pt x="20216" y="15528"/>
                </a:moveTo>
                <a:cubicBezTo>
                  <a:pt x="20259" y="15439"/>
                  <a:pt x="20378" y="15483"/>
                  <a:pt x="20365" y="15602"/>
                </a:cubicBezTo>
                <a:cubicBezTo>
                  <a:pt x="20348" y="15758"/>
                  <a:pt x="20188" y="15835"/>
                  <a:pt x="20067" y="15801"/>
                </a:cubicBezTo>
                <a:cubicBezTo>
                  <a:pt x="20176" y="15648"/>
                  <a:pt x="20238" y="15615"/>
                  <a:pt x="20414" y="15726"/>
                </a:cubicBezTo>
                <a:cubicBezTo>
                  <a:pt x="20437" y="15749"/>
                  <a:pt x="20441" y="15757"/>
                  <a:pt x="20464" y="15751"/>
                </a:cubicBezTo>
              </a:path>
              <a:path w="646" h="397">
                <a:moveTo>
                  <a:pt x="20538" y="15429"/>
                </a:moveTo>
                <a:cubicBezTo>
                  <a:pt x="20538" y="15505"/>
                  <a:pt x="20503" y="15671"/>
                  <a:pt x="20638" y="15627"/>
                </a:cubicBezTo>
                <a:cubicBezTo>
                  <a:pt x="20663" y="15610"/>
                  <a:pt x="20687" y="15594"/>
                  <a:pt x="20712" y="155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September 19, 2011</a:t>
            </a:r>
            <a:br>
              <a:rPr sz="4400"/>
            </a:b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Writing Algebraic Expression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240" y="2743200"/>
            <a:ext cx="6629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Objective:  </a:t>
            </a:r>
            <a:r>
              <a:rPr b="0" lang="en-US" sz="3200" spc="-1" strike="noStrike">
                <a:solidFill>
                  <a:srgbClr val="4d4d4d"/>
                </a:solidFill>
                <a:latin typeface="Abadi MT Condensed Extra Bold"/>
              </a:rPr>
              <a:t>Students will Write an algebraic expression to represent unknown quantities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640" y="3197160"/>
            <a:ext cx="142560" cy="54000"/>
          </a:xfrm>
          <a:custGeom>
            <a:avLst/>
            <a:gdLst/>
            <a:ahLst/>
            <a:rect l="l" t="t" r="r" b="b"/>
            <a:pathLst>
              <a:path w="397" h="150">
                <a:moveTo>
                  <a:pt x="50" y="8880"/>
                </a:moveTo>
                <a:cubicBezTo>
                  <a:pt x="162" y="8904"/>
                  <a:pt x="230" y="8932"/>
                  <a:pt x="298" y="8979"/>
                </a:cubicBezTo>
                <a:cubicBezTo>
                  <a:pt x="324" y="8997"/>
                  <a:pt x="366" y="8982"/>
                  <a:pt x="397" y="9004"/>
                </a:cubicBezTo>
                <a:cubicBezTo>
                  <a:pt x="397" y="9037"/>
                  <a:pt x="405" y="9045"/>
                  <a:pt x="446" y="90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20840" y="1955880"/>
            <a:ext cx="6751440" cy="160200"/>
          </a:xfrm>
          <a:custGeom>
            <a:avLst/>
            <a:gdLst/>
            <a:ahLst/>
            <a:rect l="l" t="t" r="r" b="b"/>
            <a:pathLst>
              <a:path w="18753" h="448">
                <a:moveTo>
                  <a:pt x="3671" y="5655"/>
                </a:moveTo>
                <a:cubicBezTo>
                  <a:pt x="3715" y="5680"/>
                  <a:pt x="3707" y="5843"/>
                  <a:pt x="3820" y="5854"/>
                </a:cubicBezTo>
                <a:cubicBezTo>
                  <a:pt x="4144" y="5885"/>
                  <a:pt x="4182" y="5639"/>
                  <a:pt x="4440" y="5556"/>
                </a:cubicBezTo>
                <a:cubicBezTo>
                  <a:pt x="4566" y="5515"/>
                  <a:pt x="4551" y="5562"/>
                  <a:pt x="4713" y="5556"/>
                </a:cubicBezTo>
                <a:cubicBezTo>
                  <a:pt x="4984" y="5546"/>
                  <a:pt x="5334" y="5427"/>
                  <a:pt x="5581" y="5457"/>
                </a:cubicBezTo>
                <a:cubicBezTo>
                  <a:pt x="5821" y="5486"/>
                  <a:pt x="5913" y="5591"/>
                  <a:pt x="6201" y="5556"/>
                </a:cubicBezTo>
                <a:cubicBezTo>
                  <a:pt x="6456" y="5525"/>
                  <a:pt x="6584" y="5452"/>
                  <a:pt x="6821" y="5507"/>
                </a:cubicBezTo>
                <a:cubicBezTo>
                  <a:pt x="6930" y="5532"/>
                  <a:pt x="7028" y="5698"/>
                  <a:pt x="7144" y="5705"/>
                </a:cubicBezTo>
                <a:cubicBezTo>
                  <a:pt x="7312" y="5715"/>
                  <a:pt x="7482" y="5573"/>
                  <a:pt x="7640" y="5581"/>
                </a:cubicBezTo>
                <a:cubicBezTo>
                  <a:pt x="7778" y="5588"/>
                  <a:pt x="7897" y="5681"/>
                  <a:pt x="8037" y="5680"/>
                </a:cubicBezTo>
                <a:cubicBezTo>
                  <a:pt x="8290" y="5678"/>
                  <a:pt x="8524" y="5548"/>
                  <a:pt x="8781" y="5556"/>
                </a:cubicBezTo>
                <a:cubicBezTo>
                  <a:pt x="8954" y="5561"/>
                  <a:pt x="9037" y="5662"/>
                  <a:pt x="9178" y="5680"/>
                </a:cubicBezTo>
                <a:cubicBezTo>
                  <a:pt x="9362" y="5703"/>
                  <a:pt x="9538" y="5681"/>
                  <a:pt x="9723" y="5705"/>
                </a:cubicBezTo>
                <a:cubicBezTo>
                  <a:pt x="9949" y="5734"/>
                  <a:pt x="10165" y="5811"/>
                  <a:pt x="10393" y="5829"/>
                </a:cubicBezTo>
                <a:cubicBezTo>
                  <a:pt x="10689" y="5853"/>
                  <a:pt x="10958" y="5759"/>
                  <a:pt x="11261" y="5779"/>
                </a:cubicBezTo>
                <a:cubicBezTo>
                  <a:pt x="11531" y="5796"/>
                  <a:pt x="11730" y="5817"/>
                  <a:pt x="12005" y="5779"/>
                </a:cubicBezTo>
                <a:cubicBezTo>
                  <a:pt x="12310" y="5737"/>
                  <a:pt x="12610" y="5792"/>
                  <a:pt x="12898" y="5755"/>
                </a:cubicBezTo>
                <a:cubicBezTo>
                  <a:pt x="13135" y="5725"/>
                  <a:pt x="13319" y="5625"/>
                  <a:pt x="13568" y="5631"/>
                </a:cubicBezTo>
                <a:cubicBezTo>
                  <a:pt x="13711" y="5634"/>
                  <a:pt x="13911" y="5646"/>
                  <a:pt x="14064" y="5655"/>
                </a:cubicBezTo>
                <a:cubicBezTo>
                  <a:pt x="14229" y="5665"/>
                  <a:pt x="14371" y="5688"/>
                  <a:pt x="14536" y="5705"/>
                </a:cubicBezTo>
                <a:cubicBezTo>
                  <a:pt x="14667" y="5719"/>
                  <a:pt x="14802" y="5745"/>
                  <a:pt x="14932" y="5755"/>
                </a:cubicBezTo>
                <a:cubicBezTo>
                  <a:pt x="15240" y="5778"/>
                  <a:pt x="15524" y="5821"/>
                  <a:pt x="15825" y="5854"/>
                </a:cubicBezTo>
                <a:cubicBezTo>
                  <a:pt x="16136" y="5888"/>
                  <a:pt x="16433" y="5862"/>
                  <a:pt x="16743" y="5854"/>
                </a:cubicBezTo>
                <a:cubicBezTo>
                  <a:pt x="17179" y="5843"/>
                  <a:pt x="17600" y="5814"/>
                  <a:pt x="18033" y="5779"/>
                </a:cubicBezTo>
                <a:cubicBezTo>
                  <a:pt x="18190" y="5766"/>
                  <a:pt x="18347" y="5764"/>
                  <a:pt x="18504" y="5755"/>
                </a:cubicBezTo>
                <a:cubicBezTo>
                  <a:pt x="18739" y="5741"/>
                  <a:pt x="18964" y="5736"/>
                  <a:pt x="19199" y="5705"/>
                </a:cubicBezTo>
                <a:cubicBezTo>
                  <a:pt x="19431" y="5674"/>
                  <a:pt x="19662" y="5630"/>
                  <a:pt x="19893" y="5606"/>
                </a:cubicBezTo>
                <a:cubicBezTo>
                  <a:pt x="20035" y="5591"/>
                  <a:pt x="20172" y="5575"/>
                  <a:pt x="20315" y="5556"/>
                </a:cubicBezTo>
                <a:cubicBezTo>
                  <a:pt x="20587" y="5520"/>
                  <a:pt x="20860" y="5491"/>
                  <a:pt x="21134" y="5482"/>
                </a:cubicBezTo>
                <a:cubicBezTo>
                  <a:pt x="21467" y="5472"/>
                  <a:pt x="21795" y="5498"/>
                  <a:pt x="22126" y="5507"/>
                </a:cubicBezTo>
                <a:cubicBezTo>
                  <a:pt x="22216" y="5509"/>
                  <a:pt x="22373" y="5527"/>
                  <a:pt x="22423" y="55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4582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bjective:  Students will write algebraic expressions to represent unknown quantiti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Font typeface="Baskerville Old Face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Baskerville Old Face"/>
              </a:rPr>
              <a:t>Translating verbal phrases:  Look for key words that indicate add, subtract, multiply, and divide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52280" y="2666880"/>
          <a:ext cx="8763120" cy="3645000"/>
        </p:xfrm>
        <a:graphic>
          <a:graphicData uri="http://schemas.openxmlformats.org/drawingml/2006/table">
            <a:tbl>
              <a:tblPr/>
              <a:tblGrid>
                <a:gridCol w="2190960"/>
                <a:gridCol w="2190600"/>
                <a:gridCol w="2190960"/>
                <a:gridCol w="219060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Addition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Subtraction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Multiplication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Division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Plus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Minus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Times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Quotient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Sum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Difference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In each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Increased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Fewer than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Of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Less than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Twice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More than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How many mor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Altogether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Less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1438200" y="68486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994" y="19025"/>
                </a:moveTo>
                <a:lnTo>
                  <a:pt x="3994" y="1902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8240" y="1438200"/>
            <a:ext cx="7491600" cy="4098960"/>
          </a:xfrm>
          <a:custGeom>
            <a:avLst/>
            <a:gdLst/>
            <a:ahLst/>
            <a:rect l="l" t="t" r="r" b="b"/>
            <a:pathLst>
              <a:path w="20812" h="11386">
                <a:moveTo>
                  <a:pt x="2133" y="4266"/>
                </a:moveTo>
                <a:cubicBezTo>
                  <a:pt x="2133" y="4266"/>
                  <a:pt x="2187" y="4313"/>
                  <a:pt x="2208" y="4316"/>
                </a:cubicBezTo>
                <a:cubicBezTo>
                  <a:pt x="2301" y="4329"/>
                  <a:pt x="2370" y="4290"/>
                  <a:pt x="2456" y="4266"/>
                </a:cubicBezTo>
                <a:cubicBezTo>
                  <a:pt x="2565" y="4236"/>
                  <a:pt x="2533" y="4277"/>
                  <a:pt x="2629" y="4291"/>
                </a:cubicBezTo>
                <a:cubicBezTo>
                  <a:pt x="2730" y="4306"/>
                  <a:pt x="2805" y="4253"/>
                  <a:pt x="2902" y="4242"/>
                </a:cubicBezTo>
                <a:cubicBezTo>
                  <a:pt x="3072" y="4223"/>
                  <a:pt x="3230" y="4319"/>
                  <a:pt x="3398" y="4316"/>
                </a:cubicBezTo>
                <a:cubicBezTo>
                  <a:pt x="3572" y="4313"/>
                  <a:pt x="3744" y="4247"/>
                  <a:pt x="3919" y="4242"/>
                </a:cubicBezTo>
                <a:cubicBezTo>
                  <a:pt x="4064" y="4238"/>
                  <a:pt x="4201" y="4251"/>
                  <a:pt x="4341" y="4266"/>
                </a:cubicBezTo>
                <a:cubicBezTo>
                  <a:pt x="4419" y="4274"/>
                  <a:pt x="4469" y="4227"/>
                  <a:pt x="4539" y="4217"/>
                </a:cubicBezTo>
                <a:cubicBezTo>
                  <a:pt x="4634" y="4204"/>
                  <a:pt x="4719" y="4239"/>
                  <a:pt x="4812" y="4242"/>
                </a:cubicBezTo>
                <a:cubicBezTo>
                  <a:pt x="4956" y="4247"/>
                  <a:pt x="5096" y="4226"/>
                  <a:pt x="5234" y="4217"/>
                </a:cubicBezTo>
                <a:cubicBezTo>
                  <a:pt x="5449" y="4202"/>
                  <a:pt x="5666" y="4210"/>
                  <a:pt x="5879" y="4192"/>
                </a:cubicBezTo>
                <a:cubicBezTo>
                  <a:pt x="6016" y="4181"/>
                  <a:pt x="6148" y="4205"/>
                  <a:pt x="6276" y="4217"/>
                </a:cubicBezTo>
                <a:cubicBezTo>
                  <a:pt x="6376" y="4226"/>
                  <a:pt x="6474" y="4238"/>
                  <a:pt x="6573" y="4242"/>
                </a:cubicBezTo>
                <a:cubicBezTo>
                  <a:pt x="6606" y="4243"/>
                  <a:pt x="6639" y="4242"/>
                  <a:pt x="6672" y="4242"/>
                </a:cubicBezTo>
              </a:path>
              <a:path w="20812" h="11386">
                <a:moveTo>
                  <a:pt x="7590" y="6772"/>
                </a:moveTo>
                <a:cubicBezTo>
                  <a:pt x="7582" y="6747"/>
                  <a:pt x="7573" y="6722"/>
                  <a:pt x="7565" y="6697"/>
                </a:cubicBezTo>
              </a:path>
              <a:path w="20812" h="11386">
                <a:moveTo>
                  <a:pt x="7342" y="4217"/>
                </a:moveTo>
                <a:cubicBezTo>
                  <a:pt x="7439" y="4212"/>
                  <a:pt x="7523" y="4210"/>
                  <a:pt x="7615" y="4192"/>
                </a:cubicBezTo>
                <a:cubicBezTo>
                  <a:pt x="7674" y="4180"/>
                  <a:pt x="7728" y="4177"/>
                  <a:pt x="7789" y="4167"/>
                </a:cubicBezTo>
                <a:cubicBezTo>
                  <a:pt x="7871" y="4154"/>
                  <a:pt x="7926" y="4144"/>
                  <a:pt x="8012" y="4142"/>
                </a:cubicBezTo>
                <a:cubicBezTo>
                  <a:pt x="8133" y="4139"/>
                  <a:pt x="8246" y="4159"/>
                  <a:pt x="8359" y="4167"/>
                </a:cubicBezTo>
                <a:cubicBezTo>
                  <a:pt x="8476" y="4176"/>
                  <a:pt x="8605" y="4150"/>
                  <a:pt x="8706" y="4142"/>
                </a:cubicBezTo>
                <a:cubicBezTo>
                  <a:pt x="8828" y="4132"/>
                  <a:pt x="8960" y="4125"/>
                  <a:pt x="9079" y="4118"/>
                </a:cubicBezTo>
                <a:cubicBezTo>
                  <a:pt x="9385" y="4101"/>
                  <a:pt x="9696" y="4125"/>
                  <a:pt x="9996" y="4142"/>
                </a:cubicBezTo>
                <a:cubicBezTo>
                  <a:pt x="10149" y="4151"/>
                  <a:pt x="10294" y="4130"/>
                  <a:pt x="10443" y="4118"/>
                </a:cubicBezTo>
                <a:cubicBezTo>
                  <a:pt x="10553" y="4109"/>
                  <a:pt x="10653" y="4096"/>
                  <a:pt x="10765" y="4093"/>
                </a:cubicBezTo>
                <a:cubicBezTo>
                  <a:pt x="10910" y="4090"/>
                  <a:pt x="11044" y="4107"/>
                  <a:pt x="11187" y="4118"/>
                </a:cubicBezTo>
                <a:cubicBezTo>
                  <a:pt x="11315" y="4128"/>
                  <a:pt x="11437" y="4099"/>
                  <a:pt x="11559" y="4093"/>
                </a:cubicBezTo>
                <a:cubicBezTo>
                  <a:pt x="11912" y="4075"/>
                  <a:pt x="12274" y="4075"/>
                  <a:pt x="12626" y="4068"/>
                </a:cubicBezTo>
                <a:cubicBezTo>
                  <a:pt x="12836" y="4064"/>
                  <a:pt x="13034" y="4018"/>
                  <a:pt x="13246" y="4018"/>
                </a:cubicBezTo>
                <a:cubicBezTo>
                  <a:pt x="13356" y="4018"/>
                  <a:pt x="13458" y="3998"/>
                  <a:pt x="13568" y="3994"/>
                </a:cubicBezTo>
                <a:cubicBezTo>
                  <a:pt x="13576" y="3994"/>
                  <a:pt x="13585" y="3994"/>
                  <a:pt x="13593" y="3994"/>
                </a:cubicBezTo>
              </a:path>
              <a:path w="20812" h="11386">
                <a:moveTo>
                  <a:pt x="7689" y="5631"/>
                </a:moveTo>
                <a:cubicBezTo>
                  <a:pt x="7742" y="5618"/>
                  <a:pt x="7775" y="5606"/>
                  <a:pt x="7838" y="5606"/>
                </a:cubicBezTo>
                <a:cubicBezTo>
                  <a:pt x="7896" y="5606"/>
                  <a:pt x="7921" y="5606"/>
                  <a:pt x="7962" y="5606"/>
                </a:cubicBezTo>
              </a:path>
              <a:path w="20812" h="11386">
                <a:moveTo>
                  <a:pt x="9054" y="5531"/>
                </a:moveTo>
                <a:cubicBezTo>
                  <a:pt x="9296" y="5526"/>
                  <a:pt x="9533" y="5524"/>
                  <a:pt x="9773" y="5507"/>
                </a:cubicBezTo>
                <a:cubicBezTo>
                  <a:pt x="9912" y="5497"/>
                  <a:pt x="10049" y="5475"/>
                  <a:pt x="10195" y="5482"/>
                </a:cubicBezTo>
                <a:cubicBezTo>
                  <a:pt x="10354" y="5489"/>
                  <a:pt x="10505" y="5514"/>
                  <a:pt x="10666" y="5507"/>
                </a:cubicBezTo>
                <a:cubicBezTo>
                  <a:pt x="10811" y="5500"/>
                  <a:pt x="10948" y="5504"/>
                  <a:pt x="11088" y="5507"/>
                </a:cubicBezTo>
                <a:cubicBezTo>
                  <a:pt x="11330" y="5512"/>
                  <a:pt x="11567" y="5524"/>
                  <a:pt x="11807" y="5531"/>
                </a:cubicBezTo>
                <a:cubicBezTo>
                  <a:pt x="12003" y="5537"/>
                  <a:pt x="12163" y="5588"/>
                  <a:pt x="12353" y="5606"/>
                </a:cubicBezTo>
                <a:cubicBezTo>
                  <a:pt x="12531" y="5623"/>
                  <a:pt x="12721" y="5625"/>
                  <a:pt x="12898" y="5631"/>
                </a:cubicBezTo>
                <a:cubicBezTo>
                  <a:pt x="13246" y="5643"/>
                  <a:pt x="13591" y="5652"/>
                  <a:pt x="13940" y="5655"/>
                </a:cubicBezTo>
                <a:cubicBezTo>
                  <a:pt x="14109" y="5657"/>
                  <a:pt x="14269" y="5637"/>
                  <a:pt x="14436" y="5631"/>
                </a:cubicBezTo>
                <a:cubicBezTo>
                  <a:pt x="14702" y="5622"/>
                  <a:pt x="14963" y="5609"/>
                  <a:pt x="15230" y="5606"/>
                </a:cubicBezTo>
                <a:cubicBezTo>
                  <a:pt x="15538" y="5603"/>
                  <a:pt x="15842" y="5613"/>
                  <a:pt x="16148" y="5631"/>
                </a:cubicBezTo>
                <a:cubicBezTo>
                  <a:pt x="16404" y="5646"/>
                  <a:pt x="16637" y="5645"/>
                  <a:pt x="16892" y="5631"/>
                </a:cubicBezTo>
                <a:cubicBezTo>
                  <a:pt x="17108" y="5619"/>
                  <a:pt x="17320" y="5589"/>
                  <a:pt x="17537" y="5581"/>
                </a:cubicBezTo>
                <a:cubicBezTo>
                  <a:pt x="17747" y="5573"/>
                  <a:pt x="17949" y="5610"/>
                  <a:pt x="18157" y="5606"/>
                </a:cubicBezTo>
                <a:cubicBezTo>
                  <a:pt x="18443" y="5601"/>
                  <a:pt x="18739" y="5574"/>
                  <a:pt x="19025" y="5556"/>
                </a:cubicBezTo>
                <a:cubicBezTo>
                  <a:pt x="19273" y="5540"/>
                  <a:pt x="19497" y="5543"/>
                  <a:pt x="19745" y="5556"/>
                </a:cubicBezTo>
                <a:cubicBezTo>
                  <a:pt x="20002" y="5569"/>
                  <a:pt x="20256" y="5584"/>
                  <a:pt x="20513" y="5606"/>
                </a:cubicBezTo>
                <a:cubicBezTo>
                  <a:pt x="20883" y="5638"/>
                  <a:pt x="21258" y="5647"/>
                  <a:pt x="21630" y="5655"/>
                </a:cubicBezTo>
                <a:cubicBezTo>
                  <a:pt x="22067" y="5665"/>
                  <a:pt x="22512" y="5666"/>
                  <a:pt x="22944" y="5631"/>
                </a:cubicBezTo>
              </a:path>
              <a:path w="20812" h="11386">
                <a:moveTo>
                  <a:pt x="7590" y="5755"/>
                </a:moveTo>
                <a:cubicBezTo>
                  <a:pt x="7665" y="5736"/>
                  <a:pt x="7737" y="5744"/>
                  <a:pt x="7813" y="5730"/>
                </a:cubicBezTo>
                <a:cubicBezTo>
                  <a:pt x="7909" y="5712"/>
                  <a:pt x="7986" y="5705"/>
                  <a:pt x="8086" y="5705"/>
                </a:cubicBezTo>
                <a:cubicBezTo>
                  <a:pt x="8193" y="5705"/>
                  <a:pt x="8306" y="5701"/>
                  <a:pt x="8409" y="5680"/>
                </a:cubicBezTo>
                <a:cubicBezTo>
                  <a:pt x="8501" y="5661"/>
                  <a:pt x="8590" y="5653"/>
                  <a:pt x="8682" y="5631"/>
                </a:cubicBezTo>
                <a:cubicBezTo>
                  <a:pt x="8774" y="5609"/>
                  <a:pt x="8861" y="5567"/>
                  <a:pt x="8954" y="5556"/>
                </a:cubicBezTo>
                <a:cubicBezTo>
                  <a:pt x="9076" y="5542"/>
                  <a:pt x="9204" y="5536"/>
                  <a:pt x="9327" y="5531"/>
                </a:cubicBezTo>
                <a:cubicBezTo>
                  <a:pt x="9409" y="5528"/>
                  <a:pt x="9473" y="5523"/>
                  <a:pt x="9550" y="5507"/>
                </a:cubicBezTo>
                <a:cubicBezTo>
                  <a:pt x="9585" y="5507"/>
                  <a:pt x="9602" y="5502"/>
                  <a:pt x="9624" y="5482"/>
                </a:cubicBezTo>
              </a:path>
              <a:path w="20812" h="11386">
                <a:moveTo>
                  <a:pt x="8880" y="15354"/>
                </a:moveTo>
                <a:cubicBezTo>
                  <a:pt x="8880" y="15387"/>
                  <a:pt x="8888" y="15396"/>
                  <a:pt x="8930" y="153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00080" y="6680160"/>
            <a:ext cx="1044720" cy="79560"/>
          </a:xfrm>
          <a:custGeom>
            <a:avLst/>
            <a:gdLst/>
            <a:ahLst/>
            <a:rect l="l" t="t" r="r" b="b"/>
            <a:pathLst>
              <a:path w="2903" h="224">
                <a:moveTo>
                  <a:pt x="5680" y="18554"/>
                </a:moveTo>
                <a:cubicBezTo>
                  <a:pt x="5607" y="18594"/>
                  <a:pt x="5581" y="18603"/>
                  <a:pt x="5507" y="18628"/>
                </a:cubicBezTo>
                <a:cubicBezTo>
                  <a:pt x="5405" y="18663"/>
                  <a:pt x="5275" y="18685"/>
                  <a:pt x="5159" y="18703"/>
                </a:cubicBezTo>
                <a:cubicBezTo>
                  <a:pt x="4873" y="18748"/>
                  <a:pt x="4606" y="18752"/>
                  <a:pt x="4316" y="18752"/>
                </a:cubicBezTo>
                <a:cubicBezTo>
                  <a:pt x="3812" y="18752"/>
                  <a:pt x="3304" y="18733"/>
                  <a:pt x="2803" y="18777"/>
                </a:cubicBezTo>
                <a:cubicBezTo>
                  <a:pt x="2795" y="18777"/>
                  <a:pt x="2786" y="18777"/>
                  <a:pt x="2778" y="18777"/>
                </a:cubicBezTo>
                <a:cubicBezTo>
                  <a:pt x="2842" y="18753"/>
                  <a:pt x="2911" y="18712"/>
                  <a:pt x="2977" y="18678"/>
                </a:cubicBezTo>
                <a:cubicBezTo>
                  <a:pt x="3015" y="18658"/>
                  <a:pt x="3008" y="18658"/>
                  <a:pt x="3051" y="18653"/>
                </a:cubicBezTo>
                <a:cubicBezTo>
                  <a:pt x="3059" y="18653"/>
                  <a:pt x="3068" y="18653"/>
                  <a:pt x="3076" y="186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12000" y="4456080"/>
            <a:ext cx="303120" cy="303120"/>
          </a:xfrm>
          <a:custGeom>
            <a:avLst/>
            <a:gdLst/>
            <a:ahLst/>
            <a:rect l="l" t="t" r="r" b="b"/>
            <a:pathLst>
              <a:path w="844" h="844">
                <a:moveTo>
                  <a:pt x="19248" y="12378"/>
                </a:moveTo>
                <a:cubicBezTo>
                  <a:pt x="19248" y="12661"/>
                  <a:pt x="19258" y="12942"/>
                  <a:pt x="19224" y="13221"/>
                </a:cubicBezTo>
                <a:cubicBezTo>
                  <a:pt x="19224" y="13121"/>
                  <a:pt x="19176" y="13025"/>
                  <a:pt x="19199" y="12923"/>
                </a:cubicBezTo>
                <a:cubicBezTo>
                  <a:pt x="19224" y="12810"/>
                  <a:pt x="19259" y="12826"/>
                  <a:pt x="19348" y="12799"/>
                </a:cubicBezTo>
                <a:cubicBezTo>
                  <a:pt x="19485" y="12909"/>
                  <a:pt x="19534" y="12984"/>
                  <a:pt x="19546" y="13171"/>
                </a:cubicBezTo>
                <a:cubicBezTo>
                  <a:pt x="19546" y="13217"/>
                  <a:pt x="19558" y="13208"/>
                  <a:pt x="19596" y="13122"/>
                </a:cubicBezTo>
              </a:path>
              <a:path w="844" h="844">
                <a:moveTo>
                  <a:pt x="19968" y="12898"/>
                </a:moveTo>
                <a:cubicBezTo>
                  <a:pt x="19939" y="12797"/>
                  <a:pt x="19947" y="12740"/>
                  <a:pt x="19844" y="12725"/>
                </a:cubicBezTo>
                <a:cubicBezTo>
                  <a:pt x="19726" y="12885"/>
                  <a:pt x="19666" y="12991"/>
                  <a:pt x="19769" y="13146"/>
                </a:cubicBezTo>
                <a:cubicBezTo>
                  <a:pt x="19893" y="13065"/>
                  <a:pt x="19899" y="13022"/>
                  <a:pt x="19943" y="12874"/>
                </a:cubicBezTo>
                <a:cubicBezTo>
                  <a:pt x="19954" y="12963"/>
                  <a:pt x="19957" y="13122"/>
                  <a:pt x="20017" y="13196"/>
                </a:cubicBezTo>
                <a:cubicBezTo>
                  <a:pt x="20025" y="13196"/>
                  <a:pt x="20034" y="13196"/>
                  <a:pt x="20042" y="131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40760" y="4394160"/>
            <a:ext cx="615960" cy="392040"/>
          </a:xfrm>
          <a:custGeom>
            <a:avLst/>
            <a:gdLst/>
            <a:ahLst/>
            <a:rect l="l" t="t" r="r" b="b"/>
            <a:pathLst>
              <a:path w="1713" h="1092">
                <a:moveTo>
                  <a:pt x="20786" y="12452"/>
                </a:moveTo>
                <a:cubicBezTo>
                  <a:pt x="20762" y="12395"/>
                  <a:pt x="20668" y="12317"/>
                  <a:pt x="20613" y="12427"/>
                </a:cubicBezTo>
                <a:cubicBezTo>
                  <a:pt x="20519" y="12615"/>
                  <a:pt x="20619" y="12863"/>
                  <a:pt x="20662" y="13047"/>
                </a:cubicBezTo>
                <a:cubicBezTo>
                  <a:pt x="20682" y="13146"/>
                  <a:pt x="20690" y="13162"/>
                  <a:pt x="20687" y="13221"/>
                </a:cubicBezTo>
              </a:path>
              <a:path w="1713" h="1092">
                <a:moveTo>
                  <a:pt x="20389" y="12898"/>
                </a:moveTo>
                <a:cubicBezTo>
                  <a:pt x="20623" y="12882"/>
                  <a:pt x="20830" y="12826"/>
                  <a:pt x="21059" y="12774"/>
                </a:cubicBezTo>
              </a:path>
              <a:path w="1713" h="1092">
                <a:moveTo>
                  <a:pt x="21481" y="12204"/>
                </a:moveTo>
                <a:cubicBezTo>
                  <a:pt x="21392" y="12468"/>
                  <a:pt x="21338" y="12791"/>
                  <a:pt x="21406" y="13072"/>
                </a:cubicBezTo>
                <a:cubicBezTo>
                  <a:pt x="21446" y="13237"/>
                  <a:pt x="21552" y="13295"/>
                  <a:pt x="21704" y="13295"/>
                </a:cubicBezTo>
              </a:path>
              <a:path w="1713" h="1092">
                <a:moveTo>
                  <a:pt x="21779" y="12774"/>
                </a:moveTo>
                <a:cubicBezTo>
                  <a:pt x="21882" y="12774"/>
                  <a:pt x="21975" y="12758"/>
                  <a:pt x="22076" y="12750"/>
                </a:cubicBezTo>
                <a:cubicBezTo>
                  <a:pt x="22084" y="12750"/>
                  <a:pt x="22093" y="12750"/>
                  <a:pt x="22101" y="127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00800" y="4857840"/>
            <a:ext cx="357120" cy="357120"/>
          </a:xfrm>
          <a:custGeom>
            <a:avLst/>
            <a:gdLst/>
            <a:ahLst/>
            <a:rect l="l" t="t" r="r" b="b"/>
            <a:pathLst>
              <a:path w="993" h="993">
                <a:moveTo>
                  <a:pt x="15503" y="13568"/>
                </a:moveTo>
                <a:cubicBezTo>
                  <a:pt x="15503" y="13543"/>
                  <a:pt x="15503" y="13535"/>
                  <a:pt x="15528" y="13543"/>
                </a:cubicBezTo>
                <a:cubicBezTo>
                  <a:pt x="15489" y="13430"/>
                  <a:pt x="15399" y="13680"/>
                  <a:pt x="15354" y="13791"/>
                </a:cubicBezTo>
                <a:cubicBezTo>
                  <a:pt x="15283" y="13969"/>
                  <a:pt x="15193" y="14307"/>
                  <a:pt x="15379" y="14461"/>
                </a:cubicBezTo>
                <a:cubicBezTo>
                  <a:pt x="15440" y="14511"/>
                  <a:pt x="15449" y="14476"/>
                  <a:pt x="15478" y="14412"/>
                </a:cubicBezTo>
              </a:path>
              <a:path w="993" h="993">
                <a:moveTo>
                  <a:pt x="15652" y="13841"/>
                </a:moveTo>
                <a:cubicBezTo>
                  <a:pt x="15557" y="13898"/>
                  <a:pt x="15525" y="14034"/>
                  <a:pt x="15478" y="14139"/>
                </a:cubicBezTo>
                <a:cubicBezTo>
                  <a:pt x="15458" y="14179"/>
                  <a:pt x="15449" y="14185"/>
                  <a:pt x="15453" y="14213"/>
                </a:cubicBezTo>
              </a:path>
              <a:path w="993" h="993">
                <a:moveTo>
                  <a:pt x="15850" y="13767"/>
                </a:moveTo>
                <a:cubicBezTo>
                  <a:pt x="15868" y="13714"/>
                  <a:pt x="15961" y="13723"/>
                  <a:pt x="16024" y="13717"/>
                </a:cubicBezTo>
                <a:cubicBezTo>
                  <a:pt x="16009" y="13883"/>
                  <a:pt x="15962" y="13967"/>
                  <a:pt x="15850" y="14089"/>
                </a:cubicBezTo>
                <a:cubicBezTo>
                  <a:pt x="15834" y="14106"/>
                  <a:pt x="15817" y="14122"/>
                  <a:pt x="15801" y="14139"/>
                </a:cubicBezTo>
                <a:cubicBezTo>
                  <a:pt x="15875" y="14157"/>
                  <a:pt x="15942" y="14121"/>
                  <a:pt x="16024" y="14139"/>
                </a:cubicBezTo>
                <a:cubicBezTo>
                  <a:pt x="16032" y="14147"/>
                  <a:pt x="16041" y="14155"/>
                  <a:pt x="16049" y="14163"/>
                </a:cubicBezTo>
              </a:path>
              <a:path w="993" h="993">
                <a:moveTo>
                  <a:pt x="15925" y="13494"/>
                </a:moveTo>
                <a:cubicBezTo>
                  <a:pt x="16153" y="13586"/>
                  <a:pt x="16268" y="13718"/>
                  <a:pt x="16272" y="13990"/>
                </a:cubicBezTo>
                <a:cubicBezTo>
                  <a:pt x="16274" y="14137"/>
                  <a:pt x="16211" y="14260"/>
                  <a:pt x="16148" y="143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60920" y="4464000"/>
            <a:ext cx="3564000" cy="1706760"/>
          </a:xfrm>
          <a:custGeom>
            <a:avLst/>
            <a:gdLst/>
            <a:ahLst/>
            <a:rect l="l" t="t" r="r" b="b"/>
            <a:pathLst>
              <a:path w="9898" h="4739">
                <a:moveTo>
                  <a:pt x="15503" y="14089"/>
                </a:moveTo>
                <a:lnTo>
                  <a:pt x="15503" y="14089"/>
                </a:lnTo>
              </a:path>
              <a:path w="9898" h="4739">
                <a:moveTo>
                  <a:pt x="15503" y="14089"/>
                </a:moveTo>
                <a:lnTo>
                  <a:pt x="15503" y="14089"/>
                </a:lnTo>
              </a:path>
              <a:path w="9898" h="4739">
                <a:moveTo>
                  <a:pt x="15577" y="14213"/>
                </a:moveTo>
                <a:lnTo>
                  <a:pt x="15577" y="14213"/>
                </a:lnTo>
              </a:path>
              <a:path w="9898" h="4739">
                <a:moveTo>
                  <a:pt x="12948" y="15825"/>
                </a:moveTo>
                <a:lnTo>
                  <a:pt x="12948" y="15825"/>
                </a:lnTo>
              </a:path>
              <a:path w="9898" h="4739">
                <a:moveTo>
                  <a:pt x="14188" y="16644"/>
                </a:moveTo>
                <a:cubicBezTo>
                  <a:pt x="14196" y="16644"/>
                  <a:pt x="14205" y="16644"/>
                  <a:pt x="14213" y="16644"/>
                </a:cubicBezTo>
              </a:path>
              <a:path w="9898" h="4739">
                <a:moveTo>
                  <a:pt x="15974" y="14908"/>
                </a:moveTo>
                <a:cubicBezTo>
                  <a:pt x="15874" y="15185"/>
                  <a:pt x="15855" y="15570"/>
                  <a:pt x="15999" y="15850"/>
                </a:cubicBezTo>
                <a:cubicBezTo>
                  <a:pt x="16093" y="16034"/>
                  <a:pt x="16219" y="15940"/>
                  <a:pt x="16321" y="15875"/>
                </a:cubicBezTo>
              </a:path>
              <a:path w="9898" h="4739">
                <a:moveTo>
                  <a:pt x="16247" y="15850"/>
                </a:moveTo>
                <a:lnTo>
                  <a:pt x="16247" y="15850"/>
                </a:lnTo>
              </a:path>
              <a:path w="9898" h="4739">
                <a:moveTo>
                  <a:pt x="16768" y="14709"/>
                </a:moveTo>
                <a:cubicBezTo>
                  <a:pt x="17081" y="15022"/>
                  <a:pt x="17250" y="15311"/>
                  <a:pt x="17165" y="15776"/>
                </a:cubicBezTo>
                <a:cubicBezTo>
                  <a:pt x="17073" y="16007"/>
                  <a:pt x="17050" y="16075"/>
                  <a:pt x="16942" y="16197"/>
                </a:cubicBezTo>
              </a:path>
              <a:path w="9898" h="4739">
                <a:moveTo>
                  <a:pt x="16495" y="17140"/>
                </a:moveTo>
                <a:lnTo>
                  <a:pt x="16495" y="17140"/>
                </a:lnTo>
              </a:path>
              <a:path w="9898" h="4739">
                <a:moveTo>
                  <a:pt x="20166" y="12477"/>
                </a:moveTo>
                <a:cubicBezTo>
                  <a:pt x="20190" y="12667"/>
                  <a:pt x="20242" y="12858"/>
                  <a:pt x="20265" y="13047"/>
                </a:cubicBezTo>
                <a:cubicBezTo>
                  <a:pt x="20275" y="13129"/>
                  <a:pt x="20260" y="13221"/>
                  <a:pt x="20290" y="13221"/>
                </a:cubicBezTo>
              </a:path>
              <a:path w="9898" h="4739">
                <a:moveTo>
                  <a:pt x="20290" y="13221"/>
                </a:moveTo>
                <a:lnTo>
                  <a:pt x="20290" y="13221"/>
                </a:lnTo>
              </a:path>
              <a:path w="9898" h="4739">
                <a:moveTo>
                  <a:pt x="21803" y="12402"/>
                </a:moveTo>
                <a:lnTo>
                  <a:pt x="21803" y="12402"/>
                </a:lnTo>
              </a:path>
              <a:path w="9898" h="4739">
                <a:moveTo>
                  <a:pt x="22126" y="13767"/>
                </a:moveTo>
                <a:lnTo>
                  <a:pt x="22126" y="13767"/>
                </a:lnTo>
                <a:lnTo>
                  <a:pt x="22126" y="13767"/>
                </a:lnTo>
              </a:path>
              <a:path w="9898" h="4739">
                <a:moveTo>
                  <a:pt x="22151" y="14288"/>
                </a:moveTo>
                <a:cubicBezTo>
                  <a:pt x="22159" y="14288"/>
                  <a:pt x="22167" y="14288"/>
                  <a:pt x="22175" y="14288"/>
                </a:cubicBezTo>
              </a:path>
              <a:path w="9898" h="4739">
                <a:moveTo>
                  <a:pt x="22845" y="14337"/>
                </a:moveTo>
                <a:lnTo>
                  <a:pt x="22845" y="14337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37080" y="4991040"/>
            <a:ext cx="1554120" cy="1216080"/>
          </a:xfrm>
          <a:custGeom>
            <a:avLst/>
            <a:gdLst/>
            <a:ahLst/>
            <a:rect l="l" t="t" r="r" b="b"/>
            <a:pathLst>
              <a:path w="4317" h="3374">
                <a:moveTo>
                  <a:pt x="15503" y="13866"/>
                </a:moveTo>
                <a:cubicBezTo>
                  <a:pt x="15519" y="13960"/>
                  <a:pt x="15532" y="14071"/>
                  <a:pt x="15553" y="14163"/>
                </a:cubicBezTo>
                <a:cubicBezTo>
                  <a:pt x="15561" y="14180"/>
                  <a:pt x="15569" y="14196"/>
                  <a:pt x="15577" y="14213"/>
                </a:cubicBezTo>
              </a:path>
              <a:path w="4317" h="3374">
                <a:moveTo>
                  <a:pt x="12973" y="15156"/>
                </a:moveTo>
                <a:cubicBezTo>
                  <a:pt x="13076" y="15289"/>
                  <a:pt x="13032" y="15497"/>
                  <a:pt x="13047" y="15652"/>
                </a:cubicBezTo>
                <a:cubicBezTo>
                  <a:pt x="13066" y="15784"/>
                  <a:pt x="13074" y="15800"/>
                  <a:pt x="13072" y="15875"/>
                </a:cubicBezTo>
              </a:path>
              <a:path w="4317" h="3374">
                <a:moveTo>
                  <a:pt x="12601" y="15205"/>
                </a:moveTo>
                <a:cubicBezTo>
                  <a:pt x="12916" y="15107"/>
                  <a:pt x="13255" y="15013"/>
                  <a:pt x="13444" y="15379"/>
                </a:cubicBezTo>
                <a:cubicBezTo>
                  <a:pt x="13572" y="15628"/>
                  <a:pt x="13285" y="15900"/>
                  <a:pt x="13047" y="15900"/>
                </a:cubicBezTo>
                <a:cubicBezTo>
                  <a:pt x="12974" y="15863"/>
                  <a:pt x="12941" y="15875"/>
                  <a:pt x="12948" y="15825"/>
                </a:cubicBezTo>
              </a:path>
              <a:path w="4317" h="3374">
                <a:moveTo>
                  <a:pt x="13643" y="15478"/>
                </a:moveTo>
                <a:cubicBezTo>
                  <a:pt x="13519" y="15561"/>
                  <a:pt x="13434" y="15716"/>
                  <a:pt x="13494" y="15875"/>
                </a:cubicBezTo>
                <a:cubicBezTo>
                  <a:pt x="13519" y="15900"/>
                  <a:pt x="13543" y="15924"/>
                  <a:pt x="13568" y="15949"/>
                </a:cubicBezTo>
                <a:cubicBezTo>
                  <a:pt x="13645" y="15918"/>
                  <a:pt x="14024" y="15732"/>
                  <a:pt x="13841" y="15577"/>
                </a:cubicBezTo>
                <a:cubicBezTo>
                  <a:pt x="13742" y="15558"/>
                  <a:pt x="13726" y="15550"/>
                  <a:pt x="13667" y="15553"/>
                </a:cubicBezTo>
              </a:path>
              <a:path w="4317" h="3374">
                <a:moveTo>
                  <a:pt x="13965" y="15478"/>
                </a:moveTo>
                <a:cubicBezTo>
                  <a:pt x="14007" y="15633"/>
                  <a:pt x="14023" y="15782"/>
                  <a:pt x="14089" y="15925"/>
                </a:cubicBezTo>
                <a:cubicBezTo>
                  <a:pt x="14262" y="15867"/>
                  <a:pt x="14270" y="15758"/>
                  <a:pt x="14288" y="15577"/>
                </a:cubicBezTo>
                <a:cubicBezTo>
                  <a:pt x="14288" y="15668"/>
                  <a:pt x="14327" y="15832"/>
                  <a:pt x="14387" y="15900"/>
                </a:cubicBezTo>
                <a:cubicBezTo>
                  <a:pt x="14486" y="15934"/>
                  <a:pt x="14528" y="15921"/>
                  <a:pt x="14560" y="15801"/>
                </a:cubicBezTo>
              </a:path>
              <a:path w="4317" h="3374">
                <a:moveTo>
                  <a:pt x="14511" y="15379"/>
                </a:moveTo>
                <a:cubicBezTo>
                  <a:pt x="14562" y="15559"/>
                  <a:pt x="14599" y="15689"/>
                  <a:pt x="14610" y="15875"/>
                </a:cubicBezTo>
                <a:cubicBezTo>
                  <a:pt x="14604" y="15808"/>
                  <a:pt x="14520" y="15485"/>
                  <a:pt x="14709" y="15577"/>
                </a:cubicBezTo>
                <a:cubicBezTo>
                  <a:pt x="14854" y="15648"/>
                  <a:pt x="14858" y="15946"/>
                  <a:pt x="14660" y="15925"/>
                </a:cubicBezTo>
                <a:cubicBezTo>
                  <a:pt x="14635" y="15908"/>
                  <a:pt x="14610" y="15892"/>
                  <a:pt x="14585" y="15875"/>
                </a:cubicBezTo>
              </a:path>
              <a:path w="4317" h="3374">
                <a:moveTo>
                  <a:pt x="14858" y="15379"/>
                </a:moveTo>
                <a:cubicBezTo>
                  <a:pt x="14880" y="15441"/>
                  <a:pt x="14981" y="15896"/>
                  <a:pt x="15032" y="15925"/>
                </a:cubicBezTo>
                <a:cubicBezTo>
                  <a:pt x="15040" y="15917"/>
                  <a:pt x="15048" y="15908"/>
                  <a:pt x="15056" y="15900"/>
                </a:cubicBezTo>
              </a:path>
              <a:path w="4317" h="3374">
                <a:moveTo>
                  <a:pt x="15230" y="15677"/>
                </a:moveTo>
                <a:cubicBezTo>
                  <a:pt x="15324" y="15650"/>
                  <a:pt x="15375" y="15627"/>
                  <a:pt x="15478" y="15627"/>
                </a:cubicBezTo>
                <a:cubicBezTo>
                  <a:pt x="15486" y="15627"/>
                  <a:pt x="15495" y="15627"/>
                  <a:pt x="15503" y="15627"/>
                </a:cubicBezTo>
                <a:cubicBezTo>
                  <a:pt x="15503" y="15559"/>
                  <a:pt x="15467" y="15429"/>
                  <a:pt x="15379" y="15429"/>
                </a:cubicBezTo>
                <a:cubicBezTo>
                  <a:pt x="15221" y="15429"/>
                  <a:pt x="15263" y="15859"/>
                  <a:pt x="15329" y="15925"/>
                </a:cubicBezTo>
                <a:cubicBezTo>
                  <a:pt x="15423" y="16019"/>
                  <a:pt x="15637" y="15884"/>
                  <a:pt x="15726" y="15850"/>
                </a:cubicBezTo>
              </a:path>
              <a:path w="4317" h="3374">
                <a:moveTo>
                  <a:pt x="13444" y="16520"/>
                </a:moveTo>
                <a:cubicBezTo>
                  <a:pt x="13444" y="16680"/>
                  <a:pt x="13546" y="16865"/>
                  <a:pt x="13593" y="17016"/>
                </a:cubicBezTo>
                <a:cubicBezTo>
                  <a:pt x="13599" y="17034"/>
                  <a:pt x="13643" y="17303"/>
                  <a:pt x="13643" y="17165"/>
                </a:cubicBezTo>
              </a:path>
              <a:path w="4317" h="3374">
                <a:moveTo>
                  <a:pt x="13097" y="16520"/>
                </a:moveTo>
                <a:cubicBezTo>
                  <a:pt x="13274" y="16480"/>
                  <a:pt x="13541" y="16383"/>
                  <a:pt x="13717" y="16396"/>
                </a:cubicBezTo>
                <a:cubicBezTo>
                  <a:pt x="13717" y="16442"/>
                  <a:pt x="13729" y="16469"/>
                  <a:pt x="13767" y="16495"/>
                </a:cubicBezTo>
              </a:path>
              <a:path w="4317" h="3374">
                <a:moveTo>
                  <a:pt x="13816" y="16892"/>
                </a:moveTo>
                <a:cubicBezTo>
                  <a:pt x="13846" y="16983"/>
                  <a:pt x="13949" y="17068"/>
                  <a:pt x="13965" y="17165"/>
                </a:cubicBezTo>
                <a:cubicBezTo>
                  <a:pt x="13957" y="17157"/>
                  <a:pt x="13948" y="17148"/>
                  <a:pt x="13940" y="17140"/>
                </a:cubicBezTo>
                <a:cubicBezTo>
                  <a:pt x="13927" y="17026"/>
                  <a:pt x="13863" y="16888"/>
                  <a:pt x="13965" y="16818"/>
                </a:cubicBezTo>
                <a:cubicBezTo>
                  <a:pt x="14037" y="16768"/>
                  <a:pt x="14163" y="16708"/>
                  <a:pt x="14238" y="16768"/>
                </a:cubicBezTo>
                <a:cubicBezTo>
                  <a:pt x="14357" y="16863"/>
                  <a:pt x="14353" y="17032"/>
                  <a:pt x="14387" y="17165"/>
                </a:cubicBezTo>
                <a:cubicBezTo>
                  <a:pt x="14406" y="17222"/>
                  <a:pt x="14415" y="17265"/>
                  <a:pt x="14412" y="17214"/>
                </a:cubicBezTo>
              </a:path>
              <a:path w="4317" h="3374">
                <a:moveTo>
                  <a:pt x="16222" y="15180"/>
                </a:moveTo>
                <a:cubicBezTo>
                  <a:pt x="16256" y="15383"/>
                  <a:pt x="16311" y="15618"/>
                  <a:pt x="16272" y="15825"/>
                </a:cubicBezTo>
                <a:cubicBezTo>
                  <a:pt x="16264" y="15833"/>
                  <a:pt x="16255" y="15842"/>
                  <a:pt x="16247" y="15850"/>
                </a:cubicBezTo>
              </a:path>
              <a:path w="4317" h="3374">
                <a:moveTo>
                  <a:pt x="16421" y="15205"/>
                </a:moveTo>
                <a:cubicBezTo>
                  <a:pt x="16313" y="15420"/>
                  <a:pt x="16206" y="15635"/>
                  <a:pt x="16098" y="15850"/>
                </a:cubicBezTo>
              </a:path>
              <a:path w="4317" h="3374">
                <a:moveTo>
                  <a:pt x="16520" y="15081"/>
                </a:moveTo>
                <a:cubicBezTo>
                  <a:pt x="16606" y="15064"/>
                  <a:pt x="16765" y="14950"/>
                  <a:pt x="16768" y="15131"/>
                </a:cubicBezTo>
                <a:cubicBezTo>
                  <a:pt x="16772" y="15325"/>
                  <a:pt x="16626" y="15533"/>
                  <a:pt x="16545" y="15701"/>
                </a:cubicBezTo>
                <a:cubicBezTo>
                  <a:pt x="16674" y="15695"/>
                  <a:pt x="16792" y="15673"/>
                  <a:pt x="16917" y="156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59720" y="4411800"/>
            <a:ext cx="1617480" cy="1133280"/>
          </a:xfrm>
          <a:custGeom>
            <a:avLst/>
            <a:gdLst/>
            <a:ahLst/>
            <a:rect l="l" t="t" r="r" b="b"/>
            <a:pathLst>
              <a:path w="4491" h="3151">
                <a:moveTo>
                  <a:pt x="21977" y="13047"/>
                </a:moveTo>
                <a:cubicBezTo>
                  <a:pt x="21952" y="13047"/>
                  <a:pt x="21944" y="13047"/>
                  <a:pt x="21927" y="13047"/>
                </a:cubicBezTo>
              </a:path>
              <a:path w="4491" h="3151">
                <a:moveTo>
                  <a:pt x="22126" y="12601"/>
                </a:moveTo>
                <a:cubicBezTo>
                  <a:pt x="22174" y="12540"/>
                  <a:pt x="22205" y="12486"/>
                  <a:pt x="22275" y="12452"/>
                </a:cubicBezTo>
                <a:cubicBezTo>
                  <a:pt x="22324" y="12712"/>
                  <a:pt x="22249" y="12873"/>
                  <a:pt x="22101" y="13097"/>
                </a:cubicBezTo>
                <a:cubicBezTo>
                  <a:pt x="22063" y="13153"/>
                  <a:pt x="22046" y="13199"/>
                  <a:pt x="22051" y="13146"/>
                </a:cubicBezTo>
                <a:cubicBezTo>
                  <a:pt x="22174" y="13060"/>
                  <a:pt x="22254" y="13061"/>
                  <a:pt x="22399" y="13097"/>
                </a:cubicBezTo>
                <a:cubicBezTo>
                  <a:pt x="22459" y="13117"/>
                  <a:pt x="22474" y="13136"/>
                  <a:pt x="22498" y="13097"/>
                </a:cubicBezTo>
              </a:path>
              <a:path w="4491" h="3151">
                <a:moveTo>
                  <a:pt x="22275" y="12254"/>
                </a:moveTo>
                <a:cubicBezTo>
                  <a:pt x="22455" y="12352"/>
                  <a:pt x="22610" y="12436"/>
                  <a:pt x="22696" y="12650"/>
                </a:cubicBezTo>
                <a:cubicBezTo>
                  <a:pt x="22805" y="12921"/>
                  <a:pt x="22700" y="13117"/>
                  <a:pt x="22572" y="13345"/>
                </a:cubicBezTo>
                <a:cubicBezTo>
                  <a:pt x="22547" y="13395"/>
                  <a:pt x="22539" y="13412"/>
                  <a:pt x="22572" y="13345"/>
                </a:cubicBezTo>
              </a:path>
              <a:path w="4491" h="3151">
                <a:moveTo>
                  <a:pt x="21803" y="13469"/>
                </a:moveTo>
                <a:cubicBezTo>
                  <a:pt x="21705" y="13537"/>
                  <a:pt x="21637" y="13937"/>
                  <a:pt x="21630" y="14064"/>
                </a:cubicBezTo>
                <a:cubicBezTo>
                  <a:pt x="21621" y="14233"/>
                  <a:pt x="21658" y="14433"/>
                  <a:pt x="21828" y="14511"/>
                </a:cubicBezTo>
                <a:cubicBezTo>
                  <a:pt x="21856" y="14511"/>
                  <a:pt x="21867" y="14509"/>
                  <a:pt x="21878" y="14486"/>
                </a:cubicBezTo>
              </a:path>
              <a:path w="4491" h="3151">
                <a:moveTo>
                  <a:pt x="21977" y="14064"/>
                </a:moveTo>
                <a:cubicBezTo>
                  <a:pt x="22086" y="14056"/>
                  <a:pt x="22189" y="14039"/>
                  <a:pt x="22299" y="14039"/>
                </a:cubicBezTo>
              </a:path>
              <a:path w="4491" h="3151">
                <a:moveTo>
                  <a:pt x="22547" y="13816"/>
                </a:moveTo>
                <a:cubicBezTo>
                  <a:pt x="22547" y="13890"/>
                  <a:pt x="22547" y="13965"/>
                  <a:pt x="22547" y="14039"/>
                </a:cubicBezTo>
                <a:cubicBezTo>
                  <a:pt x="22638" y="14039"/>
                  <a:pt x="22729" y="14039"/>
                  <a:pt x="22820" y="14039"/>
                </a:cubicBezTo>
              </a:path>
              <a:path w="4491" h="3151">
                <a:moveTo>
                  <a:pt x="22796" y="13717"/>
                </a:moveTo>
                <a:cubicBezTo>
                  <a:pt x="22796" y="13860"/>
                  <a:pt x="22806" y="14022"/>
                  <a:pt x="22820" y="14163"/>
                </a:cubicBezTo>
                <a:cubicBezTo>
                  <a:pt x="22838" y="14271"/>
                  <a:pt x="22846" y="14278"/>
                  <a:pt x="22845" y="14337"/>
                </a:cubicBezTo>
              </a:path>
              <a:path w="4491" h="3151">
                <a:moveTo>
                  <a:pt x="22845" y="13419"/>
                </a:moveTo>
                <a:cubicBezTo>
                  <a:pt x="22963" y="13579"/>
                  <a:pt x="23111" y="13770"/>
                  <a:pt x="23192" y="13965"/>
                </a:cubicBezTo>
                <a:cubicBezTo>
                  <a:pt x="23300" y="14226"/>
                  <a:pt x="23275" y="14435"/>
                  <a:pt x="23118" y="14660"/>
                </a:cubicBezTo>
                <a:cubicBezTo>
                  <a:pt x="23093" y="14660"/>
                  <a:pt x="23085" y="14660"/>
                  <a:pt x="23093" y="14684"/>
                </a:cubicBezTo>
              </a:path>
              <a:path w="4491" h="3151">
                <a:moveTo>
                  <a:pt x="19149" y="13990"/>
                </a:moveTo>
                <a:cubicBezTo>
                  <a:pt x="19007" y="13954"/>
                  <a:pt x="18924" y="13883"/>
                  <a:pt x="18827" y="14064"/>
                </a:cubicBezTo>
                <a:cubicBezTo>
                  <a:pt x="18743" y="14220"/>
                  <a:pt x="18799" y="14533"/>
                  <a:pt x="19000" y="14288"/>
                </a:cubicBezTo>
                <a:cubicBezTo>
                  <a:pt x="19040" y="14188"/>
                  <a:pt x="19045" y="14170"/>
                  <a:pt x="19075" y="14114"/>
                </a:cubicBezTo>
                <a:cubicBezTo>
                  <a:pt x="19048" y="14385"/>
                  <a:pt x="18976" y="14619"/>
                  <a:pt x="18901" y="14883"/>
                </a:cubicBezTo>
                <a:cubicBezTo>
                  <a:pt x="18838" y="15107"/>
                  <a:pt x="18794" y="15210"/>
                  <a:pt x="18876" y="15404"/>
                </a:cubicBezTo>
                <a:cubicBezTo>
                  <a:pt x="18991" y="15250"/>
                  <a:pt x="19129" y="15052"/>
                  <a:pt x="19000" y="14858"/>
                </a:cubicBezTo>
                <a:cubicBezTo>
                  <a:pt x="18931" y="14812"/>
                  <a:pt x="18911" y="14799"/>
                  <a:pt x="18876" y="14759"/>
                </a:cubicBezTo>
              </a:path>
              <a:path w="4491" h="3151">
                <a:moveTo>
                  <a:pt x="19273" y="14288"/>
                </a:moveTo>
                <a:cubicBezTo>
                  <a:pt x="19273" y="14429"/>
                  <a:pt x="19252" y="14567"/>
                  <a:pt x="19248" y="14709"/>
                </a:cubicBezTo>
                <a:cubicBezTo>
                  <a:pt x="19248" y="14767"/>
                  <a:pt x="19256" y="14784"/>
                  <a:pt x="19323" y="14759"/>
                </a:cubicBezTo>
                <a:cubicBezTo>
                  <a:pt x="19387" y="14583"/>
                  <a:pt x="19432" y="14426"/>
                  <a:pt x="19447" y="14238"/>
                </a:cubicBezTo>
                <a:cubicBezTo>
                  <a:pt x="19447" y="14427"/>
                  <a:pt x="19389" y="14685"/>
                  <a:pt x="19521" y="14759"/>
                </a:cubicBezTo>
              </a:path>
              <a:path w="4491" h="3151">
                <a:moveTo>
                  <a:pt x="19869" y="14362"/>
                </a:moveTo>
                <a:cubicBezTo>
                  <a:pt x="19869" y="14312"/>
                  <a:pt x="19869" y="14263"/>
                  <a:pt x="19869" y="14213"/>
                </a:cubicBezTo>
                <a:cubicBezTo>
                  <a:pt x="19770" y="14163"/>
                  <a:pt x="19701" y="14439"/>
                  <a:pt x="19695" y="14511"/>
                </a:cubicBezTo>
                <a:cubicBezTo>
                  <a:pt x="19669" y="14844"/>
                  <a:pt x="19914" y="14473"/>
                  <a:pt x="19943" y="14412"/>
                </a:cubicBezTo>
                <a:cubicBezTo>
                  <a:pt x="19951" y="14387"/>
                  <a:pt x="19960" y="14362"/>
                  <a:pt x="19968" y="14337"/>
                </a:cubicBezTo>
                <a:cubicBezTo>
                  <a:pt x="19977" y="14505"/>
                  <a:pt x="19947" y="14644"/>
                  <a:pt x="20092" y="14660"/>
                </a:cubicBezTo>
              </a:path>
              <a:path w="4491" h="3151">
                <a:moveTo>
                  <a:pt x="20166" y="14536"/>
                </a:moveTo>
                <a:cubicBezTo>
                  <a:pt x="20158" y="14552"/>
                  <a:pt x="20149" y="14569"/>
                  <a:pt x="20141" y="14585"/>
                </a:cubicBezTo>
                <a:cubicBezTo>
                  <a:pt x="20141" y="14503"/>
                  <a:pt x="20116" y="14326"/>
                  <a:pt x="20191" y="14263"/>
                </a:cubicBezTo>
                <a:cubicBezTo>
                  <a:pt x="20287" y="14230"/>
                  <a:pt x="20336" y="14222"/>
                  <a:pt x="20414" y="14238"/>
                </a:cubicBezTo>
              </a:path>
              <a:path w="4491" h="3151">
                <a:moveTo>
                  <a:pt x="20588" y="13940"/>
                </a:moveTo>
                <a:cubicBezTo>
                  <a:pt x="20588" y="14149"/>
                  <a:pt x="20596" y="14354"/>
                  <a:pt x="20613" y="14560"/>
                </a:cubicBezTo>
                <a:cubicBezTo>
                  <a:pt x="20613" y="14626"/>
                  <a:pt x="20613" y="14627"/>
                  <a:pt x="20613" y="14511"/>
                </a:cubicBezTo>
              </a:path>
              <a:path w="4491" h="3151">
                <a:moveTo>
                  <a:pt x="20489" y="14288"/>
                </a:moveTo>
                <a:cubicBezTo>
                  <a:pt x="20609" y="14288"/>
                  <a:pt x="20719" y="14303"/>
                  <a:pt x="20836" y="14312"/>
                </a:cubicBezTo>
                <a:cubicBezTo>
                  <a:pt x="20861" y="14312"/>
                  <a:pt x="20869" y="14312"/>
                  <a:pt x="20886" y="14312"/>
                </a:cubicBezTo>
                <a:cubicBezTo>
                  <a:pt x="20886" y="14256"/>
                  <a:pt x="20901" y="14138"/>
                  <a:pt x="20836" y="14114"/>
                </a:cubicBezTo>
                <a:cubicBezTo>
                  <a:pt x="20658" y="14048"/>
                  <a:pt x="20628" y="14392"/>
                  <a:pt x="20662" y="14486"/>
                </a:cubicBezTo>
                <a:cubicBezTo>
                  <a:pt x="20744" y="14713"/>
                  <a:pt x="20929" y="14462"/>
                  <a:pt x="20985" y="14412"/>
                </a:cubicBezTo>
              </a:path>
              <a:path w="4491" h="3151">
                <a:moveTo>
                  <a:pt x="21059" y="14288"/>
                </a:moveTo>
                <a:cubicBezTo>
                  <a:pt x="21059" y="14379"/>
                  <a:pt x="21059" y="14420"/>
                  <a:pt x="21059" y="14511"/>
                </a:cubicBezTo>
                <a:cubicBezTo>
                  <a:pt x="21035" y="14336"/>
                  <a:pt x="21040" y="14226"/>
                  <a:pt x="21208" y="14139"/>
                </a:cubicBezTo>
                <a:cubicBezTo>
                  <a:pt x="21326" y="14078"/>
                  <a:pt x="21297" y="14137"/>
                  <a:pt x="21282" y="1421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54840" y="5830920"/>
            <a:ext cx="152280" cy="420480"/>
          </a:xfrm>
          <a:custGeom>
            <a:avLst/>
            <a:gdLst/>
            <a:ahLst/>
            <a:rect l="l" t="t" r="r" b="b"/>
            <a:pathLst>
              <a:path w="422" h="1167">
                <a:moveTo>
                  <a:pt x="16818" y="16197"/>
                </a:moveTo>
                <a:cubicBezTo>
                  <a:pt x="17066" y="16322"/>
                  <a:pt x="17194" y="16611"/>
                  <a:pt x="17239" y="16892"/>
                </a:cubicBezTo>
                <a:cubicBezTo>
                  <a:pt x="17282" y="17162"/>
                  <a:pt x="17217" y="17216"/>
                  <a:pt x="17041" y="173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87960" y="5840280"/>
            <a:ext cx="920880" cy="517680"/>
          </a:xfrm>
          <a:custGeom>
            <a:avLst/>
            <a:gdLst/>
            <a:ahLst/>
            <a:rect l="l" t="t" r="r" b="b"/>
            <a:pathLst>
              <a:path w="2555" h="1440">
                <a:moveTo>
                  <a:pt x="14635" y="17066"/>
                </a:moveTo>
                <a:cubicBezTo>
                  <a:pt x="14673" y="17234"/>
                  <a:pt x="14685" y="17514"/>
                  <a:pt x="14784" y="17661"/>
                </a:cubicBezTo>
                <a:cubicBezTo>
                  <a:pt x="14784" y="17607"/>
                  <a:pt x="14771" y="17573"/>
                  <a:pt x="14734" y="17537"/>
                </a:cubicBezTo>
              </a:path>
              <a:path w="2555" h="1440">
                <a:moveTo>
                  <a:pt x="14412" y="16966"/>
                </a:moveTo>
                <a:cubicBezTo>
                  <a:pt x="14607" y="16958"/>
                  <a:pt x="14872" y="16962"/>
                  <a:pt x="14858" y="17239"/>
                </a:cubicBezTo>
                <a:cubicBezTo>
                  <a:pt x="14843" y="17545"/>
                  <a:pt x="14621" y="17304"/>
                  <a:pt x="14585" y="17190"/>
                </a:cubicBezTo>
              </a:path>
              <a:path w="2555" h="1440">
                <a:moveTo>
                  <a:pt x="14957" y="16545"/>
                </a:moveTo>
                <a:cubicBezTo>
                  <a:pt x="14988" y="16629"/>
                  <a:pt x="15168" y="17282"/>
                  <a:pt x="15230" y="17289"/>
                </a:cubicBezTo>
                <a:cubicBezTo>
                  <a:pt x="15247" y="17264"/>
                  <a:pt x="15263" y="17239"/>
                  <a:pt x="15280" y="17214"/>
                </a:cubicBezTo>
              </a:path>
              <a:path w="2555" h="1440">
                <a:moveTo>
                  <a:pt x="15379" y="16966"/>
                </a:moveTo>
                <a:cubicBezTo>
                  <a:pt x="15458" y="16979"/>
                  <a:pt x="15499" y="16966"/>
                  <a:pt x="15577" y="16966"/>
                </a:cubicBezTo>
                <a:cubicBezTo>
                  <a:pt x="15571" y="16947"/>
                  <a:pt x="15483" y="16806"/>
                  <a:pt x="15429" y="16842"/>
                </a:cubicBezTo>
                <a:cubicBezTo>
                  <a:pt x="15317" y="16917"/>
                  <a:pt x="15332" y="17228"/>
                  <a:pt x="15478" y="17264"/>
                </a:cubicBezTo>
                <a:cubicBezTo>
                  <a:pt x="15608" y="17238"/>
                  <a:pt x="15654" y="17226"/>
                  <a:pt x="15726" y="17165"/>
                </a:cubicBezTo>
              </a:path>
              <a:path w="2555" h="1440">
                <a:moveTo>
                  <a:pt x="16148" y="16222"/>
                </a:moveTo>
                <a:cubicBezTo>
                  <a:pt x="16111" y="16478"/>
                  <a:pt x="16004" y="16711"/>
                  <a:pt x="15999" y="16991"/>
                </a:cubicBezTo>
                <a:cubicBezTo>
                  <a:pt x="15993" y="17304"/>
                  <a:pt x="16108" y="17339"/>
                  <a:pt x="16297" y="17165"/>
                </a:cubicBezTo>
              </a:path>
              <a:path w="2555" h="1440">
                <a:moveTo>
                  <a:pt x="16272" y="16669"/>
                </a:moveTo>
                <a:cubicBezTo>
                  <a:pt x="16378" y="16827"/>
                  <a:pt x="16438" y="16959"/>
                  <a:pt x="16495" y="17140"/>
                </a:cubicBezTo>
              </a:path>
              <a:path w="2555" h="1440">
                <a:moveTo>
                  <a:pt x="16470" y="16495"/>
                </a:moveTo>
                <a:cubicBezTo>
                  <a:pt x="16383" y="16655"/>
                  <a:pt x="16339" y="16844"/>
                  <a:pt x="16272" y="17016"/>
                </a:cubicBezTo>
                <a:cubicBezTo>
                  <a:pt x="16244" y="17073"/>
                  <a:pt x="16242" y="17087"/>
                  <a:pt x="16321" y="17041"/>
                </a:cubicBezTo>
              </a:path>
              <a:path w="2555" h="1440">
                <a:moveTo>
                  <a:pt x="16669" y="16371"/>
                </a:moveTo>
                <a:cubicBezTo>
                  <a:pt x="16760" y="16348"/>
                  <a:pt x="16853" y="16307"/>
                  <a:pt x="16942" y="16272"/>
                </a:cubicBezTo>
                <a:cubicBezTo>
                  <a:pt x="16974" y="16468"/>
                  <a:pt x="16888" y="16536"/>
                  <a:pt x="16793" y="16694"/>
                </a:cubicBezTo>
                <a:cubicBezTo>
                  <a:pt x="16793" y="16702"/>
                  <a:pt x="16793" y="16710"/>
                  <a:pt x="16793" y="16718"/>
                </a:cubicBezTo>
                <a:cubicBezTo>
                  <a:pt x="16888" y="16608"/>
                  <a:pt x="17025" y="16675"/>
                  <a:pt x="16966" y="16842"/>
                </a:cubicBezTo>
                <a:cubicBezTo>
                  <a:pt x="16867" y="17122"/>
                  <a:pt x="16685" y="17118"/>
                  <a:pt x="16495" y="169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bjective:  Students will write algebraic expressions to represent unknown quantiti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ff"/>
                </a:solidFill>
                <a:latin typeface="Times New Roman"/>
              </a:rPr>
              <a:t>Less than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Less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Three 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less than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 a number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Three 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less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 a number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5760" y="1581120"/>
            <a:ext cx="6589440" cy="839880"/>
          </a:xfrm>
          <a:custGeom>
            <a:avLst/>
            <a:gdLst/>
            <a:ahLst/>
            <a:rect l="l" t="t" r="r" b="b"/>
            <a:pathLst>
              <a:path w="18307" h="2333">
                <a:moveTo>
                  <a:pt x="1389" y="5631"/>
                </a:moveTo>
                <a:cubicBezTo>
                  <a:pt x="1452" y="5631"/>
                  <a:pt x="1295" y="5609"/>
                  <a:pt x="1265" y="5606"/>
                </a:cubicBezTo>
                <a:cubicBezTo>
                  <a:pt x="1267" y="5606"/>
                  <a:pt x="1482" y="5606"/>
                  <a:pt x="1463" y="5631"/>
                </a:cubicBezTo>
                <a:cubicBezTo>
                  <a:pt x="1433" y="5670"/>
                  <a:pt x="1264" y="5631"/>
                  <a:pt x="1315" y="5631"/>
                </a:cubicBezTo>
                <a:cubicBezTo>
                  <a:pt x="1399" y="5631"/>
                  <a:pt x="1520" y="5691"/>
                  <a:pt x="1339" y="5631"/>
                </a:cubicBezTo>
                <a:cubicBezTo>
                  <a:pt x="1228" y="5594"/>
                  <a:pt x="1282" y="5612"/>
                  <a:pt x="1364" y="5631"/>
                </a:cubicBezTo>
                <a:cubicBezTo>
                  <a:pt x="1515" y="5666"/>
                  <a:pt x="1450" y="5663"/>
                  <a:pt x="1339" y="5655"/>
                </a:cubicBezTo>
                <a:cubicBezTo>
                  <a:pt x="1191" y="5644"/>
                  <a:pt x="1280" y="5655"/>
                  <a:pt x="1315" y="5655"/>
                </a:cubicBezTo>
                <a:cubicBezTo>
                  <a:pt x="1378" y="5671"/>
                  <a:pt x="1436" y="5679"/>
                  <a:pt x="1488" y="5705"/>
                </a:cubicBezTo>
                <a:cubicBezTo>
                  <a:pt x="1426" y="5705"/>
                  <a:pt x="1264" y="5690"/>
                  <a:pt x="1315" y="5655"/>
                </a:cubicBezTo>
                <a:cubicBezTo>
                  <a:pt x="1371" y="5617"/>
                  <a:pt x="1581" y="5680"/>
                  <a:pt x="1513" y="5680"/>
                </a:cubicBezTo>
                <a:cubicBezTo>
                  <a:pt x="1473" y="5680"/>
                  <a:pt x="1265" y="5655"/>
                  <a:pt x="1265" y="5680"/>
                </a:cubicBezTo>
                <a:cubicBezTo>
                  <a:pt x="1265" y="5680"/>
                  <a:pt x="1382" y="5680"/>
                  <a:pt x="1389" y="5680"/>
                </a:cubicBezTo>
              </a:path>
              <a:path w="18307" h="2333">
                <a:moveTo>
                  <a:pt x="2257" y="6300"/>
                </a:moveTo>
                <a:cubicBezTo>
                  <a:pt x="2313" y="6287"/>
                  <a:pt x="2362" y="6276"/>
                  <a:pt x="2431" y="6276"/>
                </a:cubicBezTo>
                <a:cubicBezTo>
                  <a:pt x="2492" y="6276"/>
                  <a:pt x="2533" y="6258"/>
                  <a:pt x="2580" y="6251"/>
                </a:cubicBezTo>
                <a:cubicBezTo>
                  <a:pt x="2679" y="6235"/>
                  <a:pt x="2888" y="6216"/>
                  <a:pt x="2977" y="6226"/>
                </a:cubicBezTo>
                <a:cubicBezTo>
                  <a:pt x="3035" y="6232"/>
                  <a:pt x="3086" y="6251"/>
                  <a:pt x="3150" y="6251"/>
                </a:cubicBezTo>
                <a:cubicBezTo>
                  <a:pt x="3267" y="6251"/>
                  <a:pt x="3378" y="6226"/>
                  <a:pt x="3497" y="6226"/>
                </a:cubicBezTo>
                <a:cubicBezTo>
                  <a:pt x="3682" y="6226"/>
                  <a:pt x="3863" y="6226"/>
                  <a:pt x="4043" y="6201"/>
                </a:cubicBezTo>
                <a:cubicBezTo>
                  <a:pt x="4117" y="6191"/>
                  <a:pt x="4194" y="6192"/>
                  <a:pt x="4266" y="6176"/>
                </a:cubicBezTo>
                <a:cubicBezTo>
                  <a:pt x="4351" y="6158"/>
                  <a:pt x="4430" y="6166"/>
                  <a:pt x="4514" y="6152"/>
                </a:cubicBezTo>
                <a:cubicBezTo>
                  <a:pt x="4565" y="6143"/>
                  <a:pt x="4634" y="6111"/>
                  <a:pt x="4688" y="6102"/>
                </a:cubicBezTo>
                <a:cubicBezTo>
                  <a:pt x="4734" y="6094"/>
                  <a:pt x="4790" y="6102"/>
                  <a:pt x="4837" y="6102"/>
                </a:cubicBezTo>
              </a:path>
              <a:path w="18307" h="2333">
                <a:moveTo>
                  <a:pt x="2307" y="6300"/>
                </a:moveTo>
                <a:cubicBezTo>
                  <a:pt x="2385" y="6300"/>
                  <a:pt x="2455" y="6283"/>
                  <a:pt x="2530" y="6276"/>
                </a:cubicBezTo>
                <a:cubicBezTo>
                  <a:pt x="2631" y="6267"/>
                  <a:pt x="2733" y="6263"/>
                  <a:pt x="2828" y="6251"/>
                </a:cubicBezTo>
                <a:cubicBezTo>
                  <a:pt x="3202" y="6204"/>
                  <a:pt x="3623" y="6244"/>
                  <a:pt x="3994" y="6276"/>
                </a:cubicBezTo>
                <a:cubicBezTo>
                  <a:pt x="4102" y="6285"/>
                  <a:pt x="4264" y="6307"/>
                  <a:pt x="4366" y="6300"/>
                </a:cubicBezTo>
                <a:cubicBezTo>
                  <a:pt x="4456" y="6294"/>
                  <a:pt x="4543" y="6276"/>
                  <a:pt x="4638" y="6276"/>
                </a:cubicBezTo>
                <a:cubicBezTo>
                  <a:pt x="4688" y="6276"/>
                  <a:pt x="4737" y="6276"/>
                  <a:pt x="4787" y="6276"/>
                </a:cubicBezTo>
              </a:path>
              <a:path w="18307" h="2333">
                <a:moveTo>
                  <a:pt x="3249" y="4539"/>
                </a:moveTo>
                <a:cubicBezTo>
                  <a:pt x="3286" y="4490"/>
                  <a:pt x="3376" y="4456"/>
                  <a:pt x="3448" y="4440"/>
                </a:cubicBezTo>
                <a:cubicBezTo>
                  <a:pt x="3484" y="4521"/>
                  <a:pt x="3525" y="4611"/>
                  <a:pt x="3448" y="4688"/>
                </a:cubicBezTo>
                <a:cubicBezTo>
                  <a:pt x="3407" y="4708"/>
                  <a:pt x="3401" y="4717"/>
                  <a:pt x="3373" y="4713"/>
                </a:cubicBezTo>
                <a:cubicBezTo>
                  <a:pt x="3435" y="4760"/>
                  <a:pt x="3544" y="4769"/>
                  <a:pt x="3597" y="4837"/>
                </a:cubicBezTo>
                <a:cubicBezTo>
                  <a:pt x="3684" y="4949"/>
                  <a:pt x="3563" y="5062"/>
                  <a:pt x="3473" y="5085"/>
                </a:cubicBezTo>
                <a:cubicBezTo>
                  <a:pt x="3363" y="5113"/>
                  <a:pt x="3271" y="5121"/>
                  <a:pt x="3175" y="5085"/>
                </a:cubicBezTo>
              </a:path>
              <a:path w="18307" h="2333">
                <a:moveTo>
                  <a:pt x="5432" y="6325"/>
                </a:moveTo>
                <a:cubicBezTo>
                  <a:pt x="5455" y="6317"/>
                  <a:pt x="5500" y="6311"/>
                  <a:pt x="5556" y="6300"/>
                </a:cubicBezTo>
                <a:cubicBezTo>
                  <a:pt x="5640" y="6284"/>
                  <a:pt x="5700" y="6306"/>
                  <a:pt x="5779" y="6300"/>
                </a:cubicBezTo>
                <a:cubicBezTo>
                  <a:pt x="5859" y="6294"/>
                  <a:pt x="5939" y="6265"/>
                  <a:pt x="6028" y="6276"/>
                </a:cubicBezTo>
                <a:cubicBezTo>
                  <a:pt x="6120" y="6287"/>
                  <a:pt x="6207" y="6293"/>
                  <a:pt x="6300" y="6300"/>
                </a:cubicBezTo>
                <a:cubicBezTo>
                  <a:pt x="6664" y="6326"/>
                  <a:pt x="7069" y="6309"/>
                  <a:pt x="7417" y="6276"/>
                </a:cubicBezTo>
                <a:cubicBezTo>
                  <a:pt x="7557" y="6263"/>
                  <a:pt x="7704" y="6308"/>
                  <a:pt x="7838" y="6300"/>
                </a:cubicBezTo>
                <a:cubicBezTo>
                  <a:pt x="7944" y="6294"/>
                  <a:pt x="8051" y="6276"/>
                  <a:pt x="8161" y="6276"/>
                </a:cubicBezTo>
                <a:cubicBezTo>
                  <a:pt x="8469" y="6276"/>
                  <a:pt x="8775" y="6277"/>
                  <a:pt x="9079" y="6251"/>
                </a:cubicBezTo>
                <a:cubicBezTo>
                  <a:pt x="9198" y="6241"/>
                  <a:pt x="9314" y="6241"/>
                  <a:pt x="9426" y="6226"/>
                </a:cubicBezTo>
                <a:cubicBezTo>
                  <a:pt x="9451" y="6226"/>
                  <a:pt x="9459" y="6226"/>
                  <a:pt x="9475" y="6226"/>
                </a:cubicBezTo>
              </a:path>
              <a:path w="18307" h="2333">
                <a:moveTo>
                  <a:pt x="6821" y="4862"/>
                </a:moveTo>
                <a:cubicBezTo>
                  <a:pt x="6884" y="4924"/>
                  <a:pt x="6993" y="4911"/>
                  <a:pt x="7094" y="4911"/>
                </a:cubicBezTo>
                <a:cubicBezTo>
                  <a:pt x="7139" y="4911"/>
                  <a:pt x="7171" y="4887"/>
                  <a:pt x="7218" y="4887"/>
                </a:cubicBezTo>
              </a:path>
              <a:path w="18307" h="2333">
                <a:moveTo>
                  <a:pt x="9922" y="6300"/>
                </a:moveTo>
                <a:cubicBezTo>
                  <a:pt x="9949" y="6351"/>
                  <a:pt x="9970" y="6441"/>
                  <a:pt x="10021" y="6474"/>
                </a:cubicBezTo>
                <a:cubicBezTo>
                  <a:pt x="10064" y="6502"/>
                  <a:pt x="10138" y="6507"/>
                  <a:pt x="10195" y="6499"/>
                </a:cubicBezTo>
                <a:cubicBezTo>
                  <a:pt x="10295" y="6484"/>
                  <a:pt x="10381" y="6499"/>
                  <a:pt x="10492" y="6499"/>
                </a:cubicBezTo>
                <a:cubicBezTo>
                  <a:pt x="10906" y="6499"/>
                  <a:pt x="11323" y="6508"/>
                  <a:pt x="11733" y="6474"/>
                </a:cubicBezTo>
                <a:cubicBezTo>
                  <a:pt x="11838" y="6465"/>
                  <a:pt x="11950" y="6466"/>
                  <a:pt x="12055" y="6449"/>
                </a:cubicBezTo>
                <a:cubicBezTo>
                  <a:pt x="12182" y="6429"/>
                  <a:pt x="12297" y="6424"/>
                  <a:pt x="12427" y="6424"/>
                </a:cubicBezTo>
                <a:cubicBezTo>
                  <a:pt x="12548" y="6424"/>
                  <a:pt x="12657" y="6404"/>
                  <a:pt x="12774" y="6400"/>
                </a:cubicBezTo>
                <a:cubicBezTo>
                  <a:pt x="12927" y="6395"/>
                  <a:pt x="13073" y="6392"/>
                  <a:pt x="13221" y="6375"/>
                </a:cubicBezTo>
                <a:cubicBezTo>
                  <a:pt x="13527" y="6341"/>
                  <a:pt x="13854" y="6375"/>
                  <a:pt x="14163" y="6375"/>
                </a:cubicBezTo>
                <a:cubicBezTo>
                  <a:pt x="14167" y="6304"/>
                  <a:pt x="14176" y="6243"/>
                  <a:pt x="14188" y="6176"/>
                </a:cubicBezTo>
                <a:cubicBezTo>
                  <a:pt x="14188" y="6168"/>
                  <a:pt x="14188" y="6160"/>
                  <a:pt x="14188" y="6152"/>
                </a:cubicBezTo>
              </a:path>
              <a:path w="18307" h="2333">
                <a:moveTo>
                  <a:pt x="11534" y="4986"/>
                </a:moveTo>
                <a:cubicBezTo>
                  <a:pt x="11541" y="4957"/>
                  <a:pt x="11565" y="4898"/>
                  <a:pt x="11609" y="4911"/>
                </a:cubicBezTo>
                <a:cubicBezTo>
                  <a:pt x="11682" y="4932"/>
                  <a:pt x="11703" y="4998"/>
                  <a:pt x="11733" y="5060"/>
                </a:cubicBezTo>
                <a:cubicBezTo>
                  <a:pt x="11780" y="5156"/>
                  <a:pt x="11803" y="5194"/>
                  <a:pt x="11906" y="5234"/>
                </a:cubicBezTo>
                <a:cubicBezTo>
                  <a:pt x="11997" y="5269"/>
                  <a:pt x="12021" y="5251"/>
                  <a:pt x="12105" y="5234"/>
                </a:cubicBezTo>
              </a:path>
              <a:path w="18307" h="2333">
                <a:moveTo>
                  <a:pt x="11956" y="4961"/>
                </a:moveTo>
                <a:cubicBezTo>
                  <a:pt x="11909" y="4973"/>
                  <a:pt x="11900" y="5016"/>
                  <a:pt x="11857" y="5035"/>
                </a:cubicBezTo>
                <a:cubicBezTo>
                  <a:pt x="11849" y="5035"/>
                  <a:pt x="11840" y="5035"/>
                  <a:pt x="11832" y="5035"/>
                </a:cubicBezTo>
                <a:cubicBezTo>
                  <a:pt x="11820" y="5070"/>
                  <a:pt x="11807" y="5068"/>
                  <a:pt x="11782" y="5110"/>
                </a:cubicBezTo>
                <a:cubicBezTo>
                  <a:pt x="11747" y="5170"/>
                  <a:pt x="11731" y="5177"/>
                  <a:pt x="11683" y="5209"/>
                </a:cubicBezTo>
                <a:cubicBezTo>
                  <a:pt x="11648" y="5232"/>
                  <a:pt x="11633" y="5272"/>
                  <a:pt x="11609" y="5308"/>
                </a:cubicBezTo>
              </a:path>
              <a:path w="18307" h="2333">
                <a:moveTo>
                  <a:pt x="10691" y="4787"/>
                </a:moveTo>
                <a:cubicBezTo>
                  <a:pt x="10773" y="4842"/>
                  <a:pt x="10880" y="4992"/>
                  <a:pt x="10939" y="5085"/>
                </a:cubicBezTo>
                <a:cubicBezTo>
                  <a:pt x="10968" y="5131"/>
                  <a:pt x="10746" y="5152"/>
                  <a:pt x="10716" y="5159"/>
                </a:cubicBezTo>
                <a:cubicBezTo>
                  <a:pt x="10708" y="5167"/>
                  <a:pt x="10699" y="5176"/>
                  <a:pt x="10691" y="5184"/>
                </a:cubicBezTo>
                <a:cubicBezTo>
                  <a:pt x="10750" y="5172"/>
                  <a:pt x="10789" y="5131"/>
                  <a:pt x="10840" y="5110"/>
                </a:cubicBezTo>
                <a:cubicBezTo>
                  <a:pt x="10872" y="5097"/>
                  <a:pt x="10763" y="4837"/>
                  <a:pt x="10740" y="4787"/>
                </a:cubicBezTo>
                <a:cubicBezTo>
                  <a:pt x="10732" y="4779"/>
                  <a:pt x="10724" y="4770"/>
                  <a:pt x="10716" y="4762"/>
                </a:cubicBezTo>
              </a:path>
              <a:path w="18307" h="2333">
                <a:moveTo>
                  <a:pt x="16892" y="5556"/>
                </a:moveTo>
                <a:cubicBezTo>
                  <a:pt x="16892" y="5466"/>
                  <a:pt x="16953" y="5445"/>
                  <a:pt x="17041" y="5432"/>
                </a:cubicBezTo>
                <a:cubicBezTo>
                  <a:pt x="17275" y="5397"/>
                  <a:pt x="17297" y="5650"/>
                  <a:pt x="17363" y="5804"/>
                </a:cubicBezTo>
                <a:cubicBezTo>
                  <a:pt x="17409" y="5911"/>
                  <a:pt x="17515" y="6145"/>
                  <a:pt x="17661" y="6152"/>
                </a:cubicBezTo>
                <a:cubicBezTo>
                  <a:pt x="17701" y="6132"/>
                  <a:pt x="17708" y="6123"/>
                  <a:pt x="17735" y="6127"/>
                </a:cubicBezTo>
              </a:path>
              <a:path w="18307" h="2333">
                <a:moveTo>
                  <a:pt x="17611" y="5432"/>
                </a:moveTo>
                <a:cubicBezTo>
                  <a:pt x="17474" y="5555"/>
                  <a:pt x="17364" y="5766"/>
                  <a:pt x="17264" y="5928"/>
                </a:cubicBezTo>
                <a:cubicBezTo>
                  <a:pt x="17191" y="6046"/>
                  <a:pt x="17192" y="6394"/>
                  <a:pt x="17090" y="6300"/>
                </a:cubicBezTo>
                <a:cubicBezTo>
                  <a:pt x="17090" y="6292"/>
                  <a:pt x="17090" y="6284"/>
                  <a:pt x="17090" y="6276"/>
                </a:cubicBezTo>
              </a:path>
              <a:path w="18307" h="2333">
                <a:moveTo>
                  <a:pt x="18008" y="5705"/>
                </a:moveTo>
                <a:cubicBezTo>
                  <a:pt x="18120" y="5705"/>
                  <a:pt x="18221" y="5695"/>
                  <a:pt x="18331" y="5680"/>
                </a:cubicBezTo>
                <a:cubicBezTo>
                  <a:pt x="18355" y="5680"/>
                  <a:pt x="18364" y="5680"/>
                  <a:pt x="18380" y="5680"/>
                </a:cubicBezTo>
              </a:path>
              <a:path w="18307" h="2333">
                <a:moveTo>
                  <a:pt x="18852" y="5060"/>
                </a:moveTo>
                <a:cubicBezTo>
                  <a:pt x="18906" y="5012"/>
                  <a:pt x="18994" y="4899"/>
                  <a:pt x="19100" y="4911"/>
                </a:cubicBezTo>
                <a:cubicBezTo>
                  <a:pt x="19340" y="4938"/>
                  <a:pt x="19175" y="5226"/>
                  <a:pt x="19124" y="5333"/>
                </a:cubicBezTo>
                <a:cubicBezTo>
                  <a:pt x="19088" y="5406"/>
                  <a:pt x="19100" y="5439"/>
                  <a:pt x="19050" y="5432"/>
                </a:cubicBezTo>
                <a:cubicBezTo>
                  <a:pt x="19207" y="5339"/>
                  <a:pt x="19350" y="5427"/>
                  <a:pt x="19372" y="5631"/>
                </a:cubicBezTo>
                <a:cubicBezTo>
                  <a:pt x="19395" y="5845"/>
                  <a:pt x="19272" y="6084"/>
                  <a:pt x="19050" y="6077"/>
                </a:cubicBezTo>
                <a:cubicBezTo>
                  <a:pt x="18993" y="6058"/>
                  <a:pt x="18986" y="6049"/>
                  <a:pt x="18951" y="6052"/>
                </a:cubicBezTo>
              </a:path>
              <a:path w="18307" h="2333">
                <a:moveTo>
                  <a:pt x="16049" y="5011"/>
                </a:moveTo>
                <a:cubicBezTo>
                  <a:pt x="16099" y="5221"/>
                  <a:pt x="16132" y="5504"/>
                  <a:pt x="16123" y="5755"/>
                </a:cubicBezTo>
                <a:cubicBezTo>
                  <a:pt x="16112" y="6064"/>
                  <a:pt x="16057" y="6348"/>
                  <a:pt x="15999" y="6648"/>
                </a:cubicBezTo>
                <a:cubicBezTo>
                  <a:pt x="15999" y="6656"/>
                  <a:pt x="15999" y="6664"/>
                  <a:pt x="15999" y="6672"/>
                </a:cubicBezTo>
                <a:cubicBezTo>
                  <a:pt x="16264" y="6680"/>
                  <a:pt x="16528" y="6686"/>
                  <a:pt x="16793" y="6697"/>
                </a:cubicBezTo>
                <a:cubicBezTo>
                  <a:pt x="17401" y="6723"/>
                  <a:pt x="17997" y="6720"/>
                  <a:pt x="18604" y="6672"/>
                </a:cubicBezTo>
                <a:cubicBezTo>
                  <a:pt x="18751" y="6660"/>
                  <a:pt x="18953" y="6616"/>
                  <a:pt x="19100" y="6623"/>
                </a:cubicBezTo>
                <a:cubicBezTo>
                  <a:pt x="19210" y="6628"/>
                  <a:pt x="19317" y="6684"/>
                  <a:pt x="19422" y="6697"/>
                </a:cubicBezTo>
                <a:cubicBezTo>
                  <a:pt x="19454" y="6701"/>
                  <a:pt x="19488" y="6695"/>
                  <a:pt x="19521" y="6697"/>
                </a:cubicBezTo>
                <a:cubicBezTo>
                  <a:pt x="19530" y="6604"/>
                  <a:pt x="19526" y="6517"/>
                  <a:pt x="19521" y="6400"/>
                </a:cubicBezTo>
                <a:cubicBezTo>
                  <a:pt x="19508" y="6113"/>
                  <a:pt x="19525" y="5816"/>
                  <a:pt x="19546" y="5531"/>
                </a:cubicBezTo>
                <a:cubicBezTo>
                  <a:pt x="19567" y="5249"/>
                  <a:pt x="19571" y="4971"/>
                  <a:pt x="19571" y="4688"/>
                </a:cubicBezTo>
                <a:cubicBezTo>
                  <a:pt x="19571" y="4640"/>
                  <a:pt x="19579" y="4478"/>
                  <a:pt x="19546" y="4440"/>
                </a:cubicBezTo>
                <a:cubicBezTo>
                  <a:pt x="19500" y="4386"/>
                  <a:pt x="19283" y="4391"/>
                  <a:pt x="19224" y="4390"/>
                </a:cubicBezTo>
                <a:cubicBezTo>
                  <a:pt x="18947" y="4384"/>
                  <a:pt x="18680" y="4412"/>
                  <a:pt x="18405" y="4440"/>
                </a:cubicBezTo>
                <a:cubicBezTo>
                  <a:pt x="18123" y="4469"/>
                  <a:pt x="17844" y="4523"/>
                  <a:pt x="17562" y="4564"/>
                </a:cubicBezTo>
                <a:cubicBezTo>
                  <a:pt x="17348" y="4595"/>
                  <a:pt x="17126" y="4635"/>
                  <a:pt x="16917" y="4688"/>
                </a:cubicBezTo>
                <a:cubicBezTo>
                  <a:pt x="16660" y="4754"/>
                  <a:pt x="16403" y="4824"/>
                  <a:pt x="16148" y="4887"/>
                </a:cubicBezTo>
                <a:cubicBezTo>
                  <a:pt x="16045" y="4912"/>
                  <a:pt x="15929" y="4927"/>
                  <a:pt x="15825" y="4936"/>
                </a:cubicBezTo>
                <a:cubicBezTo>
                  <a:pt x="15746" y="4943"/>
                  <a:pt x="15690" y="4901"/>
                  <a:pt x="15677" y="4986"/>
                </a:cubicBezTo>
                <a:cubicBezTo>
                  <a:pt x="15664" y="5071"/>
                  <a:pt x="15789" y="5271"/>
                  <a:pt x="15825" y="5358"/>
                </a:cubicBezTo>
              </a:path>
              <a:path w="18307" h="2333">
                <a:moveTo>
                  <a:pt x="7541" y="6548"/>
                </a:moveTo>
                <a:cubicBezTo>
                  <a:pt x="7533" y="6540"/>
                  <a:pt x="7524" y="6532"/>
                  <a:pt x="7516" y="6524"/>
                </a:cubicBezTo>
                <a:cubicBezTo>
                  <a:pt x="7598" y="6475"/>
                  <a:pt x="7667" y="6482"/>
                  <a:pt x="7764" y="6499"/>
                </a:cubicBezTo>
                <a:cubicBezTo>
                  <a:pt x="7961" y="6534"/>
                  <a:pt x="8165" y="6536"/>
                  <a:pt x="8359" y="6524"/>
                </a:cubicBezTo>
                <a:cubicBezTo>
                  <a:pt x="8465" y="6518"/>
                  <a:pt x="8559" y="6518"/>
                  <a:pt x="8657" y="6524"/>
                </a:cubicBezTo>
                <a:cubicBezTo>
                  <a:pt x="8784" y="6532"/>
                  <a:pt x="8906" y="6527"/>
                  <a:pt x="9029" y="6499"/>
                </a:cubicBezTo>
                <a:cubicBezTo>
                  <a:pt x="9133" y="6475"/>
                  <a:pt x="9221" y="6453"/>
                  <a:pt x="9327" y="6449"/>
                </a:cubicBezTo>
                <a:cubicBezTo>
                  <a:pt x="9395" y="6446"/>
                  <a:pt x="9436" y="6439"/>
                  <a:pt x="9500" y="6424"/>
                </a:cubicBezTo>
                <a:cubicBezTo>
                  <a:pt x="9508" y="6424"/>
                  <a:pt x="9517" y="6424"/>
                  <a:pt x="9525" y="6424"/>
                </a:cubicBezTo>
              </a:path>
              <a:path w="18307" h="2333">
                <a:moveTo>
                  <a:pt x="7764" y="6400"/>
                </a:moveTo>
                <a:cubicBezTo>
                  <a:pt x="7996" y="6391"/>
                  <a:pt x="8226" y="6361"/>
                  <a:pt x="8458" y="6350"/>
                </a:cubicBezTo>
                <a:cubicBezTo>
                  <a:pt x="8582" y="6344"/>
                  <a:pt x="8657" y="6350"/>
                  <a:pt x="8781" y="6350"/>
                </a:cubicBezTo>
                <a:cubicBezTo>
                  <a:pt x="8501" y="6422"/>
                  <a:pt x="8219" y="6464"/>
                  <a:pt x="7938" y="6524"/>
                </a:cubicBezTo>
                <a:cubicBezTo>
                  <a:pt x="7896" y="6532"/>
                  <a:pt x="7855" y="6540"/>
                  <a:pt x="7813" y="6548"/>
                </a:cubicBezTo>
                <a:cubicBezTo>
                  <a:pt x="7825" y="6570"/>
                  <a:pt x="8010" y="6554"/>
                  <a:pt x="8136" y="6548"/>
                </a:cubicBezTo>
                <a:cubicBezTo>
                  <a:pt x="8536" y="6527"/>
                  <a:pt x="8930" y="6508"/>
                  <a:pt x="9327" y="6548"/>
                </a:cubicBezTo>
                <a:cubicBezTo>
                  <a:pt x="9315" y="6552"/>
                  <a:pt x="8916" y="6620"/>
                  <a:pt x="8830" y="6623"/>
                </a:cubicBezTo>
                <a:cubicBezTo>
                  <a:pt x="8561" y="6633"/>
                  <a:pt x="7782" y="6513"/>
                  <a:pt x="8037" y="6598"/>
                </a:cubicBezTo>
                <a:cubicBezTo>
                  <a:pt x="8087" y="6606"/>
                  <a:pt x="8136" y="6615"/>
                  <a:pt x="8186" y="6623"/>
                </a:cubicBezTo>
                <a:cubicBezTo>
                  <a:pt x="8565" y="6670"/>
                  <a:pt x="8897" y="6665"/>
                  <a:pt x="9277" y="66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82840" y="1598760"/>
            <a:ext cx="4464000" cy="196560"/>
          </a:xfrm>
          <a:custGeom>
            <a:avLst/>
            <a:gdLst/>
            <a:ahLst/>
            <a:rect l="l" t="t" r="r" b="b"/>
            <a:pathLst>
              <a:path w="12403" h="547">
                <a:moveTo>
                  <a:pt x="8334" y="4663"/>
                </a:moveTo>
                <a:cubicBezTo>
                  <a:pt x="8390" y="4674"/>
                  <a:pt x="8449" y="4695"/>
                  <a:pt x="8508" y="4688"/>
                </a:cubicBezTo>
                <a:cubicBezTo>
                  <a:pt x="8577" y="4679"/>
                  <a:pt x="8635" y="4665"/>
                  <a:pt x="8706" y="4663"/>
                </a:cubicBezTo>
                <a:cubicBezTo>
                  <a:pt x="8833" y="4659"/>
                  <a:pt x="8959" y="4650"/>
                  <a:pt x="9079" y="4638"/>
                </a:cubicBezTo>
                <a:cubicBezTo>
                  <a:pt x="9174" y="4628"/>
                  <a:pt x="9253" y="4593"/>
                  <a:pt x="9351" y="4589"/>
                </a:cubicBezTo>
                <a:cubicBezTo>
                  <a:pt x="9448" y="4585"/>
                  <a:pt x="9531" y="4578"/>
                  <a:pt x="9624" y="4564"/>
                </a:cubicBezTo>
                <a:cubicBezTo>
                  <a:pt x="9726" y="4548"/>
                  <a:pt x="9816" y="4539"/>
                  <a:pt x="9922" y="4539"/>
                </a:cubicBezTo>
                <a:cubicBezTo>
                  <a:pt x="10048" y="4539"/>
                  <a:pt x="10165" y="4514"/>
                  <a:pt x="10294" y="4514"/>
                </a:cubicBezTo>
                <a:cubicBezTo>
                  <a:pt x="10430" y="4514"/>
                  <a:pt x="10563" y="4527"/>
                  <a:pt x="10691" y="4539"/>
                </a:cubicBezTo>
                <a:cubicBezTo>
                  <a:pt x="10791" y="4548"/>
                  <a:pt x="10890" y="4561"/>
                  <a:pt x="10988" y="4564"/>
                </a:cubicBezTo>
                <a:cubicBezTo>
                  <a:pt x="11115" y="4568"/>
                  <a:pt x="11235" y="4586"/>
                  <a:pt x="11361" y="4589"/>
                </a:cubicBezTo>
                <a:cubicBezTo>
                  <a:pt x="11693" y="4597"/>
                  <a:pt x="12135" y="4627"/>
                  <a:pt x="12427" y="4564"/>
                </a:cubicBezTo>
                <a:cubicBezTo>
                  <a:pt x="12435" y="4564"/>
                  <a:pt x="12444" y="4564"/>
                  <a:pt x="12452" y="4564"/>
                </a:cubicBezTo>
              </a:path>
              <a:path w="12403" h="547">
                <a:moveTo>
                  <a:pt x="14808" y="4738"/>
                </a:moveTo>
                <a:cubicBezTo>
                  <a:pt x="14774" y="4710"/>
                  <a:pt x="14727" y="4678"/>
                  <a:pt x="14709" y="4663"/>
                </a:cubicBezTo>
                <a:cubicBezTo>
                  <a:pt x="14796" y="4663"/>
                  <a:pt x="14872" y="4645"/>
                  <a:pt x="14957" y="4638"/>
                </a:cubicBezTo>
                <a:cubicBezTo>
                  <a:pt x="15094" y="4626"/>
                  <a:pt x="15239" y="4663"/>
                  <a:pt x="15379" y="4663"/>
                </a:cubicBezTo>
                <a:cubicBezTo>
                  <a:pt x="15477" y="4663"/>
                  <a:pt x="15561" y="4673"/>
                  <a:pt x="15652" y="4688"/>
                </a:cubicBezTo>
                <a:cubicBezTo>
                  <a:pt x="15836" y="4717"/>
                  <a:pt x="16043" y="4680"/>
                  <a:pt x="16222" y="4663"/>
                </a:cubicBezTo>
                <a:cubicBezTo>
                  <a:pt x="16305" y="4655"/>
                  <a:pt x="16415" y="4661"/>
                  <a:pt x="16495" y="4638"/>
                </a:cubicBezTo>
                <a:cubicBezTo>
                  <a:pt x="16503" y="4630"/>
                  <a:pt x="16512" y="4622"/>
                  <a:pt x="16520" y="4614"/>
                </a:cubicBezTo>
              </a:path>
              <a:path w="12403" h="547">
                <a:moveTo>
                  <a:pt x="10864" y="4911"/>
                </a:moveTo>
                <a:cubicBezTo>
                  <a:pt x="10790" y="4889"/>
                  <a:pt x="10716" y="4877"/>
                  <a:pt x="10641" y="4862"/>
                </a:cubicBezTo>
                <a:cubicBezTo>
                  <a:pt x="10563" y="4846"/>
                  <a:pt x="10473" y="4818"/>
                  <a:pt x="10393" y="4812"/>
                </a:cubicBezTo>
                <a:cubicBezTo>
                  <a:pt x="10283" y="4803"/>
                  <a:pt x="10180" y="4800"/>
                  <a:pt x="10071" y="4787"/>
                </a:cubicBezTo>
                <a:cubicBezTo>
                  <a:pt x="9911" y="4768"/>
                  <a:pt x="9739" y="4744"/>
                  <a:pt x="9575" y="4762"/>
                </a:cubicBezTo>
                <a:cubicBezTo>
                  <a:pt x="9478" y="4772"/>
                  <a:pt x="9406" y="4777"/>
                  <a:pt x="9302" y="4762"/>
                </a:cubicBezTo>
                <a:cubicBezTo>
                  <a:pt x="9119" y="4736"/>
                  <a:pt x="8938" y="4757"/>
                  <a:pt x="8756" y="4738"/>
                </a:cubicBezTo>
                <a:cubicBezTo>
                  <a:pt x="8657" y="4728"/>
                  <a:pt x="8558" y="4695"/>
                  <a:pt x="8458" y="4688"/>
                </a:cubicBezTo>
                <a:cubicBezTo>
                  <a:pt x="8344" y="4680"/>
                  <a:pt x="8221" y="4669"/>
                  <a:pt x="8111" y="4663"/>
                </a:cubicBezTo>
                <a:cubicBezTo>
                  <a:pt x="8003" y="4657"/>
                  <a:pt x="7914" y="4659"/>
                  <a:pt x="7813" y="4638"/>
                </a:cubicBezTo>
                <a:cubicBezTo>
                  <a:pt x="7740" y="4622"/>
                  <a:pt x="7666" y="4603"/>
                  <a:pt x="7590" y="4589"/>
                </a:cubicBezTo>
                <a:cubicBezTo>
                  <a:pt x="7462" y="4566"/>
                  <a:pt x="7324" y="4526"/>
                  <a:pt x="7193" y="4514"/>
                </a:cubicBezTo>
                <a:cubicBezTo>
                  <a:pt x="7002" y="4497"/>
                  <a:pt x="6814" y="4480"/>
                  <a:pt x="6623" y="4465"/>
                </a:cubicBezTo>
                <a:cubicBezTo>
                  <a:pt x="6433" y="4450"/>
                  <a:pt x="6246" y="4440"/>
                  <a:pt x="6052" y="4440"/>
                </a:cubicBezTo>
                <a:cubicBezTo>
                  <a:pt x="5906" y="4440"/>
                  <a:pt x="5773" y="4479"/>
                  <a:pt x="5631" y="4490"/>
                </a:cubicBezTo>
                <a:cubicBezTo>
                  <a:pt x="5532" y="4498"/>
                  <a:pt x="5430" y="4495"/>
                  <a:pt x="5333" y="4514"/>
                </a:cubicBezTo>
                <a:cubicBezTo>
                  <a:pt x="5235" y="4533"/>
                  <a:pt x="5127" y="4562"/>
                  <a:pt x="5035" y="4589"/>
                </a:cubicBezTo>
                <a:cubicBezTo>
                  <a:pt x="4861" y="4641"/>
                  <a:pt x="4726" y="4737"/>
                  <a:pt x="4564" y="4812"/>
                </a:cubicBezTo>
                <a:cubicBezTo>
                  <a:pt x="4436" y="4872"/>
                  <a:pt x="4299" y="4942"/>
                  <a:pt x="4167" y="4986"/>
                </a:cubicBezTo>
                <a:cubicBezTo>
                  <a:pt x="4142" y="4986"/>
                  <a:pt x="4134" y="4986"/>
                  <a:pt x="4118" y="49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46120" y="1677960"/>
            <a:ext cx="108000" cy="162000"/>
          </a:xfrm>
          <a:custGeom>
            <a:avLst/>
            <a:gdLst/>
            <a:ahLst/>
            <a:rect l="l" t="t" r="r" b="b"/>
            <a:pathLst>
              <a:path w="299" h="448">
                <a:moveTo>
                  <a:pt x="4118" y="4663"/>
                </a:moveTo>
                <a:cubicBezTo>
                  <a:pt x="4101" y="4798"/>
                  <a:pt x="4051" y="4908"/>
                  <a:pt x="4018" y="5035"/>
                </a:cubicBezTo>
                <a:cubicBezTo>
                  <a:pt x="4018" y="5052"/>
                  <a:pt x="4018" y="5068"/>
                  <a:pt x="4018" y="5085"/>
                </a:cubicBezTo>
                <a:cubicBezTo>
                  <a:pt x="4108" y="5103"/>
                  <a:pt x="4194" y="5110"/>
                  <a:pt x="4291" y="5110"/>
                </a:cubicBezTo>
                <a:cubicBezTo>
                  <a:pt x="4299" y="5110"/>
                  <a:pt x="4308" y="5110"/>
                  <a:pt x="4316" y="51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24120" y="2320920"/>
            <a:ext cx="820800" cy="841320"/>
          </a:xfrm>
          <a:custGeom>
            <a:avLst/>
            <a:gdLst/>
            <a:ahLst/>
            <a:rect l="l" t="t" r="r" b="b"/>
            <a:pathLst>
              <a:path w="2283" h="2333">
                <a:moveTo>
                  <a:pt x="7590" y="6623"/>
                </a:moveTo>
                <a:cubicBezTo>
                  <a:pt x="7674" y="6609"/>
                  <a:pt x="7704" y="6584"/>
                  <a:pt x="7789" y="6573"/>
                </a:cubicBezTo>
                <a:cubicBezTo>
                  <a:pt x="7895" y="6559"/>
                  <a:pt x="8008" y="6547"/>
                  <a:pt x="8111" y="6524"/>
                </a:cubicBezTo>
                <a:cubicBezTo>
                  <a:pt x="8209" y="6502"/>
                  <a:pt x="8304" y="6502"/>
                  <a:pt x="8409" y="6499"/>
                </a:cubicBezTo>
                <a:cubicBezTo>
                  <a:pt x="8505" y="6496"/>
                  <a:pt x="8589" y="6478"/>
                  <a:pt x="8682" y="6474"/>
                </a:cubicBezTo>
                <a:cubicBezTo>
                  <a:pt x="8781" y="6470"/>
                  <a:pt x="8864" y="6461"/>
                  <a:pt x="8954" y="6449"/>
                </a:cubicBezTo>
                <a:cubicBezTo>
                  <a:pt x="9090" y="6431"/>
                  <a:pt x="9238" y="6449"/>
                  <a:pt x="9376" y="6449"/>
                </a:cubicBezTo>
              </a:path>
              <a:path w="2283" h="2333">
                <a:moveTo>
                  <a:pt x="8508" y="7045"/>
                </a:moveTo>
                <a:cubicBezTo>
                  <a:pt x="8400" y="7124"/>
                  <a:pt x="8321" y="7272"/>
                  <a:pt x="8359" y="7417"/>
                </a:cubicBezTo>
                <a:cubicBezTo>
                  <a:pt x="8376" y="7433"/>
                  <a:pt x="8392" y="7450"/>
                  <a:pt x="8409" y="7466"/>
                </a:cubicBezTo>
                <a:cubicBezTo>
                  <a:pt x="8496" y="7426"/>
                  <a:pt x="8651" y="7198"/>
                  <a:pt x="8483" y="7094"/>
                </a:cubicBezTo>
                <a:cubicBezTo>
                  <a:pt x="8423" y="7114"/>
                  <a:pt x="8408" y="7113"/>
                  <a:pt x="8384" y="7144"/>
                </a:cubicBezTo>
              </a:path>
              <a:path w="2283" h="2333">
                <a:moveTo>
                  <a:pt x="8781" y="7169"/>
                </a:moveTo>
                <a:cubicBezTo>
                  <a:pt x="8803" y="7241"/>
                  <a:pt x="8831" y="7280"/>
                  <a:pt x="8806" y="7293"/>
                </a:cubicBezTo>
                <a:cubicBezTo>
                  <a:pt x="8779" y="7242"/>
                  <a:pt x="8635" y="7022"/>
                  <a:pt x="8706" y="6970"/>
                </a:cubicBezTo>
                <a:cubicBezTo>
                  <a:pt x="8784" y="6944"/>
                  <a:pt x="8812" y="6937"/>
                  <a:pt x="8855" y="6995"/>
                </a:cubicBezTo>
              </a:path>
              <a:path w="2283" h="2333">
                <a:moveTo>
                  <a:pt x="8657" y="7888"/>
                </a:moveTo>
                <a:cubicBezTo>
                  <a:pt x="8589" y="7774"/>
                  <a:pt x="8516" y="7635"/>
                  <a:pt x="8359" y="7665"/>
                </a:cubicBezTo>
                <a:cubicBezTo>
                  <a:pt x="8117" y="7711"/>
                  <a:pt x="8296" y="8036"/>
                  <a:pt x="8334" y="8161"/>
                </a:cubicBezTo>
                <a:cubicBezTo>
                  <a:pt x="8396" y="8366"/>
                  <a:pt x="8503" y="8570"/>
                  <a:pt x="8533" y="8781"/>
                </a:cubicBezTo>
              </a:path>
              <a:path w="2283" h="2333">
                <a:moveTo>
                  <a:pt x="8235" y="8533"/>
                </a:moveTo>
                <a:cubicBezTo>
                  <a:pt x="8400" y="8471"/>
                  <a:pt x="8560" y="8379"/>
                  <a:pt x="8731" y="8334"/>
                </a:cubicBezTo>
                <a:cubicBezTo>
                  <a:pt x="8782" y="8321"/>
                  <a:pt x="8823" y="8496"/>
                  <a:pt x="8830" y="8533"/>
                </a:cubicBezTo>
                <a:cubicBezTo>
                  <a:pt x="8830" y="8549"/>
                  <a:pt x="8830" y="8566"/>
                  <a:pt x="8830" y="8582"/>
                </a:cubicBezTo>
                <a:cubicBezTo>
                  <a:pt x="8757" y="8523"/>
                  <a:pt x="8726" y="8392"/>
                  <a:pt x="8756" y="8285"/>
                </a:cubicBezTo>
                <a:cubicBezTo>
                  <a:pt x="8780" y="8199"/>
                  <a:pt x="8850" y="8131"/>
                  <a:pt x="8930" y="8111"/>
                </a:cubicBezTo>
                <a:cubicBezTo>
                  <a:pt x="8954" y="8236"/>
                  <a:pt x="8946" y="8360"/>
                  <a:pt x="9004" y="8483"/>
                </a:cubicBezTo>
                <a:cubicBezTo>
                  <a:pt x="9021" y="8500"/>
                  <a:pt x="9037" y="8516"/>
                  <a:pt x="9054" y="8533"/>
                </a:cubicBezTo>
                <a:cubicBezTo>
                  <a:pt x="9122" y="8437"/>
                  <a:pt x="9226" y="8301"/>
                  <a:pt x="9103" y="8186"/>
                </a:cubicBezTo>
                <a:cubicBezTo>
                  <a:pt x="9054" y="8161"/>
                  <a:pt x="9037" y="8152"/>
                  <a:pt x="9004" y="8136"/>
                </a:cubicBezTo>
              </a:path>
              <a:path w="2283" h="2333">
                <a:moveTo>
                  <a:pt x="9277" y="8235"/>
                </a:moveTo>
                <a:cubicBezTo>
                  <a:pt x="9340" y="8320"/>
                  <a:pt x="9353" y="8340"/>
                  <a:pt x="9401" y="8384"/>
                </a:cubicBezTo>
                <a:cubicBezTo>
                  <a:pt x="9340" y="8323"/>
                  <a:pt x="9273" y="8189"/>
                  <a:pt x="9327" y="8086"/>
                </a:cubicBezTo>
                <a:cubicBezTo>
                  <a:pt x="9377" y="7991"/>
                  <a:pt x="9562" y="8252"/>
                  <a:pt x="9575" y="8285"/>
                </a:cubicBezTo>
                <a:cubicBezTo>
                  <a:pt x="9575" y="8301"/>
                  <a:pt x="9575" y="8318"/>
                  <a:pt x="9575" y="8334"/>
                </a:cubicBezTo>
                <a:cubicBezTo>
                  <a:pt x="9575" y="8249"/>
                  <a:pt x="9543" y="8197"/>
                  <a:pt x="9575" y="8111"/>
                </a:cubicBezTo>
                <a:cubicBezTo>
                  <a:pt x="9637" y="7948"/>
                  <a:pt x="9807" y="8207"/>
                  <a:pt x="9823" y="8260"/>
                </a:cubicBezTo>
                <a:cubicBezTo>
                  <a:pt x="9853" y="8361"/>
                  <a:pt x="9867" y="8373"/>
                  <a:pt x="9823" y="84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7120" y="3919680"/>
            <a:ext cx="2054160" cy="706320"/>
          </a:xfrm>
          <a:custGeom>
            <a:avLst/>
            <a:gdLst/>
            <a:ahLst/>
            <a:rect l="l" t="t" r="r" b="b"/>
            <a:pathLst>
              <a:path w="5706" h="1961">
                <a:moveTo>
                  <a:pt x="1265" y="12229"/>
                </a:moveTo>
                <a:cubicBezTo>
                  <a:pt x="1327" y="12229"/>
                  <a:pt x="1171" y="12206"/>
                  <a:pt x="1141" y="12204"/>
                </a:cubicBezTo>
                <a:cubicBezTo>
                  <a:pt x="1103" y="12201"/>
                  <a:pt x="1126" y="12217"/>
                  <a:pt x="1091" y="12229"/>
                </a:cubicBezTo>
                <a:cubicBezTo>
                  <a:pt x="1182" y="12247"/>
                  <a:pt x="1194" y="12247"/>
                  <a:pt x="1290" y="12229"/>
                </a:cubicBezTo>
                <a:cubicBezTo>
                  <a:pt x="1298" y="12229"/>
                  <a:pt x="1307" y="12229"/>
                  <a:pt x="1315" y="12229"/>
                </a:cubicBezTo>
                <a:cubicBezTo>
                  <a:pt x="1236" y="12229"/>
                  <a:pt x="1161" y="12236"/>
                  <a:pt x="1091" y="12278"/>
                </a:cubicBezTo>
                <a:cubicBezTo>
                  <a:pt x="1031" y="12314"/>
                  <a:pt x="1175" y="12305"/>
                  <a:pt x="1240" y="12278"/>
                </a:cubicBezTo>
                <a:cubicBezTo>
                  <a:pt x="1323" y="12244"/>
                  <a:pt x="1055" y="12275"/>
                  <a:pt x="1042" y="12278"/>
                </a:cubicBezTo>
                <a:cubicBezTo>
                  <a:pt x="1025" y="12286"/>
                  <a:pt x="1009" y="12295"/>
                  <a:pt x="992" y="12303"/>
                </a:cubicBezTo>
                <a:cubicBezTo>
                  <a:pt x="1085" y="12303"/>
                  <a:pt x="1179" y="12292"/>
                  <a:pt x="1265" y="12254"/>
                </a:cubicBezTo>
                <a:cubicBezTo>
                  <a:pt x="1305" y="12237"/>
                  <a:pt x="1182" y="12263"/>
                  <a:pt x="1141" y="12278"/>
                </a:cubicBezTo>
              </a:path>
              <a:path w="5706" h="1961">
                <a:moveTo>
                  <a:pt x="2356" y="12750"/>
                </a:moveTo>
                <a:cubicBezTo>
                  <a:pt x="2420" y="12765"/>
                  <a:pt x="2492" y="12757"/>
                  <a:pt x="2555" y="12774"/>
                </a:cubicBezTo>
                <a:cubicBezTo>
                  <a:pt x="2641" y="12797"/>
                  <a:pt x="2738" y="12816"/>
                  <a:pt x="2828" y="12824"/>
                </a:cubicBezTo>
                <a:cubicBezTo>
                  <a:pt x="2927" y="12833"/>
                  <a:pt x="3028" y="12840"/>
                  <a:pt x="3125" y="12849"/>
                </a:cubicBezTo>
                <a:cubicBezTo>
                  <a:pt x="3261" y="12862"/>
                  <a:pt x="3390" y="12837"/>
                  <a:pt x="3522" y="12824"/>
                </a:cubicBezTo>
                <a:cubicBezTo>
                  <a:pt x="3606" y="12816"/>
                  <a:pt x="3691" y="12809"/>
                  <a:pt x="3770" y="12799"/>
                </a:cubicBezTo>
                <a:cubicBezTo>
                  <a:pt x="3885" y="12785"/>
                  <a:pt x="4001" y="12789"/>
                  <a:pt x="4118" y="12774"/>
                </a:cubicBezTo>
                <a:cubicBezTo>
                  <a:pt x="4268" y="12755"/>
                  <a:pt x="4414" y="12733"/>
                  <a:pt x="4564" y="12725"/>
                </a:cubicBezTo>
              </a:path>
              <a:path w="5706" h="1961">
                <a:moveTo>
                  <a:pt x="3473" y="11013"/>
                </a:moveTo>
                <a:cubicBezTo>
                  <a:pt x="3486" y="10959"/>
                  <a:pt x="3538" y="10906"/>
                  <a:pt x="3597" y="10889"/>
                </a:cubicBezTo>
                <a:cubicBezTo>
                  <a:pt x="3648" y="10875"/>
                  <a:pt x="3770" y="10926"/>
                  <a:pt x="3770" y="10988"/>
                </a:cubicBezTo>
                <a:cubicBezTo>
                  <a:pt x="3770" y="11104"/>
                  <a:pt x="3666" y="11159"/>
                  <a:pt x="3572" y="11187"/>
                </a:cubicBezTo>
                <a:cubicBezTo>
                  <a:pt x="3544" y="11187"/>
                  <a:pt x="3538" y="11185"/>
                  <a:pt x="3572" y="11162"/>
                </a:cubicBezTo>
                <a:cubicBezTo>
                  <a:pt x="3614" y="11151"/>
                  <a:pt x="3761" y="11131"/>
                  <a:pt x="3795" y="11187"/>
                </a:cubicBezTo>
                <a:cubicBezTo>
                  <a:pt x="3859" y="11293"/>
                  <a:pt x="3847" y="11376"/>
                  <a:pt x="3770" y="11460"/>
                </a:cubicBezTo>
                <a:cubicBezTo>
                  <a:pt x="3669" y="11570"/>
                  <a:pt x="3601" y="11562"/>
                  <a:pt x="3473" y="11534"/>
                </a:cubicBezTo>
                <a:cubicBezTo>
                  <a:pt x="3445" y="11534"/>
                  <a:pt x="3434" y="11532"/>
                  <a:pt x="3423" y="11509"/>
                </a:cubicBezTo>
              </a:path>
              <a:path w="5706" h="1961">
                <a:moveTo>
                  <a:pt x="5383" y="12799"/>
                </a:moveTo>
                <a:cubicBezTo>
                  <a:pt x="5592" y="12799"/>
                  <a:pt x="5799" y="12802"/>
                  <a:pt x="6003" y="12774"/>
                </a:cubicBezTo>
                <a:cubicBezTo>
                  <a:pt x="6086" y="12763"/>
                  <a:pt x="6169" y="12762"/>
                  <a:pt x="6251" y="12750"/>
                </a:cubicBezTo>
                <a:cubicBezTo>
                  <a:pt x="6366" y="12733"/>
                  <a:pt x="6522" y="12742"/>
                  <a:pt x="6623" y="12774"/>
                </a:cubicBezTo>
                <a:cubicBezTo>
                  <a:pt x="6642" y="12780"/>
                  <a:pt x="6677" y="12774"/>
                  <a:pt x="6697" y="12774"/>
                </a:cubicBezTo>
              </a:path>
              <a:path w="5706" h="1961">
                <a:moveTo>
                  <a:pt x="5829" y="11385"/>
                </a:moveTo>
                <a:cubicBezTo>
                  <a:pt x="5756" y="11385"/>
                  <a:pt x="6012" y="11387"/>
                  <a:pt x="6028" y="11385"/>
                </a:cubicBezTo>
                <a:cubicBezTo>
                  <a:pt x="6096" y="11376"/>
                  <a:pt x="6135" y="11361"/>
                  <a:pt x="6201" y="113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5840" y="4554360"/>
            <a:ext cx="1606320" cy="61920"/>
          </a:xfrm>
          <a:custGeom>
            <a:avLst/>
            <a:gdLst/>
            <a:ahLst/>
            <a:rect l="l" t="t" r="r" b="b"/>
            <a:pathLst>
              <a:path w="4465" h="175">
                <a:moveTo>
                  <a:pt x="7293" y="12650"/>
                </a:moveTo>
                <a:cubicBezTo>
                  <a:pt x="7327" y="12703"/>
                  <a:pt x="7317" y="12717"/>
                  <a:pt x="7367" y="12750"/>
                </a:cubicBezTo>
                <a:cubicBezTo>
                  <a:pt x="7438" y="12797"/>
                  <a:pt x="7484" y="12796"/>
                  <a:pt x="7565" y="12799"/>
                </a:cubicBezTo>
                <a:cubicBezTo>
                  <a:pt x="7790" y="12807"/>
                  <a:pt x="8013" y="12805"/>
                  <a:pt x="8235" y="12824"/>
                </a:cubicBezTo>
                <a:cubicBezTo>
                  <a:pt x="8435" y="12841"/>
                  <a:pt x="8636" y="12815"/>
                  <a:pt x="8830" y="12799"/>
                </a:cubicBezTo>
                <a:cubicBezTo>
                  <a:pt x="8918" y="12792"/>
                  <a:pt x="9029" y="12781"/>
                  <a:pt x="9103" y="12774"/>
                </a:cubicBezTo>
                <a:cubicBezTo>
                  <a:pt x="9187" y="12766"/>
                  <a:pt x="9269" y="12759"/>
                  <a:pt x="9351" y="12750"/>
                </a:cubicBezTo>
                <a:cubicBezTo>
                  <a:pt x="9514" y="12732"/>
                  <a:pt x="9689" y="12743"/>
                  <a:pt x="9847" y="12725"/>
                </a:cubicBezTo>
                <a:cubicBezTo>
                  <a:pt x="10001" y="12708"/>
                  <a:pt x="10170" y="12714"/>
                  <a:pt x="10319" y="12700"/>
                </a:cubicBezTo>
                <a:cubicBezTo>
                  <a:pt x="10478" y="12685"/>
                  <a:pt x="10635" y="12710"/>
                  <a:pt x="10790" y="12725"/>
                </a:cubicBezTo>
                <a:cubicBezTo>
                  <a:pt x="10920" y="12738"/>
                  <a:pt x="11038" y="12726"/>
                  <a:pt x="11162" y="12750"/>
                </a:cubicBezTo>
                <a:cubicBezTo>
                  <a:pt x="11245" y="12766"/>
                  <a:pt x="11324" y="12771"/>
                  <a:pt x="11410" y="12774"/>
                </a:cubicBezTo>
                <a:cubicBezTo>
                  <a:pt x="11563" y="12778"/>
                  <a:pt x="11650" y="12799"/>
                  <a:pt x="11733" y="12700"/>
                </a:cubicBezTo>
                <a:cubicBezTo>
                  <a:pt x="11733" y="12675"/>
                  <a:pt x="11733" y="12667"/>
                  <a:pt x="11757" y="126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52880" y="4027320"/>
            <a:ext cx="214200" cy="152640"/>
          </a:xfrm>
          <a:custGeom>
            <a:avLst/>
            <a:gdLst/>
            <a:ahLst/>
            <a:rect l="l" t="t" r="r" b="b"/>
            <a:pathLst>
              <a:path w="596" h="423">
                <a:moveTo>
                  <a:pt x="8756" y="11336"/>
                </a:moveTo>
                <a:cubicBezTo>
                  <a:pt x="8768" y="11275"/>
                  <a:pt x="8789" y="11225"/>
                  <a:pt x="8855" y="11212"/>
                </a:cubicBezTo>
                <a:cubicBezTo>
                  <a:pt x="8926" y="11198"/>
                  <a:pt x="8998" y="11359"/>
                  <a:pt x="9029" y="11410"/>
                </a:cubicBezTo>
                <a:cubicBezTo>
                  <a:pt x="9089" y="11509"/>
                  <a:pt x="9100" y="11550"/>
                  <a:pt x="9227" y="11559"/>
                </a:cubicBezTo>
                <a:cubicBezTo>
                  <a:pt x="9306" y="11565"/>
                  <a:pt x="9295" y="11548"/>
                  <a:pt x="9351" y="11534"/>
                </a:cubicBezTo>
              </a:path>
              <a:path w="596" h="423">
                <a:moveTo>
                  <a:pt x="9203" y="11187"/>
                </a:moveTo>
                <a:cubicBezTo>
                  <a:pt x="9077" y="11250"/>
                  <a:pt x="8931" y="11356"/>
                  <a:pt x="8830" y="11460"/>
                </a:cubicBezTo>
                <a:cubicBezTo>
                  <a:pt x="8785" y="11506"/>
                  <a:pt x="8756" y="11550"/>
                  <a:pt x="8756" y="116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97360" y="5205240"/>
            <a:ext cx="17640" cy="73080"/>
          </a:xfrm>
          <a:custGeom>
            <a:avLst/>
            <a:gdLst/>
            <a:ahLst/>
            <a:rect l="l" t="t" r="r" b="b"/>
            <a:pathLst>
              <a:path w="51" h="200">
                <a:moveTo>
                  <a:pt x="15875" y="14461"/>
                </a:moveTo>
                <a:cubicBezTo>
                  <a:pt x="15875" y="14515"/>
                  <a:pt x="15875" y="14589"/>
                  <a:pt x="15850" y="14635"/>
                </a:cubicBezTo>
                <a:cubicBezTo>
                  <a:pt x="15827" y="14658"/>
                  <a:pt x="15816" y="14666"/>
                  <a:pt x="15850" y="146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49880" y="4017960"/>
            <a:ext cx="1536840" cy="760320"/>
          </a:xfrm>
          <a:custGeom>
            <a:avLst/>
            <a:gdLst/>
            <a:ahLst/>
            <a:rect l="l" t="t" r="r" b="b"/>
            <a:pathLst>
              <a:path w="4268" h="2110">
                <a:moveTo>
                  <a:pt x="15329" y="11906"/>
                </a:moveTo>
                <a:cubicBezTo>
                  <a:pt x="15301" y="11850"/>
                  <a:pt x="15531" y="11717"/>
                  <a:pt x="15627" y="11708"/>
                </a:cubicBezTo>
                <a:cubicBezTo>
                  <a:pt x="15949" y="11678"/>
                  <a:pt x="15833" y="11983"/>
                  <a:pt x="15677" y="12105"/>
                </a:cubicBezTo>
                <a:cubicBezTo>
                  <a:pt x="15636" y="12121"/>
                  <a:pt x="15594" y="12138"/>
                  <a:pt x="15553" y="12154"/>
                </a:cubicBezTo>
                <a:cubicBezTo>
                  <a:pt x="15412" y="12130"/>
                  <a:pt x="15684" y="12136"/>
                  <a:pt x="15751" y="12204"/>
                </a:cubicBezTo>
                <a:cubicBezTo>
                  <a:pt x="15991" y="12445"/>
                  <a:pt x="15648" y="12670"/>
                  <a:pt x="15429" y="12700"/>
                </a:cubicBezTo>
                <a:cubicBezTo>
                  <a:pt x="15262" y="12723"/>
                  <a:pt x="15217" y="12682"/>
                  <a:pt x="15230" y="12576"/>
                </a:cubicBezTo>
              </a:path>
              <a:path w="4268" h="2110">
                <a:moveTo>
                  <a:pt x="16148" y="12204"/>
                </a:moveTo>
                <a:cubicBezTo>
                  <a:pt x="16268" y="12175"/>
                  <a:pt x="16500" y="12089"/>
                  <a:pt x="16619" y="12179"/>
                </a:cubicBezTo>
                <a:cubicBezTo>
                  <a:pt x="16619" y="12187"/>
                  <a:pt x="16619" y="12196"/>
                  <a:pt x="16619" y="12204"/>
                </a:cubicBezTo>
              </a:path>
              <a:path w="4268" h="2110">
                <a:moveTo>
                  <a:pt x="17090" y="12229"/>
                </a:moveTo>
                <a:cubicBezTo>
                  <a:pt x="17129" y="12125"/>
                  <a:pt x="17224" y="12063"/>
                  <a:pt x="17338" y="12154"/>
                </a:cubicBezTo>
                <a:cubicBezTo>
                  <a:pt x="17461" y="12253"/>
                  <a:pt x="17428" y="12451"/>
                  <a:pt x="17587" y="12551"/>
                </a:cubicBezTo>
                <a:cubicBezTo>
                  <a:pt x="17708" y="12627"/>
                  <a:pt x="17888" y="12561"/>
                  <a:pt x="18008" y="12526"/>
                </a:cubicBezTo>
              </a:path>
              <a:path w="4268" h="2110">
                <a:moveTo>
                  <a:pt x="17859" y="12005"/>
                </a:moveTo>
                <a:cubicBezTo>
                  <a:pt x="17744" y="12146"/>
                  <a:pt x="17617" y="12272"/>
                  <a:pt x="17487" y="12402"/>
                </a:cubicBezTo>
                <a:cubicBezTo>
                  <a:pt x="17437" y="12452"/>
                  <a:pt x="17308" y="12568"/>
                  <a:pt x="17289" y="12626"/>
                </a:cubicBezTo>
              </a:path>
              <a:path w="4268" h="2110">
                <a:moveTo>
                  <a:pt x="14585" y="11385"/>
                </a:moveTo>
                <a:cubicBezTo>
                  <a:pt x="14660" y="11618"/>
                  <a:pt x="14687" y="11830"/>
                  <a:pt x="14709" y="12080"/>
                </a:cubicBezTo>
                <a:cubicBezTo>
                  <a:pt x="14740" y="12433"/>
                  <a:pt x="14712" y="12748"/>
                  <a:pt x="14684" y="13097"/>
                </a:cubicBezTo>
                <a:cubicBezTo>
                  <a:pt x="14684" y="13171"/>
                  <a:pt x="14709" y="13204"/>
                  <a:pt x="14660" y="13196"/>
                </a:cubicBezTo>
                <a:cubicBezTo>
                  <a:pt x="14861" y="13219"/>
                  <a:pt x="15089" y="13193"/>
                  <a:pt x="15304" y="13196"/>
                </a:cubicBezTo>
                <a:cubicBezTo>
                  <a:pt x="15908" y="13206"/>
                  <a:pt x="16511" y="13255"/>
                  <a:pt x="17115" y="13271"/>
                </a:cubicBezTo>
                <a:cubicBezTo>
                  <a:pt x="17571" y="13283"/>
                  <a:pt x="18024" y="13262"/>
                  <a:pt x="18479" y="13246"/>
                </a:cubicBezTo>
                <a:cubicBezTo>
                  <a:pt x="18602" y="13242"/>
                  <a:pt x="18728" y="13246"/>
                  <a:pt x="18852" y="13246"/>
                </a:cubicBezTo>
                <a:cubicBezTo>
                  <a:pt x="18843" y="13087"/>
                  <a:pt x="18829" y="12935"/>
                  <a:pt x="18827" y="12774"/>
                </a:cubicBezTo>
                <a:cubicBezTo>
                  <a:pt x="18822" y="12418"/>
                  <a:pt x="18807" y="12064"/>
                  <a:pt x="18802" y="11708"/>
                </a:cubicBezTo>
                <a:cubicBezTo>
                  <a:pt x="18800" y="11576"/>
                  <a:pt x="18834" y="11437"/>
                  <a:pt x="18827" y="11311"/>
                </a:cubicBezTo>
                <a:cubicBezTo>
                  <a:pt x="18825" y="11274"/>
                  <a:pt x="18807" y="11288"/>
                  <a:pt x="18802" y="11237"/>
                </a:cubicBezTo>
                <a:cubicBezTo>
                  <a:pt x="18802" y="11229"/>
                  <a:pt x="18802" y="11220"/>
                  <a:pt x="18802" y="11212"/>
                </a:cubicBezTo>
                <a:cubicBezTo>
                  <a:pt x="18692" y="11191"/>
                  <a:pt x="18603" y="11202"/>
                  <a:pt x="18479" y="11212"/>
                </a:cubicBezTo>
                <a:cubicBezTo>
                  <a:pt x="18373" y="11220"/>
                  <a:pt x="18260" y="11230"/>
                  <a:pt x="18157" y="11237"/>
                </a:cubicBezTo>
                <a:cubicBezTo>
                  <a:pt x="18004" y="11247"/>
                  <a:pt x="17815" y="11225"/>
                  <a:pt x="17661" y="11212"/>
                </a:cubicBezTo>
                <a:cubicBezTo>
                  <a:pt x="17449" y="11194"/>
                  <a:pt x="17229" y="11148"/>
                  <a:pt x="17016" y="11162"/>
                </a:cubicBezTo>
                <a:cubicBezTo>
                  <a:pt x="16810" y="11175"/>
                  <a:pt x="16601" y="11201"/>
                  <a:pt x="16396" y="11212"/>
                </a:cubicBezTo>
                <a:cubicBezTo>
                  <a:pt x="16278" y="11218"/>
                  <a:pt x="16166" y="11234"/>
                  <a:pt x="16049" y="11237"/>
                </a:cubicBezTo>
                <a:cubicBezTo>
                  <a:pt x="15832" y="11242"/>
                  <a:pt x="15618" y="11244"/>
                  <a:pt x="15404" y="11261"/>
                </a:cubicBezTo>
                <a:cubicBezTo>
                  <a:pt x="15234" y="11274"/>
                  <a:pt x="15039" y="11274"/>
                  <a:pt x="14883" y="11286"/>
                </a:cubicBezTo>
                <a:cubicBezTo>
                  <a:pt x="14798" y="11293"/>
                  <a:pt x="14708" y="11301"/>
                  <a:pt x="14635" y="11311"/>
                </a:cubicBezTo>
                <a:cubicBezTo>
                  <a:pt x="14627" y="11311"/>
                  <a:pt x="14618" y="11311"/>
                  <a:pt x="14610" y="113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693396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bjective:  Students will write algebraic expressions to represent unknown quantities</a:t>
            </a:r>
            <a:endParaRPr b="0" lang="en-US" sz="2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Translate each into an algebraic expression or equation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The sum of six and a number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A number less eight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The difference of a number and two increased by nine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The quotient of a number and six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The product of a number and two is eight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588520" y="831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15720" y="-458640"/>
            <a:ext cx="480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Grande"/>
              </a:rPr>
              <a:t>Arial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3200" y="2071800"/>
            <a:ext cx="277920" cy="90360"/>
          </a:xfrm>
          <a:custGeom>
            <a:avLst/>
            <a:gdLst/>
            <a:ahLst/>
            <a:rect l="l" t="t" r="r" b="b"/>
            <a:pathLst>
              <a:path w="770" h="249">
                <a:moveTo>
                  <a:pt x="546" y="5779"/>
                </a:moveTo>
                <a:cubicBezTo>
                  <a:pt x="612" y="5758"/>
                  <a:pt x="644" y="5773"/>
                  <a:pt x="744" y="5779"/>
                </a:cubicBezTo>
                <a:cubicBezTo>
                  <a:pt x="803" y="5783"/>
                  <a:pt x="1086" y="5775"/>
                  <a:pt x="1067" y="5779"/>
                </a:cubicBezTo>
                <a:cubicBezTo>
                  <a:pt x="852" y="5822"/>
                  <a:pt x="637" y="5862"/>
                  <a:pt x="422" y="5904"/>
                </a:cubicBezTo>
                <a:cubicBezTo>
                  <a:pt x="372" y="5940"/>
                  <a:pt x="365" y="5939"/>
                  <a:pt x="446" y="5928"/>
                </a:cubicBezTo>
                <a:cubicBezTo>
                  <a:pt x="632" y="5904"/>
                  <a:pt x="853" y="5838"/>
                  <a:pt x="1042" y="5879"/>
                </a:cubicBezTo>
                <a:cubicBezTo>
                  <a:pt x="1077" y="5887"/>
                  <a:pt x="676" y="5971"/>
                  <a:pt x="595" y="5978"/>
                </a:cubicBezTo>
                <a:cubicBezTo>
                  <a:pt x="478" y="5988"/>
                  <a:pt x="627" y="6011"/>
                  <a:pt x="744" y="6003"/>
                </a:cubicBezTo>
                <a:cubicBezTo>
                  <a:pt x="793" y="6000"/>
                  <a:pt x="1135" y="5953"/>
                  <a:pt x="1116" y="5953"/>
                </a:cubicBezTo>
                <a:cubicBezTo>
                  <a:pt x="913" y="5944"/>
                  <a:pt x="744" y="5941"/>
                  <a:pt x="546" y="5978"/>
                </a:cubicBezTo>
                <a:cubicBezTo>
                  <a:pt x="415" y="6002"/>
                  <a:pt x="810" y="5987"/>
                  <a:pt x="943" y="59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20840" y="1544760"/>
            <a:ext cx="3983040" cy="911160"/>
          </a:xfrm>
          <a:custGeom>
            <a:avLst/>
            <a:gdLst/>
            <a:ahLst/>
            <a:rect l="l" t="t" r="r" b="b"/>
            <a:pathLst>
              <a:path w="11064" h="2531">
                <a:moveTo>
                  <a:pt x="3671" y="6400"/>
                </a:moveTo>
                <a:cubicBezTo>
                  <a:pt x="3715" y="6443"/>
                  <a:pt x="3715" y="6471"/>
                  <a:pt x="3770" y="6499"/>
                </a:cubicBezTo>
                <a:cubicBezTo>
                  <a:pt x="3935" y="6582"/>
                  <a:pt x="3993" y="6449"/>
                  <a:pt x="4142" y="6449"/>
                </a:cubicBezTo>
                <a:cubicBezTo>
                  <a:pt x="4222" y="6449"/>
                  <a:pt x="4245" y="6546"/>
                  <a:pt x="4341" y="6598"/>
                </a:cubicBezTo>
                <a:cubicBezTo>
                  <a:pt x="4470" y="6668"/>
                  <a:pt x="4587" y="6561"/>
                  <a:pt x="4688" y="6573"/>
                </a:cubicBezTo>
                <a:cubicBezTo>
                  <a:pt x="4748" y="6580"/>
                  <a:pt x="4770" y="6640"/>
                  <a:pt x="4862" y="6648"/>
                </a:cubicBezTo>
                <a:cubicBezTo>
                  <a:pt x="4981" y="6658"/>
                  <a:pt x="5103" y="6581"/>
                  <a:pt x="5209" y="6598"/>
                </a:cubicBezTo>
                <a:cubicBezTo>
                  <a:pt x="5314" y="6615"/>
                  <a:pt x="5410" y="6676"/>
                  <a:pt x="5531" y="6672"/>
                </a:cubicBezTo>
                <a:cubicBezTo>
                  <a:pt x="5733" y="6665"/>
                  <a:pt x="5951" y="6600"/>
                  <a:pt x="6152" y="6623"/>
                </a:cubicBezTo>
                <a:cubicBezTo>
                  <a:pt x="6357" y="6646"/>
                  <a:pt x="6410" y="6756"/>
                  <a:pt x="6648" y="6747"/>
                </a:cubicBezTo>
                <a:cubicBezTo>
                  <a:pt x="6835" y="6740"/>
                  <a:pt x="6958" y="6791"/>
                  <a:pt x="7119" y="6821"/>
                </a:cubicBezTo>
                <a:cubicBezTo>
                  <a:pt x="7269" y="6849"/>
                  <a:pt x="7418" y="6777"/>
                  <a:pt x="7565" y="6796"/>
                </a:cubicBezTo>
                <a:cubicBezTo>
                  <a:pt x="7625" y="6804"/>
                  <a:pt x="7677" y="6817"/>
                  <a:pt x="7739" y="6821"/>
                </a:cubicBezTo>
              </a:path>
              <a:path w="11064" h="2531">
                <a:moveTo>
                  <a:pt x="5804" y="5333"/>
                </a:moveTo>
                <a:cubicBezTo>
                  <a:pt x="5779" y="5333"/>
                  <a:pt x="5771" y="5333"/>
                  <a:pt x="5779" y="5308"/>
                </a:cubicBezTo>
                <a:cubicBezTo>
                  <a:pt x="5779" y="5440"/>
                  <a:pt x="5779" y="5573"/>
                  <a:pt x="5779" y="5705"/>
                </a:cubicBezTo>
                <a:cubicBezTo>
                  <a:pt x="5761" y="5596"/>
                  <a:pt x="5734" y="5496"/>
                  <a:pt x="5730" y="5383"/>
                </a:cubicBezTo>
                <a:cubicBezTo>
                  <a:pt x="5729" y="5342"/>
                  <a:pt x="5730" y="5300"/>
                  <a:pt x="5730" y="5259"/>
                </a:cubicBezTo>
              </a:path>
              <a:path w="11064" h="2531">
                <a:moveTo>
                  <a:pt x="5457" y="5482"/>
                </a:moveTo>
                <a:cubicBezTo>
                  <a:pt x="5551" y="5459"/>
                  <a:pt x="5672" y="5440"/>
                  <a:pt x="5779" y="5432"/>
                </a:cubicBezTo>
                <a:cubicBezTo>
                  <a:pt x="5817" y="5429"/>
                  <a:pt x="6051" y="5432"/>
                  <a:pt x="6003" y="5432"/>
                </a:cubicBezTo>
                <a:cubicBezTo>
                  <a:pt x="5865" y="5432"/>
                  <a:pt x="5739" y="5434"/>
                  <a:pt x="5606" y="5407"/>
                </a:cubicBezTo>
              </a:path>
              <a:path w="11064" h="2531">
                <a:moveTo>
                  <a:pt x="8037" y="6573"/>
                </a:moveTo>
                <a:cubicBezTo>
                  <a:pt x="8077" y="6599"/>
                  <a:pt x="8049" y="6686"/>
                  <a:pt x="8111" y="6722"/>
                </a:cubicBezTo>
                <a:cubicBezTo>
                  <a:pt x="8213" y="6781"/>
                  <a:pt x="8269" y="6689"/>
                  <a:pt x="8334" y="6623"/>
                </a:cubicBezTo>
                <a:cubicBezTo>
                  <a:pt x="8344" y="6654"/>
                  <a:pt x="8407" y="6796"/>
                  <a:pt x="8458" y="6796"/>
                </a:cubicBezTo>
                <a:cubicBezTo>
                  <a:pt x="8532" y="6796"/>
                  <a:pt x="8561" y="6750"/>
                  <a:pt x="8582" y="6697"/>
                </a:cubicBezTo>
                <a:cubicBezTo>
                  <a:pt x="8660" y="6717"/>
                  <a:pt x="8678" y="6759"/>
                  <a:pt x="8781" y="6747"/>
                </a:cubicBezTo>
                <a:cubicBezTo>
                  <a:pt x="8877" y="6736"/>
                  <a:pt x="8940" y="6706"/>
                  <a:pt x="8855" y="6672"/>
                </a:cubicBezTo>
              </a:path>
              <a:path w="11064" h="2531">
                <a:moveTo>
                  <a:pt x="8434" y="4837"/>
                </a:moveTo>
                <a:cubicBezTo>
                  <a:pt x="8399" y="4907"/>
                  <a:pt x="8353" y="5052"/>
                  <a:pt x="8334" y="5135"/>
                </a:cubicBezTo>
                <a:cubicBezTo>
                  <a:pt x="8321" y="5194"/>
                  <a:pt x="8303" y="5286"/>
                  <a:pt x="8334" y="5333"/>
                </a:cubicBezTo>
                <a:cubicBezTo>
                  <a:pt x="8360" y="5372"/>
                  <a:pt x="8462" y="5415"/>
                  <a:pt x="8508" y="5407"/>
                </a:cubicBezTo>
                <a:cubicBezTo>
                  <a:pt x="8592" y="5392"/>
                  <a:pt x="8639" y="5365"/>
                  <a:pt x="8706" y="5333"/>
                </a:cubicBezTo>
                <a:cubicBezTo>
                  <a:pt x="8738" y="5318"/>
                  <a:pt x="8795" y="5248"/>
                  <a:pt x="8806" y="5209"/>
                </a:cubicBezTo>
                <a:cubicBezTo>
                  <a:pt x="8806" y="5192"/>
                  <a:pt x="8806" y="5176"/>
                  <a:pt x="8806" y="5159"/>
                </a:cubicBezTo>
                <a:cubicBezTo>
                  <a:pt x="8755" y="5147"/>
                  <a:pt x="8719" y="5096"/>
                  <a:pt x="8657" y="5110"/>
                </a:cubicBezTo>
                <a:cubicBezTo>
                  <a:pt x="8609" y="5121"/>
                  <a:pt x="8545" y="5190"/>
                  <a:pt x="8533" y="5234"/>
                </a:cubicBezTo>
                <a:cubicBezTo>
                  <a:pt x="8519" y="5286"/>
                  <a:pt x="8558" y="5330"/>
                  <a:pt x="8558" y="5383"/>
                </a:cubicBezTo>
                <a:cubicBezTo>
                  <a:pt x="8558" y="5407"/>
                  <a:pt x="8558" y="5415"/>
                  <a:pt x="8582" y="5407"/>
                </a:cubicBezTo>
              </a:path>
              <a:path w="11064" h="2531">
                <a:moveTo>
                  <a:pt x="11137" y="6573"/>
                </a:moveTo>
                <a:cubicBezTo>
                  <a:pt x="11145" y="6667"/>
                  <a:pt x="11134" y="6726"/>
                  <a:pt x="11237" y="6747"/>
                </a:cubicBezTo>
                <a:cubicBezTo>
                  <a:pt x="11485" y="6797"/>
                  <a:pt x="11800" y="6759"/>
                  <a:pt x="12055" y="6772"/>
                </a:cubicBezTo>
                <a:cubicBezTo>
                  <a:pt x="12347" y="6787"/>
                  <a:pt x="12659" y="6791"/>
                  <a:pt x="12948" y="6747"/>
                </a:cubicBezTo>
                <a:cubicBezTo>
                  <a:pt x="13143" y="6717"/>
                  <a:pt x="13347" y="6688"/>
                  <a:pt x="13543" y="6672"/>
                </a:cubicBezTo>
                <a:cubicBezTo>
                  <a:pt x="13724" y="6657"/>
                  <a:pt x="13909" y="6633"/>
                  <a:pt x="14089" y="6623"/>
                </a:cubicBezTo>
                <a:cubicBezTo>
                  <a:pt x="14247" y="6614"/>
                  <a:pt x="14410" y="6587"/>
                  <a:pt x="14560" y="6573"/>
                </a:cubicBezTo>
                <a:cubicBezTo>
                  <a:pt x="14620" y="6568"/>
                  <a:pt x="14686" y="6593"/>
                  <a:pt x="14709" y="6548"/>
                </a:cubicBezTo>
                <a:cubicBezTo>
                  <a:pt x="14733" y="6499"/>
                  <a:pt x="14709" y="6503"/>
                  <a:pt x="14709" y="6449"/>
                </a:cubicBezTo>
              </a:path>
              <a:path w="11064" h="2531">
                <a:moveTo>
                  <a:pt x="11733" y="5407"/>
                </a:moveTo>
                <a:cubicBezTo>
                  <a:pt x="11803" y="5314"/>
                  <a:pt x="11889" y="5201"/>
                  <a:pt x="12005" y="5159"/>
                </a:cubicBezTo>
                <a:cubicBezTo>
                  <a:pt x="12131" y="5113"/>
                  <a:pt x="12129" y="5260"/>
                  <a:pt x="12129" y="5333"/>
                </a:cubicBezTo>
                <a:cubicBezTo>
                  <a:pt x="12129" y="5358"/>
                  <a:pt x="12129" y="5366"/>
                  <a:pt x="12129" y="5383"/>
                </a:cubicBezTo>
                <a:cubicBezTo>
                  <a:pt x="12161" y="5325"/>
                  <a:pt x="12202" y="5234"/>
                  <a:pt x="12278" y="5209"/>
                </a:cubicBezTo>
                <a:cubicBezTo>
                  <a:pt x="12341" y="5188"/>
                  <a:pt x="12447" y="5220"/>
                  <a:pt x="12477" y="5283"/>
                </a:cubicBezTo>
                <a:cubicBezTo>
                  <a:pt x="12485" y="5299"/>
                  <a:pt x="12477" y="5360"/>
                  <a:pt x="12477" y="5383"/>
                </a:cubicBezTo>
                <a:cubicBezTo>
                  <a:pt x="12516" y="5298"/>
                  <a:pt x="12537" y="5265"/>
                  <a:pt x="12626" y="5209"/>
                </a:cubicBezTo>
                <a:cubicBezTo>
                  <a:pt x="12686" y="5171"/>
                  <a:pt x="12771" y="5166"/>
                  <a:pt x="12824" y="5209"/>
                </a:cubicBezTo>
                <a:cubicBezTo>
                  <a:pt x="12891" y="5263"/>
                  <a:pt x="12850" y="5322"/>
                  <a:pt x="12874" y="5383"/>
                </a:cubicBezTo>
                <a:cubicBezTo>
                  <a:pt x="12919" y="5497"/>
                  <a:pt x="13115" y="5390"/>
                  <a:pt x="13171" y="5358"/>
                </a:cubicBezTo>
                <a:cubicBezTo>
                  <a:pt x="13171" y="5333"/>
                  <a:pt x="13171" y="5325"/>
                  <a:pt x="13196" y="5333"/>
                </a:cubicBezTo>
              </a:path>
              <a:path w="11064" h="2531">
                <a:moveTo>
                  <a:pt x="6152" y="5135"/>
                </a:moveTo>
                <a:cubicBezTo>
                  <a:pt x="6121" y="5115"/>
                  <a:pt x="6062" y="5069"/>
                  <a:pt x="6028" y="5060"/>
                </a:cubicBezTo>
                <a:cubicBezTo>
                  <a:pt x="5932" y="5034"/>
                  <a:pt x="5854" y="5032"/>
                  <a:pt x="5755" y="5060"/>
                </a:cubicBezTo>
                <a:cubicBezTo>
                  <a:pt x="5644" y="5092"/>
                  <a:pt x="5503" y="5121"/>
                  <a:pt x="5407" y="5184"/>
                </a:cubicBezTo>
                <a:cubicBezTo>
                  <a:pt x="5325" y="5238"/>
                  <a:pt x="5274" y="5324"/>
                  <a:pt x="5234" y="5407"/>
                </a:cubicBezTo>
                <a:cubicBezTo>
                  <a:pt x="5191" y="5498"/>
                  <a:pt x="5206" y="5586"/>
                  <a:pt x="5234" y="5680"/>
                </a:cubicBezTo>
                <a:cubicBezTo>
                  <a:pt x="5255" y="5751"/>
                  <a:pt x="5287" y="5840"/>
                  <a:pt x="5358" y="5879"/>
                </a:cubicBezTo>
                <a:cubicBezTo>
                  <a:pt x="5455" y="5933"/>
                  <a:pt x="5597" y="5945"/>
                  <a:pt x="5705" y="5928"/>
                </a:cubicBezTo>
                <a:cubicBezTo>
                  <a:pt x="5820" y="5910"/>
                  <a:pt x="5901" y="5886"/>
                  <a:pt x="6003" y="5829"/>
                </a:cubicBezTo>
                <a:cubicBezTo>
                  <a:pt x="6091" y="5780"/>
                  <a:pt x="6155" y="5702"/>
                  <a:pt x="6226" y="5631"/>
                </a:cubicBezTo>
                <a:cubicBezTo>
                  <a:pt x="6280" y="5577"/>
                  <a:pt x="6296" y="5534"/>
                  <a:pt x="6300" y="5457"/>
                </a:cubicBezTo>
                <a:cubicBezTo>
                  <a:pt x="6303" y="5395"/>
                  <a:pt x="6314" y="5312"/>
                  <a:pt x="6276" y="5259"/>
                </a:cubicBezTo>
                <a:cubicBezTo>
                  <a:pt x="6228" y="5192"/>
                  <a:pt x="6150" y="5188"/>
                  <a:pt x="6102" y="5135"/>
                </a:cubicBezTo>
                <a:cubicBezTo>
                  <a:pt x="6102" y="5127"/>
                  <a:pt x="6102" y="5118"/>
                  <a:pt x="6102" y="5110"/>
                </a:cubicBezTo>
              </a:path>
              <a:path w="11064" h="2531">
                <a:moveTo>
                  <a:pt x="6350" y="5407"/>
                </a:moveTo>
                <a:cubicBezTo>
                  <a:pt x="6386" y="5397"/>
                  <a:pt x="6415" y="5392"/>
                  <a:pt x="6449" y="5383"/>
                </a:cubicBezTo>
                <a:cubicBezTo>
                  <a:pt x="6538" y="5359"/>
                  <a:pt x="6616" y="5310"/>
                  <a:pt x="6697" y="5283"/>
                </a:cubicBezTo>
                <a:cubicBezTo>
                  <a:pt x="6812" y="5244"/>
                  <a:pt x="6900" y="5215"/>
                  <a:pt x="6995" y="5135"/>
                </a:cubicBezTo>
                <a:cubicBezTo>
                  <a:pt x="7078" y="5065"/>
                  <a:pt x="7148" y="4987"/>
                  <a:pt x="7218" y="4911"/>
                </a:cubicBezTo>
                <a:cubicBezTo>
                  <a:pt x="7282" y="4843"/>
                  <a:pt x="7363" y="4752"/>
                  <a:pt x="7441" y="4688"/>
                </a:cubicBezTo>
                <a:cubicBezTo>
                  <a:pt x="7533" y="4613"/>
                  <a:pt x="7630" y="4518"/>
                  <a:pt x="7739" y="4465"/>
                </a:cubicBezTo>
                <a:cubicBezTo>
                  <a:pt x="7798" y="4436"/>
                  <a:pt x="7855" y="4393"/>
                  <a:pt x="7913" y="4366"/>
                </a:cubicBezTo>
                <a:cubicBezTo>
                  <a:pt x="8004" y="4324"/>
                  <a:pt x="8064" y="4319"/>
                  <a:pt x="8161" y="4316"/>
                </a:cubicBezTo>
                <a:cubicBezTo>
                  <a:pt x="8227" y="4314"/>
                  <a:pt x="8342" y="4285"/>
                  <a:pt x="8409" y="4291"/>
                </a:cubicBezTo>
                <a:cubicBezTo>
                  <a:pt x="8505" y="4300"/>
                  <a:pt x="8613" y="4321"/>
                  <a:pt x="8706" y="4341"/>
                </a:cubicBezTo>
                <a:cubicBezTo>
                  <a:pt x="8801" y="4362"/>
                  <a:pt x="8865" y="4387"/>
                  <a:pt x="8954" y="4415"/>
                </a:cubicBezTo>
                <a:cubicBezTo>
                  <a:pt x="9028" y="4438"/>
                  <a:pt x="9102" y="4467"/>
                  <a:pt x="9178" y="4490"/>
                </a:cubicBezTo>
                <a:cubicBezTo>
                  <a:pt x="9301" y="4528"/>
                  <a:pt x="9395" y="4573"/>
                  <a:pt x="9500" y="4638"/>
                </a:cubicBezTo>
                <a:cubicBezTo>
                  <a:pt x="9561" y="4676"/>
                  <a:pt x="9593" y="4716"/>
                  <a:pt x="9649" y="4762"/>
                </a:cubicBezTo>
                <a:cubicBezTo>
                  <a:pt x="9720" y="4820"/>
                  <a:pt x="9758" y="4853"/>
                  <a:pt x="9798" y="4936"/>
                </a:cubicBezTo>
                <a:cubicBezTo>
                  <a:pt x="9840" y="5023"/>
                  <a:pt x="9890" y="5090"/>
                  <a:pt x="9922" y="5184"/>
                </a:cubicBezTo>
                <a:cubicBezTo>
                  <a:pt x="9939" y="5236"/>
                  <a:pt x="10025" y="5322"/>
                  <a:pt x="9971" y="5333"/>
                </a:cubicBezTo>
                <a:cubicBezTo>
                  <a:pt x="9949" y="5337"/>
                  <a:pt x="9856" y="5215"/>
                  <a:pt x="9847" y="5209"/>
                </a:cubicBezTo>
                <a:cubicBezTo>
                  <a:pt x="9819" y="5209"/>
                  <a:pt x="9809" y="5206"/>
                  <a:pt x="9798" y="5184"/>
                </a:cubicBezTo>
                <a:cubicBezTo>
                  <a:pt x="9828" y="5207"/>
                  <a:pt x="9897" y="5278"/>
                  <a:pt x="9947" y="5283"/>
                </a:cubicBezTo>
                <a:cubicBezTo>
                  <a:pt x="10058" y="5295"/>
                  <a:pt x="10049" y="5153"/>
                  <a:pt x="10120" y="5110"/>
                </a:cubicBezTo>
                <a:cubicBezTo>
                  <a:pt x="10138" y="5099"/>
                  <a:pt x="10198" y="5096"/>
                  <a:pt x="10220" y="50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5920" y="2643120"/>
            <a:ext cx="2455920" cy="1312920"/>
          </a:xfrm>
          <a:custGeom>
            <a:avLst/>
            <a:gdLst/>
            <a:ahLst/>
            <a:rect l="l" t="t" r="r" b="b"/>
            <a:pathLst>
              <a:path w="6823" h="3647">
                <a:moveTo>
                  <a:pt x="372" y="8830"/>
                </a:moveTo>
                <a:cubicBezTo>
                  <a:pt x="428" y="8756"/>
                  <a:pt x="622" y="8703"/>
                  <a:pt x="719" y="8682"/>
                </a:cubicBezTo>
                <a:cubicBezTo>
                  <a:pt x="845" y="8655"/>
                  <a:pt x="964" y="8657"/>
                  <a:pt x="1091" y="8657"/>
                </a:cubicBezTo>
                <a:cubicBezTo>
                  <a:pt x="917" y="8679"/>
                  <a:pt x="719" y="8739"/>
                  <a:pt x="546" y="8781"/>
                </a:cubicBezTo>
                <a:cubicBezTo>
                  <a:pt x="419" y="8817"/>
                  <a:pt x="395" y="8799"/>
                  <a:pt x="347" y="8855"/>
                </a:cubicBezTo>
                <a:cubicBezTo>
                  <a:pt x="587" y="8855"/>
                  <a:pt x="806" y="8808"/>
                  <a:pt x="1042" y="8781"/>
                </a:cubicBezTo>
                <a:cubicBezTo>
                  <a:pt x="1116" y="8781"/>
                  <a:pt x="1149" y="8806"/>
                  <a:pt x="1141" y="8756"/>
                </a:cubicBezTo>
              </a:path>
              <a:path w="6823" h="3647">
                <a:moveTo>
                  <a:pt x="3249" y="9103"/>
                </a:moveTo>
                <a:cubicBezTo>
                  <a:pt x="3287" y="9173"/>
                  <a:pt x="3283" y="9208"/>
                  <a:pt x="3324" y="9277"/>
                </a:cubicBezTo>
                <a:cubicBezTo>
                  <a:pt x="3382" y="9375"/>
                  <a:pt x="3493" y="9321"/>
                  <a:pt x="3597" y="9302"/>
                </a:cubicBezTo>
                <a:cubicBezTo>
                  <a:pt x="3750" y="9274"/>
                  <a:pt x="3891" y="9245"/>
                  <a:pt x="4043" y="9227"/>
                </a:cubicBezTo>
                <a:cubicBezTo>
                  <a:pt x="4211" y="9207"/>
                  <a:pt x="4370" y="9203"/>
                  <a:pt x="4539" y="9203"/>
                </a:cubicBezTo>
                <a:cubicBezTo>
                  <a:pt x="4653" y="9203"/>
                  <a:pt x="4798" y="9196"/>
                  <a:pt x="4911" y="9178"/>
                </a:cubicBezTo>
                <a:cubicBezTo>
                  <a:pt x="5052" y="9155"/>
                  <a:pt x="5188" y="9153"/>
                  <a:pt x="5333" y="9153"/>
                </a:cubicBezTo>
                <a:cubicBezTo>
                  <a:pt x="5448" y="9153"/>
                  <a:pt x="5597" y="9121"/>
                  <a:pt x="5705" y="9128"/>
                </a:cubicBezTo>
                <a:cubicBezTo>
                  <a:pt x="5800" y="9134"/>
                  <a:pt x="5883" y="9146"/>
                  <a:pt x="5978" y="9153"/>
                </a:cubicBezTo>
                <a:cubicBezTo>
                  <a:pt x="6080" y="9160"/>
                  <a:pt x="6177" y="9167"/>
                  <a:pt x="6276" y="9178"/>
                </a:cubicBezTo>
                <a:cubicBezTo>
                  <a:pt x="6391" y="9191"/>
                  <a:pt x="6509" y="9199"/>
                  <a:pt x="6623" y="9203"/>
                </a:cubicBezTo>
                <a:cubicBezTo>
                  <a:pt x="6716" y="9206"/>
                  <a:pt x="6802" y="9224"/>
                  <a:pt x="6896" y="9227"/>
                </a:cubicBezTo>
                <a:cubicBezTo>
                  <a:pt x="6974" y="9229"/>
                  <a:pt x="7052" y="9230"/>
                  <a:pt x="7094" y="9203"/>
                </a:cubicBezTo>
                <a:cubicBezTo>
                  <a:pt x="7120" y="9186"/>
                  <a:pt x="7132" y="9142"/>
                  <a:pt x="7144" y="9128"/>
                </a:cubicBezTo>
              </a:path>
              <a:path w="6823" h="3647">
                <a:moveTo>
                  <a:pt x="4713" y="7367"/>
                </a:moveTo>
                <a:cubicBezTo>
                  <a:pt x="4713" y="7309"/>
                  <a:pt x="4702" y="7434"/>
                  <a:pt x="4713" y="7491"/>
                </a:cubicBezTo>
                <a:cubicBezTo>
                  <a:pt x="4748" y="7677"/>
                  <a:pt x="4823" y="7853"/>
                  <a:pt x="4862" y="8037"/>
                </a:cubicBezTo>
                <a:cubicBezTo>
                  <a:pt x="4862" y="8045"/>
                  <a:pt x="4862" y="8054"/>
                  <a:pt x="4862" y="8062"/>
                </a:cubicBezTo>
                <a:cubicBezTo>
                  <a:pt x="4862" y="8001"/>
                  <a:pt x="4840" y="7949"/>
                  <a:pt x="4837" y="7888"/>
                </a:cubicBezTo>
                <a:cubicBezTo>
                  <a:pt x="4832" y="7789"/>
                  <a:pt x="4884" y="7740"/>
                  <a:pt x="4961" y="7689"/>
                </a:cubicBezTo>
                <a:cubicBezTo>
                  <a:pt x="5020" y="7650"/>
                  <a:pt x="5011" y="7640"/>
                  <a:pt x="5085" y="7640"/>
                </a:cubicBezTo>
                <a:cubicBezTo>
                  <a:pt x="5118" y="7640"/>
                  <a:pt x="5172" y="7706"/>
                  <a:pt x="5184" y="7739"/>
                </a:cubicBezTo>
                <a:cubicBezTo>
                  <a:pt x="5202" y="7788"/>
                  <a:pt x="5184" y="7871"/>
                  <a:pt x="5159" y="7913"/>
                </a:cubicBezTo>
                <a:cubicBezTo>
                  <a:pt x="5124" y="7972"/>
                  <a:pt x="5060" y="7997"/>
                  <a:pt x="5011" y="8037"/>
                </a:cubicBezTo>
                <a:cubicBezTo>
                  <a:pt x="4975" y="8067"/>
                  <a:pt x="4944" y="8119"/>
                  <a:pt x="4911" y="8136"/>
                </a:cubicBezTo>
                <a:cubicBezTo>
                  <a:pt x="4883" y="8136"/>
                  <a:pt x="4873" y="8139"/>
                  <a:pt x="4862" y="8161"/>
                </a:cubicBezTo>
              </a:path>
              <a:path w="6823" h="3647">
                <a:moveTo>
                  <a:pt x="322" y="10964"/>
                </a:moveTo>
                <a:cubicBezTo>
                  <a:pt x="344" y="10897"/>
                  <a:pt x="506" y="10915"/>
                  <a:pt x="571" y="10914"/>
                </a:cubicBezTo>
                <a:cubicBezTo>
                  <a:pt x="651" y="10912"/>
                  <a:pt x="998" y="10914"/>
                  <a:pt x="992" y="10914"/>
                </a:cubicBezTo>
                <a:cubicBezTo>
                  <a:pt x="856" y="10934"/>
                  <a:pt x="702" y="10926"/>
                  <a:pt x="571" y="10964"/>
                </a:cubicBezTo>
                <a:cubicBezTo>
                  <a:pt x="531" y="10976"/>
                  <a:pt x="449" y="10988"/>
                  <a:pt x="546" y="10988"/>
                </a:cubicBezTo>
                <a:cubicBezTo>
                  <a:pt x="700" y="10919"/>
                  <a:pt x="823" y="10894"/>
                  <a:pt x="992" y="10889"/>
                </a:cubicBezTo>
                <a:cubicBezTo>
                  <a:pt x="1050" y="10889"/>
                  <a:pt x="1075" y="10906"/>
                  <a:pt x="1067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04920" y="4187880"/>
            <a:ext cx="625320" cy="492120"/>
          </a:xfrm>
          <a:custGeom>
            <a:avLst/>
            <a:gdLst/>
            <a:ahLst/>
            <a:rect l="l" t="t" r="r" b="b"/>
            <a:pathLst>
              <a:path w="1737" h="1366">
                <a:moveTo>
                  <a:pt x="3349" y="12973"/>
                </a:moveTo>
                <a:cubicBezTo>
                  <a:pt x="3471" y="12980"/>
                  <a:pt x="3575" y="13006"/>
                  <a:pt x="3696" y="12973"/>
                </a:cubicBezTo>
                <a:cubicBezTo>
                  <a:pt x="3814" y="12941"/>
                  <a:pt x="3919" y="12879"/>
                  <a:pt x="4043" y="12874"/>
                </a:cubicBezTo>
                <a:cubicBezTo>
                  <a:pt x="4209" y="12867"/>
                  <a:pt x="4374" y="12859"/>
                  <a:pt x="4539" y="12849"/>
                </a:cubicBezTo>
                <a:cubicBezTo>
                  <a:pt x="4720" y="12838"/>
                  <a:pt x="4904" y="12849"/>
                  <a:pt x="5085" y="12849"/>
                </a:cubicBezTo>
              </a:path>
              <a:path w="1737" h="1366">
                <a:moveTo>
                  <a:pt x="4564" y="11782"/>
                </a:moveTo>
                <a:cubicBezTo>
                  <a:pt x="4573" y="11773"/>
                  <a:pt x="4571" y="11701"/>
                  <a:pt x="4539" y="11683"/>
                </a:cubicBezTo>
                <a:cubicBezTo>
                  <a:pt x="4467" y="11642"/>
                  <a:pt x="4375" y="11609"/>
                  <a:pt x="4316" y="11683"/>
                </a:cubicBezTo>
                <a:cubicBezTo>
                  <a:pt x="4266" y="11746"/>
                  <a:pt x="4244" y="11788"/>
                  <a:pt x="4291" y="11857"/>
                </a:cubicBezTo>
                <a:cubicBezTo>
                  <a:pt x="4330" y="11914"/>
                  <a:pt x="4451" y="11874"/>
                  <a:pt x="4490" y="11832"/>
                </a:cubicBezTo>
                <a:cubicBezTo>
                  <a:pt x="4511" y="11809"/>
                  <a:pt x="4532" y="11761"/>
                  <a:pt x="4539" y="11733"/>
                </a:cubicBezTo>
                <a:cubicBezTo>
                  <a:pt x="4539" y="11848"/>
                  <a:pt x="4597" y="11943"/>
                  <a:pt x="4614" y="12055"/>
                </a:cubicBezTo>
                <a:cubicBezTo>
                  <a:pt x="4623" y="12111"/>
                  <a:pt x="4585" y="12191"/>
                  <a:pt x="4638" y="121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52800" y="3616200"/>
            <a:ext cx="411120" cy="285840"/>
          </a:xfrm>
          <a:custGeom>
            <a:avLst/>
            <a:gdLst/>
            <a:ahLst/>
            <a:rect l="l" t="t" r="r" b="b"/>
            <a:pathLst>
              <a:path w="1142" h="795">
                <a:moveTo>
                  <a:pt x="6003" y="10492"/>
                </a:moveTo>
                <a:cubicBezTo>
                  <a:pt x="5972" y="10554"/>
                  <a:pt x="6035" y="10578"/>
                  <a:pt x="6077" y="10641"/>
                </a:cubicBezTo>
                <a:cubicBezTo>
                  <a:pt x="6132" y="10724"/>
                  <a:pt x="6198" y="10735"/>
                  <a:pt x="6276" y="10790"/>
                </a:cubicBezTo>
                <a:cubicBezTo>
                  <a:pt x="6335" y="10832"/>
                  <a:pt x="6446" y="10838"/>
                  <a:pt x="6524" y="10840"/>
                </a:cubicBezTo>
                <a:cubicBezTo>
                  <a:pt x="6608" y="10843"/>
                  <a:pt x="6667" y="10840"/>
                  <a:pt x="6747" y="10815"/>
                </a:cubicBezTo>
                <a:cubicBezTo>
                  <a:pt x="6807" y="10796"/>
                  <a:pt x="6894" y="10756"/>
                  <a:pt x="6945" y="10716"/>
                </a:cubicBezTo>
                <a:cubicBezTo>
                  <a:pt x="7008" y="10667"/>
                  <a:pt x="7035" y="10611"/>
                  <a:pt x="7069" y="10542"/>
                </a:cubicBezTo>
                <a:cubicBezTo>
                  <a:pt x="7095" y="10489"/>
                  <a:pt x="7138" y="10432"/>
                  <a:pt x="7119" y="10368"/>
                </a:cubicBezTo>
                <a:cubicBezTo>
                  <a:pt x="7099" y="10300"/>
                  <a:pt x="7062" y="10272"/>
                  <a:pt x="7020" y="10220"/>
                </a:cubicBezTo>
                <a:cubicBezTo>
                  <a:pt x="6984" y="10175"/>
                  <a:pt x="6909" y="10112"/>
                  <a:pt x="6846" y="10096"/>
                </a:cubicBezTo>
                <a:cubicBezTo>
                  <a:pt x="6781" y="10079"/>
                  <a:pt x="6721" y="10049"/>
                  <a:pt x="6648" y="10046"/>
                </a:cubicBezTo>
                <a:cubicBezTo>
                  <a:pt x="6555" y="10042"/>
                  <a:pt x="6428" y="10063"/>
                  <a:pt x="6375" y="10071"/>
                </a:cubicBezTo>
                <a:cubicBezTo>
                  <a:pt x="6313" y="10080"/>
                  <a:pt x="6277" y="10092"/>
                  <a:pt x="6226" y="10120"/>
                </a:cubicBezTo>
                <a:cubicBezTo>
                  <a:pt x="6193" y="10138"/>
                  <a:pt x="6109" y="10177"/>
                  <a:pt x="6102" y="10195"/>
                </a:cubicBezTo>
                <a:cubicBezTo>
                  <a:pt x="6090" y="10229"/>
                  <a:pt x="6091" y="10262"/>
                  <a:pt x="6077" y="10294"/>
                </a:cubicBezTo>
                <a:cubicBezTo>
                  <a:pt x="6062" y="10327"/>
                  <a:pt x="6064" y="10359"/>
                  <a:pt x="6052" y="10393"/>
                </a:cubicBezTo>
                <a:cubicBezTo>
                  <a:pt x="6039" y="10430"/>
                  <a:pt x="6043" y="10469"/>
                  <a:pt x="6052" y="10542"/>
                </a:cubicBezTo>
                <a:cubicBezTo>
                  <a:pt x="6058" y="10591"/>
                  <a:pt x="6049" y="10620"/>
                  <a:pt x="6077" y="10641"/>
                </a:cubicBezTo>
                <a:cubicBezTo>
                  <a:pt x="6085" y="10641"/>
                  <a:pt x="6094" y="10641"/>
                  <a:pt x="6102" y="106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54200" y="2874960"/>
            <a:ext cx="561960" cy="831960"/>
          </a:xfrm>
          <a:custGeom>
            <a:avLst/>
            <a:gdLst/>
            <a:ahLst/>
            <a:rect l="l" t="t" r="r" b="b"/>
            <a:pathLst>
              <a:path w="1564" h="2308">
                <a:moveTo>
                  <a:pt x="7789" y="9079"/>
                </a:moveTo>
                <a:cubicBezTo>
                  <a:pt x="7718" y="9079"/>
                  <a:pt x="8003" y="9055"/>
                  <a:pt x="8012" y="9054"/>
                </a:cubicBezTo>
                <a:cubicBezTo>
                  <a:pt x="8159" y="9030"/>
                  <a:pt x="8310" y="8989"/>
                  <a:pt x="8458" y="8979"/>
                </a:cubicBezTo>
                <a:cubicBezTo>
                  <a:pt x="8513" y="8975"/>
                  <a:pt x="8555" y="8959"/>
                  <a:pt x="8607" y="8954"/>
                </a:cubicBezTo>
                <a:cubicBezTo>
                  <a:pt x="8632" y="8954"/>
                  <a:pt x="8640" y="8954"/>
                  <a:pt x="8657" y="8954"/>
                </a:cubicBezTo>
              </a:path>
              <a:path w="1564" h="2308">
                <a:moveTo>
                  <a:pt x="7789" y="8012"/>
                </a:moveTo>
                <a:cubicBezTo>
                  <a:pt x="7803" y="7970"/>
                  <a:pt x="7854" y="8010"/>
                  <a:pt x="7913" y="8012"/>
                </a:cubicBezTo>
                <a:cubicBezTo>
                  <a:pt x="8020" y="8015"/>
                  <a:pt x="8128" y="8012"/>
                  <a:pt x="8235" y="8012"/>
                </a:cubicBezTo>
              </a:path>
              <a:path w="1564" h="2308">
                <a:moveTo>
                  <a:pt x="7094" y="10294"/>
                </a:moveTo>
                <a:cubicBezTo>
                  <a:pt x="7094" y="10286"/>
                  <a:pt x="7094" y="10277"/>
                  <a:pt x="7094" y="10269"/>
                </a:cubicBezTo>
              </a:path>
              <a:path w="1564" h="2308">
                <a:moveTo>
                  <a:pt x="7094" y="10269"/>
                </a:moveTo>
                <a:lnTo>
                  <a:pt x="7094" y="10269"/>
                </a:lnTo>
              </a:path>
              <a:path w="1564" h="2308">
                <a:moveTo>
                  <a:pt x="7094" y="10269"/>
                </a:moveTo>
                <a:lnTo>
                  <a:pt x="7094" y="10269"/>
                </a:lnTo>
              </a:path>
              <a:path w="1564" h="2308">
                <a:moveTo>
                  <a:pt x="7094" y="10269"/>
                </a:moveTo>
                <a:lnTo>
                  <a:pt x="7094" y="1026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46640" y="2660760"/>
            <a:ext cx="196560" cy="250560"/>
          </a:xfrm>
          <a:custGeom>
            <a:avLst/>
            <a:gdLst/>
            <a:ahLst/>
            <a:rect l="l" t="t" r="r" b="b"/>
            <a:pathLst>
              <a:path w="546" h="695">
                <a:moveTo>
                  <a:pt x="10046" y="7466"/>
                </a:moveTo>
                <a:cubicBezTo>
                  <a:pt x="10021" y="7392"/>
                  <a:pt x="9840" y="7415"/>
                  <a:pt x="9773" y="7441"/>
                </a:cubicBezTo>
                <a:cubicBezTo>
                  <a:pt x="9648" y="7488"/>
                  <a:pt x="9608" y="7554"/>
                  <a:pt x="9575" y="7665"/>
                </a:cubicBezTo>
                <a:cubicBezTo>
                  <a:pt x="9695" y="7761"/>
                  <a:pt x="9851" y="7776"/>
                  <a:pt x="9971" y="7863"/>
                </a:cubicBezTo>
                <a:cubicBezTo>
                  <a:pt x="10059" y="7927"/>
                  <a:pt x="10026" y="8062"/>
                  <a:pt x="9922" y="8086"/>
                </a:cubicBezTo>
                <a:cubicBezTo>
                  <a:pt x="9791" y="8116"/>
                  <a:pt x="9719" y="8035"/>
                  <a:pt x="9748" y="7913"/>
                </a:cubicBezTo>
                <a:cubicBezTo>
                  <a:pt x="9769" y="7827"/>
                  <a:pt x="9908" y="7740"/>
                  <a:pt x="9971" y="7689"/>
                </a:cubicBezTo>
                <a:cubicBezTo>
                  <a:pt x="10080" y="7601"/>
                  <a:pt x="10120" y="7577"/>
                  <a:pt x="10120" y="7441"/>
                </a:cubicBezTo>
                <a:cubicBezTo>
                  <a:pt x="10120" y="7417"/>
                  <a:pt x="10071" y="7386"/>
                  <a:pt x="10071" y="74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40800" y="1697040"/>
            <a:ext cx="204480" cy="187200"/>
          </a:xfrm>
          <a:custGeom>
            <a:avLst/>
            <a:gdLst/>
            <a:ahLst/>
            <a:rect l="l" t="t" r="r" b="b"/>
            <a:pathLst>
              <a:path w="571" h="522">
                <a:moveTo>
                  <a:pt x="21803" y="4812"/>
                </a:moveTo>
                <a:cubicBezTo>
                  <a:pt x="21748" y="4850"/>
                  <a:pt x="21822" y="5068"/>
                  <a:pt x="21828" y="5135"/>
                </a:cubicBezTo>
                <a:cubicBezTo>
                  <a:pt x="21828" y="5168"/>
                  <a:pt x="21828" y="5201"/>
                  <a:pt x="21828" y="5234"/>
                </a:cubicBezTo>
              </a:path>
              <a:path w="571" h="522">
                <a:moveTo>
                  <a:pt x="22225" y="4713"/>
                </a:moveTo>
                <a:cubicBezTo>
                  <a:pt x="22153" y="4737"/>
                  <a:pt x="22103" y="4769"/>
                  <a:pt x="22076" y="4837"/>
                </a:cubicBezTo>
                <a:cubicBezTo>
                  <a:pt x="22141" y="4884"/>
                  <a:pt x="22367" y="4947"/>
                  <a:pt x="22349" y="5060"/>
                </a:cubicBezTo>
                <a:cubicBezTo>
                  <a:pt x="22312" y="5298"/>
                  <a:pt x="22060" y="5069"/>
                  <a:pt x="22002" y="50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40840" y="2152800"/>
            <a:ext cx="27000" cy="320400"/>
          </a:xfrm>
          <a:custGeom>
            <a:avLst/>
            <a:gdLst/>
            <a:ahLst/>
            <a:rect l="l" t="t" r="r" b="b"/>
            <a:pathLst>
              <a:path w="75" h="894">
                <a:moveTo>
                  <a:pt x="23242" y="5978"/>
                </a:moveTo>
                <a:lnTo>
                  <a:pt x="23242" y="5978"/>
                </a:lnTo>
              </a:path>
              <a:path w="75" h="894">
                <a:moveTo>
                  <a:pt x="23168" y="6871"/>
                </a:moveTo>
                <a:lnTo>
                  <a:pt x="23168" y="687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86280" y="1795320"/>
            <a:ext cx="2697480" cy="650880"/>
          </a:xfrm>
          <a:custGeom>
            <a:avLst/>
            <a:gdLst/>
            <a:ahLst/>
            <a:rect l="l" t="t" r="r" b="b"/>
            <a:pathLst>
              <a:path w="7492" h="1811">
                <a:moveTo>
                  <a:pt x="16818" y="5333"/>
                </a:moveTo>
                <a:cubicBezTo>
                  <a:pt x="16807" y="5399"/>
                  <a:pt x="16809" y="5417"/>
                  <a:pt x="16793" y="5482"/>
                </a:cubicBezTo>
                <a:cubicBezTo>
                  <a:pt x="16745" y="5673"/>
                  <a:pt x="16675" y="5877"/>
                  <a:pt x="16694" y="6077"/>
                </a:cubicBezTo>
                <a:cubicBezTo>
                  <a:pt x="16709" y="6232"/>
                  <a:pt x="16764" y="6283"/>
                  <a:pt x="16917" y="6300"/>
                </a:cubicBezTo>
                <a:cubicBezTo>
                  <a:pt x="17060" y="6316"/>
                  <a:pt x="17213" y="6253"/>
                  <a:pt x="17314" y="6152"/>
                </a:cubicBezTo>
                <a:cubicBezTo>
                  <a:pt x="17379" y="6087"/>
                  <a:pt x="17401" y="6024"/>
                  <a:pt x="17363" y="5953"/>
                </a:cubicBezTo>
                <a:cubicBezTo>
                  <a:pt x="17336" y="5902"/>
                  <a:pt x="17262" y="5863"/>
                  <a:pt x="17214" y="5904"/>
                </a:cubicBezTo>
                <a:cubicBezTo>
                  <a:pt x="17092" y="6008"/>
                  <a:pt x="17115" y="6128"/>
                  <a:pt x="17115" y="6276"/>
                </a:cubicBezTo>
              </a:path>
              <a:path w="7492" h="1811">
                <a:moveTo>
                  <a:pt x="17884" y="5655"/>
                </a:moveTo>
                <a:cubicBezTo>
                  <a:pt x="17856" y="5779"/>
                  <a:pt x="17903" y="5958"/>
                  <a:pt x="17909" y="6102"/>
                </a:cubicBezTo>
                <a:cubicBezTo>
                  <a:pt x="17909" y="6127"/>
                  <a:pt x="17909" y="6135"/>
                  <a:pt x="17909" y="6152"/>
                </a:cubicBezTo>
              </a:path>
              <a:path w="7492" h="1811">
                <a:moveTo>
                  <a:pt x="17686" y="5928"/>
                </a:moveTo>
                <a:cubicBezTo>
                  <a:pt x="17837" y="5928"/>
                  <a:pt x="17982" y="5909"/>
                  <a:pt x="18132" y="5904"/>
                </a:cubicBezTo>
                <a:cubicBezTo>
                  <a:pt x="18199" y="5902"/>
                  <a:pt x="18212" y="5908"/>
                  <a:pt x="18281" y="5928"/>
                </a:cubicBezTo>
              </a:path>
              <a:path w="7492" h="1811">
                <a:moveTo>
                  <a:pt x="18554" y="5829"/>
                </a:moveTo>
                <a:cubicBezTo>
                  <a:pt x="18578" y="5947"/>
                  <a:pt x="18593" y="6076"/>
                  <a:pt x="18604" y="6201"/>
                </a:cubicBezTo>
                <a:cubicBezTo>
                  <a:pt x="18604" y="6218"/>
                  <a:pt x="18604" y="6234"/>
                  <a:pt x="18604" y="6251"/>
                </a:cubicBezTo>
                <a:cubicBezTo>
                  <a:pt x="18591" y="6122"/>
                  <a:pt x="18584" y="6033"/>
                  <a:pt x="18628" y="5904"/>
                </a:cubicBezTo>
                <a:cubicBezTo>
                  <a:pt x="18653" y="5854"/>
                  <a:pt x="18661" y="5837"/>
                  <a:pt x="18703" y="5829"/>
                </a:cubicBezTo>
                <a:cubicBezTo>
                  <a:pt x="18865" y="5905"/>
                  <a:pt x="18930" y="5989"/>
                  <a:pt x="18951" y="6176"/>
                </a:cubicBezTo>
                <a:cubicBezTo>
                  <a:pt x="18951" y="6193"/>
                  <a:pt x="18951" y="6209"/>
                  <a:pt x="18951" y="6226"/>
                </a:cubicBezTo>
                <a:cubicBezTo>
                  <a:pt x="18956" y="6124"/>
                  <a:pt x="18950" y="5999"/>
                  <a:pt x="19000" y="5904"/>
                </a:cubicBezTo>
                <a:cubicBezTo>
                  <a:pt x="19053" y="5803"/>
                  <a:pt x="19146" y="5698"/>
                  <a:pt x="19248" y="5804"/>
                </a:cubicBezTo>
                <a:cubicBezTo>
                  <a:pt x="19343" y="5903"/>
                  <a:pt x="19311" y="6020"/>
                  <a:pt x="19348" y="6127"/>
                </a:cubicBezTo>
                <a:cubicBezTo>
                  <a:pt x="19361" y="6166"/>
                  <a:pt x="19356" y="6249"/>
                  <a:pt x="19397" y="6276"/>
                </a:cubicBezTo>
                <a:cubicBezTo>
                  <a:pt x="19581" y="6396"/>
                  <a:pt x="19802" y="6190"/>
                  <a:pt x="19918" y="6077"/>
                </a:cubicBezTo>
                <a:cubicBezTo>
                  <a:pt x="19943" y="6044"/>
                  <a:pt x="19968" y="6011"/>
                  <a:pt x="19993" y="5978"/>
                </a:cubicBezTo>
              </a:path>
              <a:path w="7492" h="1811">
                <a:moveTo>
                  <a:pt x="18455" y="5829"/>
                </a:moveTo>
                <a:cubicBezTo>
                  <a:pt x="18442" y="5789"/>
                  <a:pt x="18443" y="5819"/>
                  <a:pt x="18430" y="5779"/>
                </a:cubicBezTo>
                <a:cubicBezTo>
                  <a:pt x="18413" y="5897"/>
                  <a:pt x="18405" y="6006"/>
                  <a:pt x="18405" y="6127"/>
                </a:cubicBezTo>
                <a:cubicBezTo>
                  <a:pt x="18405" y="6168"/>
                  <a:pt x="18405" y="6176"/>
                  <a:pt x="18405" y="6201"/>
                </a:cubicBezTo>
                <a:cubicBezTo>
                  <a:pt x="18405" y="6269"/>
                  <a:pt x="18381" y="6082"/>
                  <a:pt x="18380" y="6077"/>
                </a:cubicBezTo>
                <a:cubicBezTo>
                  <a:pt x="18372" y="6023"/>
                  <a:pt x="18382" y="5962"/>
                  <a:pt x="18430" y="5928"/>
                </a:cubicBezTo>
                <a:cubicBezTo>
                  <a:pt x="18508" y="5873"/>
                  <a:pt x="18587" y="5979"/>
                  <a:pt x="18604" y="6052"/>
                </a:cubicBezTo>
                <a:cubicBezTo>
                  <a:pt x="18604" y="6135"/>
                  <a:pt x="18604" y="6151"/>
                  <a:pt x="18604" y="6201"/>
                </a:cubicBezTo>
              </a:path>
              <a:path w="7492" h="1811">
                <a:moveTo>
                  <a:pt x="16123" y="5110"/>
                </a:moveTo>
                <a:cubicBezTo>
                  <a:pt x="16152" y="5267"/>
                  <a:pt x="16188" y="5372"/>
                  <a:pt x="16197" y="5531"/>
                </a:cubicBezTo>
                <a:cubicBezTo>
                  <a:pt x="16210" y="5755"/>
                  <a:pt x="16047" y="6479"/>
                  <a:pt x="16297" y="6573"/>
                </a:cubicBezTo>
                <a:cubicBezTo>
                  <a:pt x="16617" y="6694"/>
                  <a:pt x="17075" y="6707"/>
                  <a:pt x="17413" y="6747"/>
                </a:cubicBezTo>
                <a:cubicBezTo>
                  <a:pt x="17754" y="6787"/>
                  <a:pt x="18087" y="6796"/>
                  <a:pt x="18430" y="6796"/>
                </a:cubicBezTo>
                <a:cubicBezTo>
                  <a:pt x="18730" y="6796"/>
                  <a:pt x="19024" y="6783"/>
                  <a:pt x="19323" y="6772"/>
                </a:cubicBezTo>
                <a:cubicBezTo>
                  <a:pt x="19560" y="6763"/>
                  <a:pt x="19783" y="6741"/>
                  <a:pt x="20017" y="6722"/>
                </a:cubicBezTo>
                <a:cubicBezTo>
                  <a:pt x="20202" y="6707"/>
                  <a:pt x="20406" y="6703"/>
                  <a:pt x="20588" y="6672"/>
                </a:cubicBezTo>
                <a:cubicBezTo>
                  <a:pt x="20596" y="6664"/>
                  <a:pt x="20605" y="6656"/>
                  <a:pt x="20613" y="6648"/>
                </a:cubicBezTo>
                <a:cubicBezTo>
                  <a:pt x="20613" y="6500"/>
                  <a:pt x="20602" y="6312"/>
                  <a:pt x="20613" y="6152"/>
                </a:cubicBezTo>
                <a:cubicBezTo>
                  <a:pt x="20631" y="5881"/>
                  <a:pt x="20631" y="5602"/>
                  <a:pt x="20662" y="5333"/>
                </a:cubicBezTo>
                <a:cubicBezTo>
                  <a:pt x="20674" y="5223"/>
                  <a:pt x="20687" y="5122"/>
                  <a:pt x="20687" y="5011"/>
                </a:cubicBezTo>
                <a:cubicBezTo>
                  <a:pt x="20645" y="5008"/>
                  <a:pt x="20412" y="5008"/>
                  <a:pt x="20340" y="5011"/>
                </a:cubicBezTo>
                <a:cubicBezTo>
                  <a:pt x="20148" y="5019"/>
                  <a:pt x="19959" y="5030"/>
                  <a:pt x="19769" y="5035"/>
                </a:cubicBezTo>
                <a:cubicBezTo>
                  <a:pt x="19191" y="5049"/>
                  <a:pt x="18609" y="5014"/>
                  <a:pt x="18033" y="5060"/>
                </a:cubicBezTo>
                <a:cubicBezTo>
                  <a:pt x="17728" y="5084"/>
                  <a:pt x="17421" y="5105"/>
                  <a:pt x="17115" y="5110"/>
                </a:cubicBezTo>
                <a:cubicBezTo>
                  <a:pt x="16898" y="5114"/>
                  <a:pt x="16686" y="5131"/>
                  <a:pt x="16470" y="5135"/>
                </a:cubicBezTo>
                <a:cubicBezTo>
                  <a:pt x="16396" y="5136"/>
                  <a:pt x="16153" y="5106"/>
                  <a:pt x="16123" y="5110"/>
                </a:cubicBezTo>
                <a:cubicBezTo>
                  <a:pt x="16123" y="5118"/>
                  <a:pt x="16123" y="5127"/>
                  <a:pt x="16123" y="5135"/>
                </a:cubicBezTo>
              </a:path>
              <a:path w="7492" h="1811">
                <a:moveTo>
                  <a:pt x="16197" y="5234"/>
                </a:moveTo>
                <a:cubicBezTo>
                  <a:pt x="16193" y="5285"/>
                  <a:pt x="16180" y="5413"/>
                  <a:pt x="16197" y="5507"/>
                </a:cubicBezTo>
                <a:cubicBezTo>
                  <a:pt x="16226" y="5670"/>
                  <a:pt x="16262" y="5839"/>
                  <a:pt x="16272" y="6003"/>
                </a:cubicBezTo>
                <a:cubicBezTo>
                  <a:pt x="16279" y="6129"/>
                  <a:pt x="16287" y="6252"/>
                  <a:pt x="16297" y="6375"/>
                </a:cubicBezTo>
                <a:cubicBezTo>
                  <a:pt x="16300" y="6408"/>
                  <a:pt x="16295" y="6441"/>
                  <a:pt x="16297" y="6474"/>
                </a:cubicBezTo>
                <a:cubicBezTo>
                  <a:pt x="16249" y="6331"/>
                  <a:pt x="16184" y="6177"/>
                  <a:pt x="16148" y="6028"/>
                </a:cubicBezTo>
                <a:cubicBezTo>
                  <a:pt x="16103" y="5841"/>
                  <a:pt x="16054" y="5626"/>
                  <a:pt x="16073" y="5432"/>
                </a:cubicBezTo>
                <a:cubicBezTo>
                  <a:pt x="16076" y="5397"/>
                  <a:pt x="16091" y="5371"/>
                  <a:pt x="16098" y="5333"/>
                </a:cubicBezTo>
                <a:cubicBezTo>
                  <a:pt x="16159" y="5427"/>
                  <a:pt x="16157" y="5445"/>
                  <a:pt x="16173" y="5556"/>
                </a:cubicBezTo>
                <a:cubicBezTo>
                  <a:pt x="16207" y="5796"/>
                  <a:pt x="16193" y="6038"/>
                  <a:pt x="16222" y="6276"/>
                </a:cubicBezTo>
                <a:cubicBezTo>
                  <a:pt x="16236" y="6390"/>
                  <a:pt x="16234" y="6437"/>
                  <a:pt x="16222" y="6548"/>
                </a:cubicBezTo>
                <a:cubicBezTo>
                  <a:pt x="16286" y="6557"/>
                  <a:pt x="16344" y="6571"/>
                  <a:pt x="16421" y="6573"/>
                </a:cubicBezTo>
                <a:cubicBezTo>
                  <a:pt x="16538" y="6576"/>
                  <a:pt x="16659" y="6592"/>
                  <a:pt x="16768" y="6598"/>
                </a:cubicBezTo>
                <a:cubicBezTo>
                  <a:pt x="16882" y="6604"/>
                  <a:pt x="16986" y="6581"/>
                  <a:pt x="17090" y="6573"/>
                </a:cubicBezTo>
                <a:cubicBezTo>
                  <a:pt x="17207" y="6564"/>
                  <a:pt x="17323" y="6557"/>
                  <a:pt x="17438" y="6548"/>
                </a:cubicBezTo>
                <a:cubicBezTo>
                  <a:pt x="17563" y="6539"/>
                  <a:pt x="17688" y="6509"/>
                  <a:pt x="17810" y="6499"/>
                </a:cubicBezTo>
                <a:cubicBezTo>
                  <a:pt x="17936" y="6489"/>
                  <a:pt x="18059" y="6461"/>
                  <a:pt x="18182" y="6449"/>
                </a:cubicBezTo>
                <a:cubicBezTo>
                  <a:pt x="18322" y="6436"/>
                  <a:pt x="18464" y="6441"/>
                  <a:pt x="18604" y="6424"/>
                </a:cubicBezTo>
                <a:cubicBezTo>
                  <a:pt x="18711" y="6411"/>
                  <a:pt x="18817" y="6411"/>
                  <a:pt x="18926" y="6400"/>
                </a:cubicBezTo>
                <a:cubicBezTo>
                  <a:pt x="19060" y="6387"/>
                  <a:pt x="19187" y="6375"/>
                  <a:pt x="19323" y="6375"/>
                </a:cubicBezTo>
                <a:cubicBezTo>
                  <a:pt x="19695" y="6375"/>
                  <a:pt x="20067" y="6375"/>
                  <a:pt x="20439" y="6375"/>
                </a:cubicBezTo>
                <a:cubicBezTo>
                  <a:pt x="20427" y="6244"/>
                  <a:pt x="20429" y="6108"/>
                  <a:pt x="20414" y="5978"/>
                </a:cubicBezTo>
                <a:cubicBezTo>
                  <a:pt x="20394" y="5804"/>
                  <a:pt x="20369" y="5633"/>
                  <a:pt x="20365" y="5457"/>
                </a:cubicBezTo>
                <a:cubicBezTo>
                  <a:pt x="20362" y="5331"/>
                  <a:pt x="20374" y="5196"/>
                  <a:pt x="20389" y="5085"/>
                </a:cubicBezTo>
                <a:cubicBezTo>
                  <a:pt x="20389" y="5077"/>
                  <a:pt x="20389" y="5068"/>
                  <a:pt x="20389" y="5060"/>
                </a:cubicBezTo>
                <a:cubicBezTo>
                  <a:pt x="20115" y="5060"/>
                  <a:pt x="19843" y="5058"/>
                  <a:pt x="19571" y="5035"/>
                </a:cubicBezTo>
                <a:cubicBezTo>
                  <a:pt x="19329" y="5014"/>
                  <a:pt x="19094" y="5010"/>
                  <a:pt x="18852" y="5035"/>
                </a:cubicBezTo>
                <a:cubicBezTo>
                  <a:pt x="18629" y="5058"/>
                  <a:pt x="18407" y="5081"/>
                  <a:pt x="18182" y="5085"/>
                </a:cubicBezTo>
                <a:cubicBezTo>
                  <a:pt x="17899" y="5090"/>
                  <a:pt x="17620" y="5094"/>
                  <a:pt x="17338" y="5110"/>
                </a:cubicBezTo>
                <a:cubicBezTo>
                  <a:pt x="16952" y="5132"/>
                  <a:pt x="16559" y="5110"/>
                  <a:pt x="16173" y="5110"/>
                </a:cubicBezTo>
              </a:path>
              <a:path w="7492" h="1811">
                <a:moveTo>
                  <a:pt x="21382" y="6003"/>
                </a:moveTo>
                <a:cubicBezTo>
                  <a:pt x="21406" y="6066"/>
                  <a:pt x="21556" y="6402"/>
                  <a:pt x="21456" y="6300"/>
                </a:cubicBezTo>
                <a:cubicBezTo>
                  <a:pt x="21430" y="6193"/>
                  <a:pt x="21356" y="5846"/>
                  <a:pt x="21605" y="5978"/>
                </a:cubicBezTo>
                <a:cubicBezTo>
                  <a:pt x="21742" y="6051"/>
                  <a:pt x="21767" y="6129"/>
                  <a:pt x="21828" y="6251"/>
                </a:cubicBezTo>
                <a:cubicBezTo>
                  <a:pt x="21812" y="6139"/>
                  <a:pt x="21781" y="6027"/>
                  <a:pt x="21828" y="5904"/>
                </a:cubicBezTo>
                <a:cubicBezTo>
                  <a:pt x="21852" y="5841"/>
                  <a:pt x="22039" y="6197"/>
                  <a:pt x="22051" y="6226"/>
                </a:cubicBezTo>
              </a:path>
              <a:path w="7492" h="1811">
                <a:moveTo>
                  <a:pt x="22126" y="6003"/>
                </a:moveTo>
                <a:cubicBezTo>
                  <a:pt x="22179" y="5986"/>
                  <a:pt x="22320" y="5977"/>
                  <a:pt x="22324" y="5928"/>
                </a:cubicBezTo>
                <a:cubicBezTo>
                  <a:pt x="22324" y="5912"/>
                  <a:pt x="22324" y="5895"/>
                  <a:pt x="22324" y="5879"/>
                </a:cubicBezTo>
                <a:cubicBezTo>
                  <a:pt x="22168" y="5905"/>
                  <a:pt x="22082" y="6032"/>
                  <a:pt x="22175" y="6201"/>
                </a:cubicBezTo>
                <a:cubicBezTo>
                  <a:pt x="22269" y="6263"/>
                  <a:pt x="22315" y="6273"/>
                  <a:pt x="22399" y="6201"/>
                </a:cubicBezTo>
              </a:path>
              <a:path w="7492" h="1811">
                <a:moveTo>
                  <a:pt x="22647" y="5904"/>
                </a:moveTo>
                <a:cubicBezTo>
                  <a:pt x="22508" y="5904"/>
                  <a:pt x="22425" y="5981"/>
                  <a:pt x="22399" y="6127"/>
                </a:cubicBezTo>
                <a:cubicBezTo>
                  <a:pt x="22379" y="6243"/>
                  <a:pt x="22567" y="6107"/>
                  <a:pt x="22622" y="6003"/>
                </a:cubicBezTo>
                <a:cubicBezTo>
                  <a:pt x="22633" y="6059"/>
                  <a:pt x="22637" y="6153"/>
                  <a:pt x="22721" y="6077"/>
                </a:cubicBezTo>
                <a:cubicBezTo>
                  <a:pt x="22834" y="5973"/>
                  <a:pt x="22799" y="5938"/>
                  <a:pt x="22870" y="6077"/>
                </a:cubicBezTo>
                <a:cubicBezTo>
                  <a:pt x="22850" y="5997"/>
                  <a:pt x="22810" y="5845"/>
                  <a:pt x="22845" y="5755"/>
                </a:cubicBezTo>
                <a:cubicBezTo>
                  <a:pt x="22862" y="5747"/>
                  <a:pt x="22878" y="5738"/>
                  <a:pt x="22895" y="5730"/>
                </a:cubicBezTo>
                <a:cubicBezTo>
                  <a:pt x="23043" y="5730"/>
                  <a:pt x="23115" y="5795"/>
                  <a:pt x="23168" y="5953"/>
                </a:cubicBezTo>
                <a:cubicBezTo>
                  <a:pt x="23168" y="5994"/>
                  <a:pt x="23168" y="5986"/>
                  <a:pt x="23168" y="5904"/>
                </a:cubicBezTo>
              </a:path>
              <a:path w="7492" h="1811">
                <a:moveTo>
                  <a:pt x="23316" y="5556"/>
                </a:moveTo>
                <a:cubicBezTo>
                  <a:pt x="23282" y="5563"/>
                  <a:pt x="23251" y="5574"/>
                  <a:pt x="23217" y="5581"/>
                </a:cubicBezTo>
                <a:cubicBezTo>
                  <a:pt x="23317" y="5648"/>
                  <a:pt x="23423" y="5685"/>
                  <a:pt x="23540" y="5730"/>
                </a:cubicBezTo>
                <a:cubicBezTo>
                  <a:pt x="23522" y="5954"/>
                  <a:pt x="23466" y="5898"/>
                  <a:pt x="23242" y="59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742160" y="2259000"/>
            <a:ext cx="911160" cy="500040"/>
          </a:xfrm>
          <a:custGeom>
            <a:avLst/>
            <a:gdLst/>
            <a:ahLst/>
            <a:rect l="l" t="t" r="r" b="b"/>
            <a:pathLst>
              <a:path w="2531" h="1390">
                <a:moveTo>
                  <a:pt x="21530" y="7094"/>
                </a:moveTo>
                <a:cubicBezTo>
                  <a:pt x="21612" y="7054"/>
                  <a:pt x="21696" y="7016"/>
                  <a:pt x="21779" y="6995"/>
                </a:cubicBezTo>
                <a:cubicBezTo>
                  <a:pt x="21674" y="6950"/>
                  <a:pt x="21645" y="6939"/>
                  <a:pt x="21530" y="6970"/>
                </a:cubicBezTo>
                <a:cubicBezTo>
                  <a:pt x="21513" y="7112"/>
                  <a:pt x="21511" y="7319"/>
                  <a:pt x="21729" y="7268"/>
                </a:cubicBezTo>
                <a:cubicBezTo>
                  <a:pt x="21779" y="7243"/>
                  <a:pt x="21828" y="7218"/>
                  <a:pt x="21878" y="7193"/>
                </a:cubicBezTo>
              </a:path>
              <a:path w="2531" h="1390">
                <a:moveTo>
                  <a:pt x="22051" y="6945"/>
                </a:moveTo>
                <a:cubicBezTo>
                  <a:pt x="22039" y="6996"/>
                  <a:pt x="21841" y="7140"/>
                  <a:pt x="21903" y="7193"/>
                </a:cubicBezTo>
                <a:cubicBezTo>
                  <a:pt x="21958" y="7240"/>
                  <a:pt x="22047" y="7123"/>
                  <a:pt x="22076" y="7094"/>
                </a:cubicBezTo>
                <a:cubicBezTo>
                  <a:pt x="22098" y="7250"/>
                  <a:pt x="22136" y="7407"/>
                  <a:pt x="22151" y="7565"/>
                </a:cubicBezTo>
                <a:cubicBezTo>
                  <a:pt x="22151" y="7627"/>
                  <a:pt x="22142" y="7642"/>
                  <a:pt x="22175" y="7665"/>
                </a:cubicBezTo>
                <a:cubicBezTo>
                  <a:pt x="22232" y="7464"/>
                  <a:pt x="22228" y="7448"/>
                  <a:pt x="22051" y="7342"/>
                </a:cubicBezTo>
              </a:path>
              <a:path w="2531" h="1390">
                <a:moveTo>
                  <a:pt x="22175" y="6995"/>
                </a:moveTo>
                <a:cubicBezTo>
                  <a:pt x="22192" y="7053"/>
                  <a:pt x="22224" y="7241"/>
                  <a:pt x="22324" y="7193"/>
                </a:cubicBezTo>
                <a:cubicBezTo>
                  <a:pt x="22438" y="7139"/>
                  <a:pt x="22436" y="7022"/>
                  <a:pt x="22448" y="6921"/>
                </a:cubicBezTo>
                <a:cubicBezTo>
                  <a:pt x="22448" y="6876"/>
                  <a:pt x="22478" y="7036"/>
                  <a:pt x="22498" y="7069"/>
                </a:cubicBezTo>
                <a:cubicBezTo>
                  <a:pt x="22557" y="7129"/>
                  <a:pt x="22586" y="7139"/>
                  <a:pt x="22647" y="7069"/>
                </a:cubicBezTo>
              </a:path>
              <a:path w="2531" h="1390">
                <a:moveTo>
                  <a:pt x="22796" y="6796"/>
                </a:moveTo>
                <a:cubicBezTo>
                  <a:pt x="22680" y="6886"/>
                  <a:pt x="22653" y="6928"/>
                  <a:pt x="22696" y="7069"/>
                </a:cubicBezTo>
                <a:cubicBezTo>
                  <a:pt x="22795" y="6988"/>
                  <a:pt x="22804" y="6969"/>
                  <a:pt x="22845" y="6846"/>
                </a:cubicBezTo>
                <a:cubicBezTo>
                  <a:pt x="22845" y="6910"/>
                  <a:pt x="22837" y="6976"/>
                  <a:pt x="22920" y="6970"/>
                </a:cubicBezTo>
                <a:cubicBezTo>
                  <a:pt x="23044" y="6939"/>
                  <a:pt x="23091" y="6909"/>
                  <a:pt x="23118" y="6796"/>
                </a:cubicBezTo>
              </a:path>
              <a:path w="2531" h="1390">
                <a:moveTo>
                  <a:pt x="23093" y="6474"/>
                </a:moveTo>
                <a:cubicBezTo>
                  <a:pt x="23093" y="6602"/>
                  <a:pt x="23145" y="6720"/>
                  <a:pt x="23168" y="6846"/>
                </a:cubicBezTo>
                <a:cubicBezTo>
                  <a:pt x="23168" y="6854"/>
                  <a:pt x="23168" y="6863"/>
                  <a:pt x="23168" y="6871"/>
                </a:cubicBezTo>
              </a:path>
              <a:path w="2531" h="1390">
                <a:moveTo>
                  <a:pt x="23292" y="6276"/>
                </a:moveTo>
                <a:cubicBezTo>
                  <a:pt x="23292" y="6394"/>
                  <a:pt x="23259" y="6624"/>
                  <a:pt x="23316" y="6722"/>
                </a:cubicBezTo>
                <a:cubicBezTo>
                  <a:pt x="23386" y="6843"/>
                  <a:pt x="23438" y="6604"/>
                  <a:pt x="23440" y="6598"/>
                </a:cubicBezTo>
              </a:path>
              <a:path w="2531" h="1390">
                <a:moveTo>
                  <a:pt x="23490" y="6499"/>
                </a:moveTo>
                <a:cubicBezTo>
                  <a:pt x="23534" y="6578"/>
                  <a:pt x="23599" y="6712"/>
                  <a:pt x="23713" y="6623"/>
                </a:cubicBezTo>
                <a:cubicBezTo>
                  <a:pt x="23771" y="6536"/>
                  <a:pt x="23793" y="6498"/>
                  <a:pt x="23812" y="6424"/>
                </a:cubicBezTo>
                <a:cubicBezTo>
                  <a:pt x="23846" y="6447"/>
                  <a:pt x="23959" y="6743"/>
                  <a:pt x="23961" y="6747"/>
                </a:cubicBezTo>
                <a:cubicBezTo>
                  <a:pt x="24071" y="6998"/>
                  <a:pt x="24007" y="7313"/>
                  <a:pt x="23639" y="7268"/>
                </a:cubicBezTo>
                <a:cubicBezTo>
                  <a:pt x="23573" y="7235"/>
                  <a:pt x="23506" y="7202"/>
                  <a:pt x="23440" y="71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03840" y="2625840"/>
            <a:ext cx="1278000" cy="714240"/>
          </a:xfrm>
          <a:custGeom>
            <a:avLst/>
            <a:gdLst/>
            <a:ahLst/>
            <a:rect l="l" t="t" r="r" b="b"/>
            <a:pathLst>
              <a:path w="3548" h="1985">
                <a:moveTo>
                  <a:pt x="14039" y="7640"/>
                </a:moveTo>
                <a:cubicBezTo>
                  <a:pt x="14039" y="7464"/>
                  <a:pt x="14085" y="7938"/>
                  <a:pt x="14114" y="8111"/>
                </a:cubicBezTo>
                <a:cubicBezTo>
                  <a:pt x="14147" y="8305"/>
                  <a:pt x="14177" y="8486"/>
                  <a:pt x="14188" y="8682"/>
                </a:cubicBezTo>
                <a:cubicBezTo>
                  <a:pt x="14188" y="8561"/>
                  <a:pt x="14152" y="8486"/>
                  <a:pt x="14188" y="8359"/>
                </a:cubicBezTo>
                <a:cubicBezTo>
                  <a:pt x="14222" y="8239"/>
                  <a:pt x="14293" y="8191"/>
                  <a:pt x="14387" y="8136"/>
                </a:cubicBezTo>
                <a:cubicBezTo>
                  <a:pt x="14581" y="8240"/>
                  <a:pt x="14615" y="8386"/>
                  <a:pt x="14511" y="8607"/>
                </a:cubicBezTo>
                <a:cubicBezTo>
                  <a:pt x="14442" y="8754"/>
                  <a:pt x="14316" y="8745"/>
                  <a:pt x="14188" y="8706"/>
                </a:cubicBezTo>
              </a:path>
              <a:path w="3548" h="1985">
                <a:moveTo>
                  <a:pt x="15081" y="8260"/>
                </a:moveTo>
                <a:cubicBezTo>
                  <a:pt x="15224" y="8236"/>
                  <a:pt x="15357" y="8235"/>
                  <a:pt x="15503" y="8235"/>
                </a:cubicBezTo>
                <a:cubicBezTo>
                  <a:pt x="15511" y="8235"/>
                  <a:pt x="15520" y="8235"/>
                  <a:pt x="15528" y="8235"/>
                </a:cubicBezTo>
              </a:path>
              <a:path w="3548" h="1985">
                <a:moveTo>
                  <a:pt x="16470" y="7789"/>
                </a:moveTo>
                <a:cubicBezTo>
                  <a:pt x="16385" y="7702"/>
                  <a:pt x="16222" y="7739"/>
                  <a:pt x="16123" y="7838"/>
                </a:cubicBezTo>
                <a:cubicBezTo>
                  <a:pt x="15990" y="7971"/>
                  <a:pt x="16133" y="8134"/>
                  <a:pt x="16222" y="8235"/>
                </a:cubicBezTo>
                <a:cubicBezTo>
                  <a:pt x="16285" y="8306"/>
                  <a:pt x="16542" y="8536"/>
                  <a:pt x="16396" y="8657"/>
                </a:cubicBezTo>
                <a:cubicBezTo>
                  <a:pt x="16371" y="8665"/>
                  <a:pt x="16346" y="8674"/>
                  <a:pt x="16321" y="8682"/>
                </a:cubicBezTo>
                <a:cubicBezTo>
                  <a:pt x="16216" y="8589"/>
                  <a:pt x="16186" y="8477"/>
                  <a:pt x="16247" y="8334"/>
                </a:cubicBezTo>
                <a:cubicBezTo>
                  <a:pt x="16326" y="8149"/>
                  <a:pt x="16472" y="8099"/>
                  <a:pt x="16520" y="7888"/>
                </a:cubicBezTo>
                <a:cubicBezTo>
                  <a:pt x="16530" y="7844"/>
                  <a:pt x="16485" y="7817"/>
                  <a:pt x="16470" y="7863"/>
                </a:cubicBezTo>
              </a:path>
              <a:path w="3548" h="1985">
                <a:moveTo>
                  <a:pt x="13494" y="7466"/>
                </a:moveTo>
                <a:cubicBezTo>
                  <a:pt x="13530" y="7637"/>
                  <a:pt x="13552" y="7810"/>
                  <a:pt x="13568" y="7987"/>
                </a:cubicBezTo>
                <a:cubicBezTo>
                  <a:pt x="13597" y="8295"/>
                  <a:pt x="13606" y="8601"/>
                  <a:pt x="13593" y="8905"/>
                </a:cubicBezTo>
                <a:cubicBezTo>
                  <a:pt x="13590" y="8982"/>
                  <a:pt x="13609" y="9047"/>
                  <a:pt x="13618" y="9079"/>
                </a:cubicBezTo>
                <a:cubicBezTo>
                  <a:pt x="13633" y="9131"/>
                  <a:pt x="13606" y="9125"/>
                  <a:pt x="13643" y="9153"/>
                </a:cubicBezTo>
                <a:cubicBezTo>
                  <a:pt x="13756" y="9239"/>
                  <a:pt x="13978" y="9212"/>
                  <a:pt x="14114" y="9227"/>
                </a:cubicBezTo>
                <a:cubicBezTo>
                  <a:pt x="14352" y="9254"/>
                  <a:pt x="14593" y="9273"/>
                  <a:pt x="14833" y="9277"/>
                </a:cubicBezTo>
                <a:cubicBezTo>
                  <a:pt x="15092" y="9282"/>
                  <a:pt x="15345" y="9265"/>
                  <a:pt x="15602" y="9252"/>
                </a:cubicBezTo>
                <a:cubicBezTo>
                  <a:pt x="15826" y="9241"/>
                  <a:pt x="16050" y="9235"/>
                  <a:pt x="16272" y="9203"/>
                </a:cubicBezTo>
                <a:cubicBezTo>
                  <a:pt x="16380" y="9187"/>
                  <a:pt x="16628" y="9214"/>
                  <a:pt x="16718" y="9153"/>
                </a:cubicBezTo>
                <a:cubicBezTo>
                  <a:pt x="16772" y="9116"/>
                  <a:pt x="16781" y="8981"/>
                  <a:pt x="16793" y="8905"/>
                </a:cubicBezTo>
                <a:cubicBezTo>
                  <a:pt x="16827" y="8691"/>
                  <a:pt x="16815" y="8474"/>
                  <a:pt x="16842" y="8260"/>
                </a:cubicBezTo>
                <a:cubicBezTo>
                  <a:pt x="16863" y="8094"/>
                  <a:pt x="16888" y="7932"/>
                  <a:pt x="16892" y="7764"/>
                </a:cubicBezTo>
                <a:cubicBezTo>
                  <a:pt x="16894" y="7668"/>
                  <a:pt x="16870" y="7586"/>
                  <a:pt x="16867" y="7491"/>
                </a:cubicBezTo>
                <a:cubicBezTo>
                  <a:pt x="16867" y="7458"/>
                  <a:pt x="16867" y="7442"/>
                  <a:pt x="16867" y="7417"/>
                </a:cubicBezTo>
                <a:cubicBezTo>
                  <a:pt x="16794" y="7409"/>
                  <a:pt x="16855" y="7395"/>
                  <a:pt x="16694" y="7392"/>
                </a:cubicBezTo>
                <a:cubicBezTo>
                  <a:pt x="16477" y="7387"/>
                  <a:pt x="16264" y="7380"/>
                  <a:pt x="16049" y="7367"/>
                </a:cubicBezTo>
                <a:cubicBezTo>
                  <a:pt x="15875" y="7356"/>
                  <a:pt x="15702" y="7327"/>
                  <a:pt x="15528" y="7317"/>
                </a:cubicBezTo>
                <a:cubicBezTo>
                  <a:pt x="15327" y="7306"/>
                  <a:pt x="15129" y="7311"/>
                  <a:pt x="14932" y="7317"/>
                </a:cubicBezTo>
                <a:cubicBezTo>
                  <a:pt x="14709" y="7324"/>
                  <a:pt x="14485" y="7318"/>
                  <a:pt x="14263" y="7342"/>
                </a:cubicBezTo>
                <a:cubicBezTo>
                  <a:pt x="14017" y="7369"/>
                  <a:pt x="13764" y="7356"/>
                  <a:pt x="13519" y="7392"/>
                </a:cubicBezTo>
                <a:cubicBezTo>
                  <a:pt x="13456" y="7401"/>
                  <a:pt x="13406" y="7410"/>
                  <a:pt x="13345" y="741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76200" y="3375000"/>
            <a:ext cx="4091040" cy="903240"/>
          </a:xfrm>
          <a:custGeom>
            <a:avLst/>
            <a:gdLst/>
            <a:ahLst/>
            <a:rect l="l" t="t" r="r" b="b"/>
            <a:pathLst>
              <a:path w="11362" h="2506">
                <a:moveTo>
                  <a:pt x="3547" y="11658"/>
                </a:moveTo>
                <a:cubicBezTo>
                  <a:pt x="3605" y="11725"/>
                  <a:pt x="3623" y="11807"/>
                  <a:pt x="3746" y="11807"/>
                </a:cubicBezTo>
                <a:cubicBezTo>
                  <a:pt x="3855" y="11807"/>
                  <a:pt x="3981" y="11731"/>
                  <a:pt x="4093" y="11733"/>
                </a:cubicBezTo>
                <a:cubicBezTo>
                  <a:pt x="4193" y="11735"/>
                  <a:pt x="4268" y="11763"/>
                  <a:pt x="4366" y="11782"/>
                </a:cubicBezTo>
                <a:cubicBezTo>
                  <a:pt x="4485" y="11805"/>
                  <a:pt x="4567" y="11786"/>
                  <a:pt x="4688" y="11782"/>
                </a:cubicBezTo>
                <a:cubicBezTo>
                  <a:pt x="4809" y="11778"/>
                  <a:pt x="4894" y="11814"/>
                  <a:pt x="5011" y="11832"/>
                </a:cubicBezTo>
                <a:cubicBezTo>
                  <a:pt x="5168" y="11857"/>
                  <a:pt x="5301" y="11841"/>
                  <a:pt x="5457" y="11832"/>
                </a:cubicBezTo>
                <a:cubicBezTo>
                  <a:pt x="5561" y="11826"/>
                  <a:pt x="5657" y="11839"/>
                  <a:pt x="5755" y="11857"/>
                </a:cubicBezTo>
                <a:cubicBezTo>
                  <a:pt x="5882" y="11881"/>
                  <a:pt x="5998" y="11879"/>
                  <a:pt x="6127" y="11881"/>
                </a:cubicBezTo>
                <a:cubicBezTo>
                  <a:pt x="6526" y="11888"/>
                  <a:pt x="6920" y="11857"/>
                  <a:pt x="7317" y="11857"/>
                </a:cubicBezTo>
                <a:cubicBezTo>
                  <a:pt x="7436" y="11857"/>
                  <a:pt x="7551" y="11875"/>
                  <a:pt x="7665" y="11881"/>
                </a:cubicBezTo>
                <a:cubicBezTo>
                  <a:pt x="7779" y="11887"/>
                  <a:pt x="7877" y="11860"/>
                  <a:pt x="7987" y="11832"/>
                </a:cubicBezTo>
                <a:cubicBezTo>
                  <a:pt x="8120" y="11799"/>
                  <a:pt x="8206" y="11838"/>
                  <a:pt x="8334" y="11832"/>
                </a:cubicBezTo>
                <a:cubicBezTo>
                  <a:pt x="8490" y="11825"/>
                  <a:pt x="8659" y="11730"/>
                  <a:pt x="8806" y="11733"/>
                </a:cubicBezTo>
                <a:cubicBezTo>
                  <a:pt x="8876" y="11735"/>
                  <a:pt x="8926" y="11766"/>
                  <a:pt x="9004" y="11757"/>
                </a:cubicBezTo>
                <a:cubicBezTo>
                  <a:pt x="9079" y="11748"/>
                  <a:pt x="9154" y="11715"/>
                  <a:pt x="9227" y="11708"/>
                </a:cubicBezTo>
                <a:cubicBezTo>
                  <a:pt x="9363" y="11696"/>
                  <a:pt x="9490" y="11708"/>
                  <a:pt x="9624" y="11683"/>
                </a:cubicBezTo>
                <a:cubicBezTo>
                  <a:pt x="9751" y="11659"/>
                  <a:pt x="9866" y="11658"/>
                  <a:pt x="9996" y="11658"/>
                </a:cubicBezTo>
              </a:path>
              <a:path w="11362" h="2506">
                <a:moveTo>
                  <a:pt x="6251" y="10368"/>
                </a:moveTo>
                <a:cubicBezTo>
                  <a:pt x="6186" y="10368"/>
                  <a:pt x="6362" y="10369"/>
                  <a:pt x="6375" y="10368"/>
                </a:cubicBezTo>
                <a:cubicBezTo>
                  <a:pt x="6482" y="10361"/>
                  <a:pt x="6574" y="10377"/>
                  <a:pt x="6672" y="10393"/>
                </a:cubicBezTo>
                <a:cubicBezTo>
                  <a:pt x="6719" y="10400"/>
                  <a:pt x="6773" y="10393"/>
                  <a:pt x="6821" y="10393"/>
                </a:cubicBezTo>
              </a:path>
              <a:path w="11362" h="2506">
                <a:moveTo>
                  <a:pt x="7119" y="10244"/>
                </a:moveTo>
                <a:cubicBezTo>
                  <a:pt x="7162" y="10221"/>
                  <a:pt x="7150" y="10222"/>
                  <a:pt x="7193" y="10195"/>
                </a:cubicBezTo>
                <a:cubicBezTo>
                  <a:pt x="7224" y="10176"/>
                  <a:pt x="7281" y="10136"/>
                  <a:pt x="7317" y="10120"/>
                </a:cubicBezTo>
                <a:cubicBezTo>
                  <a:pt x="7388" y="10089"/>
                  <a:pt x="7469" y="10069"/>
                  <a:pt x="7541" y="10046"/>
                </a:cubicBezTo>
                <a:cubicBezTo>
                  <a:pt x="7654" y="10009"/>
                  <a:pt x="7778" y="9990"/>
                  <a:pt x="7888" y="9947"/>
                </a:cubicBezTo>
                <a:cubicBezTo>
                  <a:pt x="8054" y="9883"/>
                  <a:pt x="8209" y="9816"/>
                  <a:pt x="8384" y="9773"/>
                </a:cubicBezTo>
                <a:cubicBezTo>
                  <a:pt x="8599" y="9720"/>
                  <a:pt x="8815" y="9679"/>
                  <a:pt x="9029" y="9624"/>
                </a:cubicBezTo>
                <a:cubicBezTo>
                  <a:pt x="9159" y="9591"/>
                  <a:pt x="9270" y="9588"/>
                  <a:pt x="9401" y="9575"/>
                </a:cubicBezTo>
                <a:cubicBezTo>
                  <a:pt x="9559" y="9559"/>
                  <a:pt x="9710" y="9550"/>
                  <a:pt x="9872" y="9550"/>
                </a:cubicBezTo>
                <a:cubicBezTo>
                  <a:pt x="10080" y="9550"/>
                  <a:pt x="10283" y="9575"/>
                  <a:pt x="10492" y="9575"/>
                </a:cubicBezTo>
                <a:cubicBezTo>
                  <a:pt x="10759" y="9575"/>
                  <a:pt x="11023" y="9577"/>
                  <a:pt x="11286" y="9550"/>
                </a:cubicBezTo>
                <a:cubicBezTo>
                  <a:pt x="11434" y="9535"/>
                  <a:pt x="11562" y="9511"/>
                  <a:pt x="11708" y="9475"/>
                </a:cubicBezTo>
                <a:cubicBezTo>
                  <a:pt x="11840" y="9442"/>
                  <a:pt x="11969" y="9410"/>
                  <a:pt x="12105" y="9401"/>
                </a:cubicBezTo>
                <a:cubicBezTo>
                  <a:pt x="12247" y="9391"/>
                  <a:pt x="12385" y="9381"/>
                  <a:pt x="12526" y="9376"/>
                </a:cubicBezTo>
                <a:cubicBezTo>
                  <a:pt x="12832" y="9364"/>
                  <a:pt x="13143" y="9371"/>
                  <a:pt x="13444" y="9401"/>
                </a:cubicBezTo>
                <a:cubicBezTo>
                  <a:pt x="13596" y="9416"/>
                  <a:pt x="13769" y="9422"/>
                  <a:pt x="13915" y="9475"/>
                </a:cubicBezTo>
                <a:cubicBezTo>
                  <a:pt x="14110" y="9545"/>
                  <a:pt x="14348" y="9667"/>
                  <a:pt x="14511" y="9798"/>
                </a:cubicBezTo>
                <a:cubicBezTo>
                  <a:pt x="14570" y="9846"/>
                  <a:pt x="14619" y="9884"/>
                  <a:pt x="14660" y="9947"/>
                </a:cubicBezTo>
                <a:cubicBezTo>
                  <a:pt x="14689" y="9991"/>
                  <a:pt x="14696" y="10016"/>
                  <a:pt x="14709" y="10046"/>
                </a:cubicBezTo>
                <a:cubicBezTo>
                  <a:pt x="14724" y="10081"/>
                  <a:pt x="14727" y="10161"/>
                  <a:pt x="14734" y="10195"/>
                </a:cubicBezTo>
                <a:cubicBezTo>
                  <a:pt x="14734" y="10203"/>
                  <a:pt x="14734" y="10212"/>
                  <a:pt x="14734" y="10220"/>
                </a:cubicBezTo>
                <a:cubicBezTo>
                  <a:pt x="14704" y="10188"/>
                  <a:pt x="14681" y="10161"/>
                  <a:pt x="14660" y="10145"/>
                </a:cubicBezTo>
                <a:cubicBezTo>
                  <a:pt x="14623" y="10116"/>
                  <a:pt x="14515" y="10058"/>
                  <a:pt x="14560" y="10071"/>
                </a:cubicBezTo>
                <a:cubicBezTo>
                  <a:pt x="14601" y="10083"/>
                  <a:pt x="14575" y="10071"/>
                  <a:pt x="14610" y="10096"/>
                </a:cubicBezTo>
                <a:cubicBezTo>
                  <a:pt x="14709" y="10166"/>
                  <a:pt x="14658" y="10172"/>
                  <a:pt x="14734" y="10145"/>
                </a:cubicBezTo>
                <a:cubicBezTo>
                  <a:pt x="14814" y="10117"/>
                  <a:pt x="14838" y="10032"/>
                  <a:pt x="14883" y="9996"/>
                </a:cubicBezTo>
                <a:cubicBezTo>
                  <a:pt x="14891" y="9996"/>
                  <a:pt x="14900" y="9996"/>
                  <a:pt x="14908" y="99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7920" y="3732120"/>
            <a:ext cx="2278080" cy="955800"/>
          </a:xfrm>
          <a:custGeom>
            <a:avLst/>
            <a:gdLst/>
            <a:ahLst/>
            <a:rect l="l" t="t" r="r" b="b"/>
            <a:pathLst>
              <a:path w="6327" h="2655">
                <a:moveTo>
                  <a:pt x="19348" y="10368"/>
                </a:moveTo>
                <a:lnTo>
                  <a:pt x="19348" y="10368"/>
                </a:lnTo>
              </a:path>
              <a:path w="6327" h="2655">
                <a:moveTo>
                  <a:pt x="13022" y="13022"/>
                </a:moveTo>
                <a:lnTo>
                  <a:pt x="13022" y="1302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4357800"/>
            <a:ext cx="1517760" cy="615960"/>
          </a:xfrm>
          <a:custGeom>
            <a:avLst/>
            <a:gdLst/>
            <a:ahLst/>
            <a:rect l="l" t="t" r="r" b="b"/>
            <a:pathLst>
              <a:path w="4217" h="1712">
                <a:moveTo>
                  <a:pt x="10344" y="12874"/>
                </a:moveTo>
                <a:cubicBezTo>
                  <a:pt x="10314" y="12931"/>
                  <a:pt x="10361" y="13037"/>
                  <a:pt x="10368" y="13122"/>
                </a:cubicBezTo>
                <a:cubicBezTo>
                  <a:pt x="10368" y="13155"/>
                  <a:pt x="10368" y="13188"/>
                  <a:pt x="10368" y="13221"/>
                </a:cubicBezTo>
                <a:cubicBezTo>
                  <a:pt x="10368" y="13263"/>
                  <a:pt x="10368" y="13188"/>
                  <a:pt x="10368" y="13146"/>
                </a:cubicBezTo>
                <a:cubicBezTo>
                  <a:pt x="10368" y="13037"/>
                  <a:pt x="10370" y="13012"/>
                  <a:pt x="10468" y="12948"/>
                </a:cubicBezTo>
                <a:cubicBezTo>
                  <a:pt x="10547" y="12896"/>
                  <a:pt x="10583" y="12894"/>
                  <a:pt x="10666" y="12923"/>
                </a:cubicBezTo>
                <a:cubicBezTo>
                  <a:pt x="10784" y="12965"/>
                  <a:pt x="10765" y="13035"/>
                  <a:pt x="10765" y="13146"/>
                </a:cubicBezTo>
                <a:cubicBezTo>
                  <a:pt x="10765" y="13173"/>
                  <a:pt x="10751" y="13237"/>
                  <a:pt x="10790" y="13246"/>
                </a:cubicBezTo>
                <a:cubicBezTo>
                  <a:pt x="10858" y="13261"/>
                  <a:pt x="10903" y="13233"/>
                  <a:pt x="10964" y="13221"/>
                </a:cubicBezTo>
              </a:path>
              <a:path w="4217" h="1712">
                <a:moveTo>
                  <a:pt x="11311" y="13022"/>
                </a:moveTo>
                <a:cubicBezTo>
                  <a:pt x="11253" y="13022"/>
                  <a:pt x="11377" y="13022"/>
                  <a:pt x="11435" y="13022"/>
                </a:cubicBezTo>
                <a:cubicBezTo>
                  <a:pt x="11493" y="13022"/>
                  <a:pt x="11501" y="13022"/>
                  <a:pt x="11534" y="13022"/>
                </a:cubicBezTo>
              </a:path>
              <a:path w="4217" h="1712">
                <a:moveTo>
                  <a:pt x="12005" y="12774"/>
                </a:moveTo>
                <a:cubicBezTo>
                  <a:pt x="12005" y="12697"/>
                  <a:pt x="12051" y="12665"/>
                  <a:pt x="12129" y="12650"/>
                </a:cubicBezTo>
                <a:cubicBezTo>
                  <a:pt x="12188" y="12639"/>
                  <a:pt x="12285" y="12653"/>
                  <a:pt x="12303" y="12725"/>
                </a:cubicBezTo>
                <a:cubicBezTo>
                  <a:pt x="12332" y="12843"/>
                  <a:pt x="12276" y="12933"/>
                  <a:pt x="12179" y="12998"/>
                </a:cubicBezTo>
                <a:cubicBezTo>
                  <a:pt x="12047" y="13087"/>
                  <a:pt x="11938" y="13172"/>
                  <a:pt x="11857" y="13320"/>
                </a:cubicBezTo>
                <a:cubicBezTo>
                  <a:pt x="11849" y="13345"/>
                  <a:pt x="11840" y="13370"/>
                  <a:pt x="11832" y="13395"/>
                </a:cubicBezTo>
                <a:cubicBezTo>
                  <a:pt x="11847" y="13322"/>
                  <a:pt x="11867" y="13305"/>
                  <a:pt x="11931" y="13271"/>
                </a:cubicBezTo>
                <a:cubicBezTo>
                  <a:pt x="12031" y="13219"/>
                  <a:pt x="12101" y="13218"/>
                  <a:pt x="12204" y="13271"/>
                </a:cubicBezTo>
                <a:cubicBezTo>
                  <a:pt x="12264" y="13302"/>
                  <a:pt x="12337" y="13311"/>
                  <a:pt x="12402" y="13271"/>
                </a:cubicBezTo>
                <a:cubicBezTo>
                  <a:pt x="12425" y="13248"/>
                  <a:pt x="12429" y="13240"/>
                  <a:pt x="12452" y="13246"/>
                </a:cubicBezTo>
              </a:path>
              <a:path w="4217" h="1712">
                <a:moveTo>
                  <a:pt x="12824" y="12774"/>
                </a:moveTo>
                <a:cubicBezTo>
                  <a:pt x="12787" y="12909"/>
                  <a:pt x="12799" y="13053"/>
                  <a:pt x="12799" y="13196"/>
                </a:cubicBezTo>
                <a:cubicBezTo>
                  <a:pt x="12799" y="13204"/>
                  <a:pt x="12799" y="13213"/>
                  <a:pt x="12799" y="13221"/>
                </a:cubicBezTo>
              </a:path>
              <a:path w="4217" h="1712">
                <a:moveTo>
                  <a:pt x="12650" y="12998"/>
                </a:moveTo>
                <a:cubicBezTo>
                  <a:pt x="12769" y="12998"/>
                  <a:pt x="12893" y="12998"/>
                  <a:pt x="12998" y="13022"/>
                </a:cubicBezTo>
                <a:cubicBezTo>
                  <a:pt x="13006" y="13022"/>
                  <a:pt x="13014" y="13022"/>
                  <a:pt x="13022" y="13022"/>
                </a:cubicBezTo>
              </a:path>
              <a:path w="4217" h="1712">
                <a:moveTo>
                  <a:pt x="13667" y="12849"/>
                </a:moveTo>
                <a:cubicBezTo>
                  <a:pt x="13688" y="12828"/>
                  <a:pt x="13656" y="12749"/>
                  <a:pt x="13618" y="12700"/>
                </a:cubicBezTo>
                <a:cubicBezTo>
                  <a:pt x="13571" y="12640"/>
                  <a:pt x="13463" y="12581"/>
                  <a:pt x="13395" y="12626"/>
                </a:cubicBezTo>
                <a:cubicBezTo>
                  <a:pt x="13317" y="12678"/>
                  <a:pt x="13234" y="12828"/>
                  <a:pt x="13271" y="12923"/>
                </a:cubicBezTo>
                <a:cubicBezTo>
                  <a:pt x="13310" y="13024"/>
                  <a:pt x="13469" y="13015"/>
                  <a:pt x="13543" y="12973"/>
                </a:cubicBezTo>
                <a:cubicBezTo>
                  <a:pt x="13602" y="12939"/>
                  <a:pt x="13637" y="12837"/>
                  <a:pt x="13643" y="12774"/>
                </a:cubicBezTo>
                <a:cubicBezTo>
                  <a:pt x="13643" y="12766"/>
                  <a:pt x="13643" y="12758"/>
                  <a:pt x="13643" y="12750"/>
                </a:cubicBezTo>
                <a:cubicBezTo>
                  <a:pt x="13643" y="12894"/>
                  <a:pt x="13606" y="13026"/>
                  <a:pt x="13618" y="13171"/>
                </a:cubicBezTo>
                <a:cubicBezTo>
                  <a:pt x="13624" y="13244"/>
                  <a:pt x="13643" y="13281"/>
                  <a:pt x="13643" y="13345"/>
                </a:cubicBezTo>
              </a:path>
              <a:path w="4217" h="1712">
                <a:moveTo>
                  <a:pt x="9947" y="12576"/>
                </a:moveTo>
                <a:cubicBezTo>
                  <a:pt x="9947" y="12684"/>
                  <a:pt x="9938" y="12742"/>
                  <a:pt x="9947" y="12849"/>
                </a:cubicBezTo>
                <a:cubicBezTo>
                  <a:pt x="9965" y="13061"/>
                  <a:pt x="9980" y="13260"/>
                  <a:pt x="9971" y="13469"/>
                </a:cubicBezTo>
                <a:cubicBezTo>
                  <a:pt x="9969" y="13510"/>
                  <a:pt x="9973" y="13552"/>
                  <a:pt x="9971" y="13593"/>
                </a:cubicBezTo>
                <a:cubicBezTo>
                  <a:pt x="10114" y="13620"/>
                  <a:pt x="10247" y="13618"/>
                  <a:pt x="10393" y="13618"/>
                </a:cubicBezTo>
                <a:cubicBezTo>
                  <a:pt x="10582" y="13618"/>
                  <a:pt x="10777" y="13639"/>
                  <a:pt x="10964" y="13667"/>
                </a:cubicBezTo>
                <a:cubicBezTo>
                  <a:pt x="11146" y="13694"/>
                  <a:pt x="11330" y="13706"/>
                  <a:pt x="11509" y="13742"/>
                </a:cubicBezTo>
                <a:cubicBezTo>
                  <a:pt x="11669" y="13774"/>
                  <a:pt x="11842" y="13787"/>
                  <a:pt x="12005" y="13791"/>
                </a:cubicBezTo>
                <a:cubicBezTo>
                  <a:pt x="12172" y="13795"/>
                  <a:pt x="12335" y="13812"/>
                  <a:pt x="12502" y="13816"/>
                </a:cubicBezTo>
                <a:cubicBezTo>
                  <a:pt x="12663" y="13820"/>
                  <a:pt x="12814" y="13795"/>
                  <a:pt x="12973" y="13791"/>
                </a:cubicBezTo>
                <a:cubicBezTo>
                  <a:pt x="13208" y="13785"/>
                  <a:pt x="13980" y="13915"/>
                  <a:pt x="14064" y="13692"/>
                </a:cubicBezTo>
                <a:cubicBezTo>
                  <a:pt x="14116" y="13553"/>
                  <a:pt x="14105" y="13343"/>
                  <a:pt x="14114" y="13196"/>
                </a:cubicBezTo>
                <a:cubicBezTo>
                  <a:pt x="14122" y="13069"/>
                  <a:pt x="14154" y="12948"/>
                  <a:pt x="14163" y="12824"/>
                </a:cubicBezTo>
                <a:cubicBezTo>
                  <a:pt x="14169" y="12744"/>
                  <a:pt x="14145" y="12673"/>
                  <a:pt x="14139" y="12601"/>
                </a:cubicBezTo>
                <a:cubicBezTo>
                  <a:pt x="14131" y="12495"/>
                  <a:pt x="14139" y="12384"/>
                  <a:pt x="14139" y="12278"/>
                </a:cubicBezTo>
                <a:cubicBezTo>
                  <a:pt x="14046" y="12272"/>
                  <a:pt x="13929" y="12278"/>
                  <a:pt x="13841" y="12254"/>
                </a:cubicBezTo>
                <a:cubicBezTo>
                  <a:pt x="13704" y="12217"/>
                  <a:pt x="13583" y="12177"/>
                  <a:pt x="13444" y="12154"/>
                </a:cubicBezTo>
                <a:cubicBezTo>
                  <a:pt x="13336" y="12136"/>
                  <a:pt x="13232" y="12113"/>
                  <a:pt x="13122" y="12105"/>
                </a:cubicBezTo>
                <a:cubicBezTo>
                  <a:pt x="12992" y="12096"/>
                  <a:pt x="12858" y="12129"/>
                  <a:pt x="12725" y="12129"/>
                </a:cubicBezTo>
                <a:cubicBezTo>
                  <a:pt x="12581" y="12129"/>
                  <a:pt x="12444" y="12167"/>
                  <a:pt x="12303" y="12179"/>
                </a:cubicBezTo>
                <a:cubicBezTo>
                  <a:pt x="12130" y="12194"/>
                  <a:pt x="11955" y="12219"/>
                  <a:pt x="11782" y="12229"/>
                </a:cubicBezTo>
                <a:cubicBezTo>
                  <a:pt x="11583" y="12240"/>
                  <a:pt x="11388" y="12254"/>
                  <a:pt x="11187" y="12254"/>
                </a:cubicBezTo>
                <a:cubicBezTo>
                  <a:pt x="10996" y="12254"/>
                  <a:pt x="10807" y="12208"/>
                  <a:pt x="10616" y="12229"/>
                </a:cubicBezTo>
                <a:cubicBezTo>
                  <a:pt x="10486" y="12243"/>
                  <a:pt x="10349" y="12237"/>
                  <a:pt x="10220" y="12254"/>
                </a:cubicBezTo>
                <a:cubicBezTo>
                  <a:pt x="10148" y="12264"/>
                  <a:pt x="10093" y="12274"/>
                  <a:pt x="10021" y="12278"/>
                </a:cubicBezTo>
                <a:cubicBezTo>
                  <a:pt x="10025" y="12397"/>
                  <a:pt x="10030" y="12508"/>
                  <a:pt x="10046" y="126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32640" y="3554280"/>
            <a:ext cx="1795320" cy="731880"/>
          </a:xfrm>
          <a:custGeom>
            <a:avLst/>
            <a:gdLst/>
            <a:ahLst/>
            <a:rect l="l" t="t" r="r" b="b"/>
            <a:pathLst>
              <a:path w="4986" h="2035">
                <a:moveTo>
                  <a:pt x="15925" y="11782"/>
                </a:moveTo>
                <a:cubicBezTo>
                  <a:pt x="15980" y="11825"/>
                  <a:pt x="16051" y="11807"/>
                  <a:pt x="16123" y="11807"/>
                </a:cubicBezTo>
                <a:cubicBezTo>
                  <a:pt x="16236" y="11807"/>
                  <a:pt x="16340" y="11818"/>
                  <a:pt x="16446" y="11832"/>
                </a:cubicBezTo>
                <a:cubicBezTo>
                  <a:pt x="16692" y="11864"/>
                  <a:pt x="17388" y="11832"/>
                  <a:pt x="17140" y="11832"/>
                </a:cubicBezTo>
              </a:path>
              <a:path w="4986" h="2035">
                <a:moveTo>
                  <a:pt x="16470" y="10120"/>
                </a:moveTo>
                <a:cubicBezTo>
                  <a:pt x="16470" y="10040"/>
                  <a:pt x="16461" y="10037"/>
                  <a:pt x="16545" y="9971"/>
                </a:cubicBezTo>
                <a:cubicBezTo>
                  <a:pt x="16574" y="9948"/>
                  <a:pt x="16687" y="9878"/>
                  <a:pt x="16718" y="9872"/>
                </a:cubicBezTo>
                <a:cubicBezTo>
                  <a:pt x="16790" y="9857"/>
                  <a:pt x="16819" y="9885"/>
                  <a:pt x="16842" y="9922"/>
                </a:cubicBezTo>
                <a:cubicBezTo>
                  <a:pt x="16873" y="9972"/>
                  <a:pt x="16960" y="10034"/>
                  <a:pt x="16892" y="10096"/>
                </a:cubicBezTo>
                <a:cubicBezTo>
                  <a:pt x="16837" y="10146"/>
                  <a:pt x="16748" y="10201"/>
                  <a:pt x="16694" y="10244"/>
                </a:cubicBezTo>
                <a:cubicBezTo>
                  <a:pt x="16639" y="10288"/>
                  <a:pt x="16573" y="10321"/>
                  <a:pt x="16520" y="10368"/>
                </a:cubicBezTo>
                <a:cubicBezTo>
                  <a:pt x="16486" y="10398"/>
                  <a:pt x="16455" y="10441"/>
                  <a:pt x="16446" y="10468"/>
                </a:cubicBezTo>
                <a:cubicBezTo>
                  <a:pt x="16497" y="10416"/>
                  <a:pt x="16508" y="10415"/>
                  <a:pt x="16570" y="10393"/>
                </a:cubicBezTo>
                <a:cubicBezTo>
                  <a:pt x="16623" y="10374"/>
                  <a:pt x="16646" y="10394"/>
                  <a:pt x="16718" y="10418"/>
                </a:cubicBezTo>
                <a:cubicBezTo>
                  <a:pt x="16799" y="10445"/>
                  <a:pt x="16803" y="10426"/>
                  <a:pt x="16892" y="10418"/>
                </a:cubicBezTo>
                <a:cubicBezTo>
                  <a:pt x="16917" y="10418"/>
                  <a:pt x="16925" y="10418"/>
                  <a:pt x="16917" y="10393"/>
                </a:cubicBezTo>
              </a:path>
              <a:path w="4986" h="2035">
                <a:moveTo>
                  <a:pt x="17835" y="11807"/>
                </a:moveTo>
                <a:cubicBezTo>
                  <a:pt x="17909" y="11832"/>
                  <a:pt x="17950" y="11832"/>
                  <a:pt x="18033" y="11832"/>
                </a:cubicBezTo>
                <a:cubicBezTo>
                  <a:pt x="18108" y="11832"/>
                  <a:pt x="18172" y="11817"/>
                  <a:pt x="18207" y="11832"/>
                </a:cubicBezTo>
                <a:cubicBezTo>
                  <a:pt x="18307" y="11876"/>
                  <a:pt x="18399" y="11856"/>
                  <a:pt x="18504" y="11832"/>
                </a:cubicBezTo>
                <a:cubicBezTo>
                  <a:pt x="18572" y="11816"/>
                  <a:pt x="18661" y="11802"/>
                  <a:pt x="18728" y="11832"/>
                </a:cubicBezTo>
                <a:cubicBezTo>
                  <a:pt x="18891" y="11906"/>
                  <a:pt x="18944" y="11827"/>
                  <a:pt x="19124" y="11832"/>
                </a:cubicBezTo>
                <a:cubicBezTo>
                  <a:pt x="19242" y="11835"/>
                  <a:pt x="19259" y="11916"/>
                  <a:pt x="19372" y="11906"/>
                </a:cubicBezTo>
                <a:cubicBezTo>
                  <a:pt x="19470" y="11897"/>
                  <a:pt x="19598" y="11875"/>
                  <a:pt x="19695" y="11857"/>
                </a:cubicBezTo>
                <a:cubicBezTo>
                  <a:pt x="19804" y="11837"/>
                  <a:pt x="19908" y="11846"/>
                  <a:pt x="20017" y="11832"/>
                </a:cubicBezTo>
                <a:cubicBezTo>
                  <a:pt x="20167" y="11812"/>
                  <a:pt x="20314" y="11769"/>
                  <a:pt x="20464" y="11757"/>
                </a:cubicBezTo>
                <a:cubicBezTo>
                  <a:pt x="20610" y="11745"/>
                  <a:pt x="20763" y="11757"/>
                  <a:pt x="20910" y="11757"/>
                </a:cubicBezTo>
              </a:path>
              <a:path w="4986" h="2035">
                <a:moveTo>
                  <a:pt x="19075" y="10244"/>
                </a:moveTo>
                <a:cubicBezTo>
                  <a:pt x="19137" y="10265"/>
                  <a:pt x="19111" y="10355"/>
                  <a:pt x="19124" y="10418"/>
                </a:cubicBezTo>
                <a:cubicBezTo>
                  <a:pt x="19132" y="10458"/>
                  <a:pt x="19193" y="10588"/>
                  <a:pt x="19124" y="10542"/>
                </a:cubicBezTo>
              </a:path>
              <a:path w="4986" h="2035">
                <a:moveTo>
                  <a:pt x="19000" y="10344"/>
                </a:moveTo>
                <a:cubicBezTo>
                  <a:pt x="19101" y="10344"/>
                  <a:pt x="19230" y="10292"/>
                  <a:pt x="19323" y="10319"/>
                </a:cubicBezTo>
                <a:cubicBezTo>
                  <a:pt x="19324" y="10319"/>
                  <a:pt x="19345" y="10360"/>
                  <a:pt x="19348" y="103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2120" y="3705120"/>
            <a:ext cx="1224000" cy="635040"/>
          </a:xfrm>
          <a:custGeom>
            <a:avLst/>
            <a:gdLst/>
            <a:ahLst/>
            <a:rect l="l" t="t" r="r" b="b"/>
            <a:pathLst>
              <a:path w="3400" h="1762">
                <a:moveTo>
                  <a:pt x="10393" y="11733"/>
                </a:moveTo>
                <a:cubicBezTo>
                  <a:pt x="10385" y="11725"/>
                  <a:pt x="10376" y="11716"/>
                  <a:pt x="10368" y="11708"/>
                </a:cubicBezTo>
                <a:cubicBezTo>
                  <a:pt x="10398" y="11775"/>
                  <a:pt x="10421" y="11883"/>
                  <a:pt x="10492" y="11931"/>
                </a:cubicBezTo>
                <a:cubicBezTo>
                  <a:pt x="10577" y="11988"/>
                  <a:pt x="10769" y="11933"/>
                  <a:pt x="10864" y="11931"/>
                </a:cubicBezTo>
                <a:cubicBezTo>
                  <a:pt x="11069" y="11927"/>
                  <a:pt x="11283" y="11926"/>
                  <a:pt x="11485" y="11956"/>
                </a:cubicBezTo>
                <a:cubicBezTo>
                  <a:pt x="11586" y="11971"/>
                  <a:pt x="11682" y="11969"/>
                  <a:pt x="11782" y="11981"/>
                </a:cubicBezTo>
                <a:cubicBezTo>
                  <a:pt x="11875" y="11993"/>
                  <a:pt x="11959" y="12005"/>
                  <a:pt x="12055" y="12005"/>
                </a:cubicBezTo>
                <a:cubicBezTo>
                  <a:pt x="12224" y="12005"/>
                  <a:pt x="12385" y="12019"/>
                  <a:pt x="12551" y="12030"/>
                </a:cubicBezTo>
                <a:cubicBezTo>
                  <a:pt x="12720" y="12041"/>
                  <a:pt x="12881" y="12018"/>
                  <a:pt x="13047" y="12005"/>
                </a:cubicBezTo>
                <a:cubicBezTo>
                  <a:pt x="13163" y="11996"/>
                  <a:pt x="13277" y="12030"/>
                  <a:pt x="13395" y="12030"/>
                </a:cubicBezTo>
                <a:cubicBezTo>
                  <a:pt x="13461" y="12030"/>
                  <a:pt x="13506" y="12077"/>
                  <a:pt x="13568" y="12055"/>
                </a:cubicBezTo>
                <a:cubicBezTo>
                  <a:pt x="13626" y="12034"/>
                  <a:pt x="13648" y="12000"/>
                  <a:pt x="13692" y="11956"/>
                </a:cubicBezTo>
                <a:cubicBezTo>
                  <a:pt x="13708" y="11940"/>
                  <a:pt x="13727" y="11922"/>
                  <a:pt x="13742" y="11906"/>
                </a:cubicBezTo>
                <a:cubicBezTo>
                  <a:pt x="13764" y="11882"/>
                  <a:pt x="13738" y="11896"/>
                  <a:pt x="13767" y="11881"/>
                </a:cubicBezTo>
              </a:path>
              <a:path w="3400" h="1762">
                <a:moveTo>
                  <a:pt x="11460" y="10344"/>
                </a:moveTo>
                <a:cubicBezTo>
                  <a:pt x="11460" y="10336"/>
                  <a:pt x="11460" y="10327"/>
                  <a:pt x="11460" y="10319"/>
                </a:cubicBezTo>
                <a:cubicBezTo>
                  <a:pt x="11460" y="10261"/>
                  <a:pt x="11508" y="10490"/>
                  <a:pt x="11509" y="10492"/>
                </a:cubicBezTo>
                <a:cubicBezTo>
                  <a:pt x="11533" y="10572"/>
                  <a:pt x="11559" y="10656"/>
                  <a:pt x="11559" y="10740"/>
                </a:cubicBezTo>
                <a:cubicBezTo>
                  <a:pt x="11559" y="10670"/>
                  <a:pt x="11521" y="10613"/>
                  <a:pt x="11534" y="10542"/>
                </a:cubicBezTo>
                <a:cubicBezTo>
                  <a:pt x="11545" y="10481"/>
                  <a:pt x="11567" y="10415"/>
                  <a:pt x="11609" y="10368"/>
                </a:cubicBezTo>
                <a:cubicBezTo>
                  <a:pt x="11651" y="10321"/>
                  <a:pt x="11721" y="10298"/>
                  <a:pt x="11782" y="10294"/>
                </a:cubicBezTo>
                <a:cubicBezTo>
                  <a:pt x="11864" y="10289"/>
                  <a:pt x="11904" y="10399"/>
                  <a:pt x="11931" y="10468"/>
                </a:cubicBezTo>
                <a:cubicBezTo>
                  <a:pt x="11955" y="10531"/>
                  <a:pt x="11896" y="10636"/>
                  <a:pt x="11956" y="10666"/>
                </a:cubicBezTo>
                <a:cubicBezTo>
                  <a:pt x="12071" y="10724"/>
                  <a:pt x="12129" y="10674"/>
                  <a:pt x="12229" y="106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73880" y="5062680"/>
            <a:ext cx="44280" cy="188640"/>
          </a:xfrm>
          <a:custGeom>
            <a:avLst/>
            <a:gdLst/>
            <a:ahLst/>
            <a:rect l="l" t="t" r="r" b="b"/>
            <a:pathLst>
              <a:path w="125" h="522">
                <a:moveTo>
                  <a:pt x="17983" y="14064"/>
                </a:moveTo>
                <a:cubicBezTo>
                  <a:pt x="17991" y="14081"/>
                  <a:pt x="18000" y="14097"/>
                  <a:pt x="18008" y="14114"/>
                </a:cubicBezTo>
              </a:path>
              <a:path w="125" h="522">
                <a:moveTo>
                  <a:pt x="18107" y="14560"/>
                </a:moveTo>
                <a:cubicBezTo>
                  <a:pt x="18107" y="14568"/>
                  <a:pt x="18107" y="14577"/>
                  <a:pt x="18107" y="145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16080" y="4670280"/>
            <a:ext cx="5938920" cy="901800"/>
          </a:xfrm>
          <a:custGeom>
            <a:avLst/>
            <a:gdLst/>
            <a:ahLst/>
            <a:rect l="l" t="t" r="r" b="b"/>
            <a:pathLst>
              <a:path w="16496" h="2506">
                <a:moveTo>
                  <a:pt x="15131" y="15429"/>
                </a:moveTo>
                <a:cubicBezTo>
                  <a:pt x="15147" y="15381"/>
                  <a:pt x="15281" y="15399"/>
                  <a:pt x="15329" y="15404"/>
                </a:cubicBezTo>
                <a:cubicBezTo>
                  <a:pt x="15535" y="15426"/>
                  <a:pt x="15742" y="15442"/>
                  <a:pt x="15949" y="15453"/>
                </a:cubicBezTo>
                <a:cubicBezTo>
                  <a:pt x="16051" y="15459"/>
                  <a:pt x="16106" y="15459"/>
                  <a:pt x="16197" y="15478"/>
                </a:cubicBezTo>
              </a:path>
              <a:path w="16496" h="2506">
                <a:moveTo>
                  <a:pt x="15379" y="13866"/>
                </a:moveTo>
                <a:cubicBezTo>
                  <a:pt x="15379" y="13807"/>
                  <a:pt x="15368" y="13933"/>
                  <a:pt x="15354" y="13990"/>
                </a:cubicBezTo>
                <a:cubicBezTo>
                  <a:pt x="15338" y="14056"/>
                  <a:pt x="15280" y="14167"/>
                  <a:pt x="15304" y="14238"/>
                </a:cubicBezTo>
                <a:cubicBezTo>
                  <a:pt x="15331" y="14319"/>
                  <a:pt x="15382" y="14330"/>
                  <a:pt x="15453" y="14362"/>
                </a:cubicBezTo>
                <a:cubicBezTo>
                  <a:pt x="15514" y="14389"/>
                  <a:pt x="15635" y="14366"/>
                  <a:pt x="15701" y="14337"/>
                </a:cubicBezTo>
                <a:cubicBezTo>
                  <a:pt x="15783" y="14301"/>
                  <a:pt x="15794" y="14251"/>
                  <a:pt x="15850" y="14213"/>
                </a:cubicBezTo>
                <a:cubicBezTo>
                  <a:pt x="15891" y="14185"/>
                  <a:pt x="15881" y="14141"/>
                  <a:pt x="15850" y="14114"/>
                </a:cubicBezTo>
                <a:cubicBezTo>
                  <a:pt x="15823" y="14090"/>
                  <a:pt x="15768" y="14040"/>
                  <a:pt x="15726" y="14064"/>
                </a:cubicBezTo>
                <a:cubicBezTo>
                  <a:pt x="15672" y="14094"/>
                  <a:pt x="15657" y="14128"/>
                  <a:pt x="15627" y="14188"/>
                </a:cubicBezTo>
                <a:cubicBezTo>
                  <a:pt x="15599" y="14244"/>
                  <a:pt x="15602" y="14275"/>
                  <a:pt x="15602" y="14337"/>
                </a:cubicBezTo>
              </a:path>
              <a:path w="16496" h="2506">
                <a:moveTo>
                  <a:pt x="6052" y="14486"/>
                </a:moveTo>
                <a:cubicBezTo>
                  <a:pt x="6106" y="14513"/>
                  <a:pt x="6169" y="14548"/>
                  <a:pt x="6226" y="14585"/>
                </a:cubicBezTo>
                <a:cubicBezTo>
                  <a:pt x="6404" y="14702"/>
                  <a:pt x="6538" y="14709"/>
                  <a:pt x="6747" y="14709"/>
                </a:cubicBezTo>
                <a:cubicBezTo>
                  <a:pt x="6862" y="14709"/>
                  <a:pt x="6965" y="14716"/>
                  <a:pt x="7069" y="14660"/>
                </a:cubicBezTo>
                <a:cubicBezTo>
                  <a:pt x="7142" y="14621"/>
                  <a:pt x="7209" y="14561"/>
                  <a:pt x="7243" y="14486"/>
                </a:cubicBezTo>
                <a:cubicBezTo>
                  <a:pt x="7310" y="14339"/>
                  <a:pt x="7320" y="14140"/>
                  <a:pt x="7243" y="13990"/>
                </a:cubicBezTo>
                <a:cubicBezTo>
                  <a:pt x="7153" y="13815"/>
                  <a:pt x="7013" y="13727"/>
                  <a:pt x="6846" y="13643"/>
                </a:cubicBezTo>
                <a:cubicBezTo>
                  <a:pt x="6635" y="13537"/>
                  <a:pt x="6463" y="13561"/>
                  <a:pt x="6251" y="13667"/>
                </a:cubicBezTo>
                <a:cubicBezTo>
                  <a:pt x="6037" y="13774"/>
                  <a:pt x="5963" y="13969"/>
                  <a:pt x="5904" y="14188"/>
                </a:cubicBezTo>
                <a:cubicBezTo>
                  <a:pt x="5866" y="14330"/>
                  <a:pt x="5897" y="14499"/>
                  <a:pt x="6003" y="14610"/>
                </a:cubicBezTo>
                <a:cubicBezTo>
                  <a:pt x="6028" y="14627"/>
                  <a:pt x="6052" y="14643"/>
                  <a:pt x="6077" y="14660"/>
                </a:cubicBezTo>
              </a:path>
              <a:path w="16496" h="2506">
                <a:moveTo>
                  <a:pt x="7193" y="14139"/>
                </a:moveTo>
                <a:cubicBezTo>
                  <a:pt x="7280" y="14116"/>
                  <a:pt x="7381" y="14113"/>
                  <a:pt x="7466" y="14089"/>
                </a:cubicBezTo>
                <a:cubicBezTo>
                  <a:pt x="7631" y="14042"/>
                  <a:pt x="7790" y="13991"/>
                  <a:pt x="7962" y="13965"/>
                </a:cubicBezTo>
                <a:cubicBezTo>
                  <a:pt x="8284" y="13916"/>
                  <a:pt x="8610" y="13912"/>
                  <a:pt x="8930" y="13866"/>
                </a:cubicBezTo>
                <a:cubicBezTo>
                  <a:pt x="9122" y="13838"/>
                  <a:pt x="9330" y="13824"/>
                  <a:pt x="9525" y="13841"/>
                </a:cubicBezTo>
                <a:cubicBezTo>
                  <a:pt x="9700" y="13856"/>
                  <a:pt x="9869" y="13888"/>
                  <a:pt x="10046" y="13891"/>
                </a:cubicBezTo>
                <a:cubicBezTo>
                  <a:pt x="10254" y="13895"/>
                  <a:pt x="10436" y="13913"/>
                  <a:pt x="10641" y="13940"/>
                </a:cubicBezTo>
                <a:cubicBezTo>
                  <a:pt x="10799" y="13961"/>
                  <a:pt x="10954" y="13987"/>
                  <a:pt x="11112" y="14015"/>
                </a:cubicBezTo>
                <a:cubicBezTo>
                  <a:pt x="11333" y="14054"/>
                  <a:pt x="11559" y="14043"/>
                  <a:pt x="11782" y="14064"/>
                </a:cubicBezTo>
                <a:cubicBezTo>
                  <a:pt x="11998" y="14084"/>
                  <a:pt x="12210" y="14127"/>
                  <a:pt x="12427" y="14139"/>
                </a:cubicBezTo>
                <a:cubicBezTo>
                  <a:pt x="12597" y="14148"/>
                  <a:pt x="12758" y="14131"/>
                  <a:pt x="12923" y="14114"/>
                </a:cubicBezTo>
                <a:cubicBezTo>
                  <a:pt x="13150" y="14090"/>
                  <a:pt x="13363" y="14043"/>
                  <a:pt x="13593" y="14039"/>
                </a:cubicBezTo>
                <a:cubicBezTo>
                  <a:pt x="13712" y="14037"/>
                  <a:pt x="13790" y="14036"/>
                  <a:pt x="13891" y="14089"/>
                </a:cubicBezTo>
                <a:cubicBezTo>
                  <a:pt x="13952" y="14121"/>
                  <a:pt x="14012" y="14173"/>
                  <a:pt x="14039" y="14238"/>
                </a:cubicBezTo>
                <a:cubicBezTo>
                  <a:pt x="14061" y="14290"/>
                  <a:pt x="14023" y="14348"/>
                  <a:pt x="14015" y="14387"/>
                </a:cubicBezTo>
                <a:cubicBezTo>
                  <a:pt x="14015" y="14428"/>
                  <a:pt x="14023" y="14444"/>
                  <a:pt x="13990" y="14436"/>
                </a:cubicBezTo>
              </a:path>
              <a:path w="16496" h="2506">
                <a:moveTo>
                  <a:pt x="13742" y="14188"/>
                </a:moveTo>
                <a:cubicBezTo>
                  <a:pt x="13809" y="14222"/>
                  <a:pt x="13842" y="14334"/>
                  <a:pt x="13915" y="14387"/>
                </a:cubicBezTo>
                <a:cubicBezTo>
                  <a:pt x="13982" y="14435"/>
                  <a:pt x="14058" y="14386"/>
                  <a:pt x="14114" y="14337"/>
                </a:cubicBezTo>
                <a:cubicBezTo>
                  <a:pt x="14180" y="14279"/>
                  <a:pt x="14194" y="14230"/>
                  <a:pt x="14263" y="14213"/>
                </a:cubicBezTo>
              </a:path>
              <a:path w="16496" h="2506">
                <a:moveTo>
                  <a:pt x="17462" y="14213"/>
                </a:moveTo>
                <a:cubicBezTo>
                  <a:pt x="17526" y="14277"/>
                  <a:pt x="17411" y="14154"/>
                  <a:pt x="17388" y="14139"/>
                </a:cubicBezTo>
                <a:cubicBezTo>
                  <a:pt x="17371" y="14131"/>
                  <a:pt x="17355" y="14122"/>
                  <a:pt x="17338" y="14114"/>
                </a:cubicBezTo>
                <a:cubicBezTo>
                  <a:pt x="17233" y="14280"/>
                  <a:pt x="17042" y="14600"/>
                  <a:pt x="17289" y="14759"/>
                </a:cubicBezTo>
                <a:cubicBezTo>
                  <a:pt x="17395" y="14827"/>
                  <a:pt x="17593" y="14701"/>
                  <a:pt x="17686" y="14660"/>
                </a:cubicBezTo>
              </a:path>
              <a:path w="16496" h="2506">
                <a:moveTo>
                  <a:pt x="17959" y="14362"/>
                </a:moveTo>
                <a:cubicBezTo>
                  <a:pt x="18066" y="14362"/>
                  <a:pt x="18174" y="14362"/>
                  <a:pt x="18281" y="14362"/>
                </a:cubicBezTo>
              </a:path>
              <a:path w="16496" h="2506">
                <a:moveTo>
                  <a:pt x="18554" y="14039"/>
                </a:moveTo>
                <a:cubicBezTo>
                  <a:pt x="18609" y="14094"/>
                  <a:pt x="18551" y="14223"/>
                  <a:pt x="18529" y="14312"/>
                </a:cubicBezTo>
                <a:cubicBezTo>
                  <a:pt x="18501" y="14423"/>
                  <a:pt x="18480" y="14551"/>
                  <a:pt x="18529" y="14660"/>
                </a:cubicBezTo>
                <a:cubicBezTo>
                  <a:pt x="18563" y="14734"/>
                  <a:pt x="18745" y="14725"/>
                  <a:pt x="18802" y="14709"/>
                </a:cubicBezTo>
                <a:cubicBezTo>
                  <a:pt x="18891" y="14685"/>
                  <a:pt x="18969" y="14647"/>
                  <a:pt x="18976" y="14560"/>
                </a:cubicBezTo>
                <a:cubicBezTo>
                  <a:pt x="18981" y="14501"/>
                  <a:pt x="18994" y="14453"/>
                  <a:pt x="18926" y="14436"/>
                </a:cubicBezTo>
                <a:cubicBezTo>
                  <a:pt x="18829" y="14412"/>
                  <a:pt x="18770" y="14466"/>
                  <a:pt x="18752" y="14560"/>
                </a:cubicBezTo>
                <a:cubicBezTo>
                  <a:pt x="18734" y="14652"/>
                  <a:pt x="18739" y="14650"/>
                  <a:pt x="18802" y="14660"/>
                </a:cubicBezTo>
              </a:path>
              <a:path w="16496" h="2506">
                <a:moveTo>
                  <a:pt x="19844" y="14312"/>
                </a:moveTo>
                <a:cubicBezTo>
                  <a:pt x="19739" y="14312"/>
                  <a:pt x="19695" y="14403"/>
                  <a:pt x="19695" y="14511"/>
                </a:cubicBezTo>
                <a:cubicBezTo>
                  <a:pt x="19703" y="14527"/>
                  <a:pt x="19712" y="14544"/>
                  <a:pt x="19720" y="14560"/>
                </a:cubicBezTo>
                <a:cubicBezTo>
                  <a:pt x="19793" y="14554"/>
                  <a:pt x="19973" y="14534"/>
                  <a:pt x="19869" y="14412"/>
                </a:cubicBezTo>
                <a:cubicBezTo>
                  <a:pt x="19816" y="14350"/>
                  <a:pt x="19813" y="14420"/>
                  <a:pt x="19794" y="14362"/>
                </a:cubicBezTo>
              </a:path>
              <a:path w="16496" h="2506">
                <a:moveTo>
                  <a:pt x="20141" y="14486"/>
                </a:moveTo>
                <a:cubicBezTo>
                  <a:pt x="20149" y="14503"/>
                  <a:pt x="20158" y="14519"/>
                  <a:pt x="20166" y="14536"/>
                </a:cubicBezTo>
                <a:cubicBezTo>
                  <a:pt x="20180" y="14455"/>
                  <a:pt x="20216" y="14380"/>
                  <a:pt x="20265" y="14312"/>
                </a:cubicBezTo>
                <a:cubicBezTo>
                  <a:pt x="20300" y="14263"/>
                  <a:pt x="20299" y="14299"/>
                  <a:pt x="20340" y="14238"/>
                </a:cubicBezTo>
              </a:path>
              <a:path w="16496" h="2506">
                <a:moveTo>
                  <a:pt x="21605" y="13246"/>
                </a:moveTo>
                <a:cubicBezTo>
                  <a:pt x="21612" y="13296"/>
                  <a:pt x="21623" y="13345"/>
                  <a:pt x="21630" y="13395"/>
                </a:cubicBezTo>
                <a:cubicBezTo>
                  <a:pt x="21543" y="13337"/>
                  <a:pt x="21432" y="13214"/>
                  <a:pt x="21357" y="13370"/>
                </a:cubicBezTo>
                <a:cubicBezTo>
                  <a:pt x="21309" y="13470"/>
                  <a:pt x="21197" y="13835"/>
                  <a:pt x="21406" y="13866"/>
                </a:cubicBezTo>
                <a:cubicBezTo>
                  <a:pt x="21527" y="13884"/>
                  <a:pt x="21650" y="13792"/>
                  <a:pt x="21754" y="13767"/>
                </a:cubicBezTo>
              </a:path>
              <a:path w="16496" h="2506">
                <a:moveTo>
                  <a:pt x="21059" y="14064"/>
                </a:moveTo>
                <a:cubicBezTo>
                  <a:pt x="21235" y="14064"/>
                  <a:pt x="21405" y="14045"/>
                  <a:pt x="21580" y="14039"/>
                </a:cubicBezTo>
                <a:cubicBezTo>
                  <a:pt x="21743" y="14033"/>
                  <a:pt x="21891" y="14064"/>
                  <a:pt x="22051" y="14064"/>
                </a:cubicBezTo>
              </a:path>
              <a:path w="16496" h="2506">
                <a:moveTo>
                  <a:pt x="21357" y="14163"/>
                </a:moveTo>
                <a:cubicBezTo>
                  <a:pt x="21421" y="14184"/>
                  <a:pt x="21345" y="14328"/>
                  <a:pt x="21332" y="14387"/>
                </a:cubicBezTo>
                <a:cubicBezTo>
                  <a:pt x="21303" y="14518"/>
                  <a:pt x="21260" y="14630"/>
                  <a:pt x="21307" y="14759"/>
                </a:cubicBezTo>
                <a:cubicBezTo>
                  <a:pt x="21343" y="14856"/>
                  <a:pt x="21516" y="14870"/>
                  <a:pt x="21605" y="14858"/>
                </a:cubicBezTo>
                <a:cubicBezTo>
                  <a:pt x="21670" y="14850"/>
                  <a:pt x="21794" y="14791"/>
                  <a:pt x="21828" y="14734"/>
                </a:cubicBezTo>
                <a:cubicBezTo>
                  <a:pt x="21828" y="14726"/>
                  <a:pt x="21828" y="14717"/>
                  <a:pt x="21828" y="14709"/>
                </a:cubicBezTo>
                <a:cubicBezTo>
                  <a:pt x="21770" y="14674"/>
                  <a:pt x="21720" y="14658"/>
                  <a:pt x="21654" y="14684"/>
                </a:cubicBezTo>
                <a:cubicBezTo>
                  <a:pt x="21569" y="14717"/>
                  <a:pt x="21555" y="14774"/>
                  <a:pt x="21555" y="14858"/>
                </a:cubicBezTo>
                <a:cubicBezTo>
                  <a:pt x="21555" y="14865"/>
                  <a:pt x="21555" y="15012"/>
                  <a:pt x="21555" y="14883"/>
                </a:cubicBezTo>
              </a:path>
              <a:path w="16496" h="2506">
                <a:moveTo>
                  <a:pt x="16966" y="13667"/>
                </a:moveTo>
                <a:cubicBezTo>
                  <a:pt x="16983" y="13790"/>
                  <a:pt x="17000" y="13915"/>
                  <a:pt x="17016" y="14039"/>
                </a:cubicBezTo>
                <a:cubicBezTo>
                  <a:pt x="17047" y="14275"/>
                  <a:pt x="17066" y="14497"/>
                  <a:pt x="17066" y="14734"/>
                </a:cubicBezTo>
                <a:cubicBezTo>
                  <a:pt x="17066" y="14858"/>
                  <a:pt x="17066" y="14982"/>
                  <a:pt x="17066" y="15106"/>
                </a:cubicBezTo>
                <a:cubicBezTo>
                  <a:pt x="17181" y="15117"/>
                  <a:pt x="17299" y="15117"/>
                  <a:pt x="17413" y="15131"/>
                </a:cubicBezTo>
                <a:cubicBezTo>
                  <a:pt x="17644" y="15159"/>
                  <a:pt x="17875" y="15175"/>
                  <a:pt x="18107" y="15205"/>
                </a:cubicBezTo>
                <a:cubicBezTo>
                  <a:pt x="18389" y="15241"/>
                  <a:pt x="18671" y="15273"/>
                  <a:pt x="18951" y="15304"/>
                </a:cubicBezTo>
                <a:cubicBezTo>
                  <a:pt x="19167" y="15328"/>
                  <a:pt x="19379" y="15368"/>
                  <a:pt x="19596" y="15379"/>
                </a:cubicBezTo>
                <a:cubicBezTo>
                  <a:pt x="19820" y="15391"/>
                  <a:pt x="20040" y="15404"/>
                  <a:pt x="20265" y="15404"/>
                </a:cubicBezTo>
                <a:cubicBezTo>
                  <a:pt x="20483" y="15404"/>
                  <a:pt x="20694" y="15407"/>
                  <a:pt x="20910" y="15379"/>
                </a:cubicBezTo>
                <a:cubicBezTo>
                  <a:pt x="21134" y="15350"/>
                  <a:pt x="21356" y="15338"/>
                  <a:pt x="21580" y="15304"/>
                </a:cubicBezTo>
                <a:cubicBezTo>
                  <a:pt x="21675" y="15290"/>
                  <a:pt x="21812" y="15286"/>
                  <a:pt x="21903" y="15255"/>
                </a:cubicBezTo>
                <a:cubicBezTo>
                  <a:pt x="21938" y="15243"/>
                  <a:pt x="21930" y="15218"/>
                  <a:pt x="21952" y="15205"/>
                </a:cubicBezTo>
                <a:cubicBezTo>
                  <a:pt x="21988" y="15183"/>
                  <a:pt x="22073" y="15136"/>
                  <a:pt x="22101" y="15106"/>
                </a:cubicBezTo>
                <a:cubicBezTo>
                  <a:pt x="22159" y="15044"/>
                  <a:pt x="22179" y="14989"/>
                  <a:pt x="22200" y="14908"/>
                </a:cubicBezTo>
                <a:cubicBezTo>
                  <a:pt x="22229" y="14798"/>
                  <a:pt x="22235" y="14651"/>
                  <a:pt x="22250" y="14536"/>
                </a:cubicBezTo>
                <a:cubicBezTo>
                  <a:pt x="22264" y="14427"/>
                  <a:pt x="22281" y="14318"/>
                  <a:pt x="22299" y="14213"/>
                </a:cubicBezTo>
                <a:cubicBezTo>
                  <a:pt x="22316" y="14111"/>
                  <a:pt x="22342" y="13994"/>
                  <a:pt x="22349" y="13891"/>
                </a:cubicBezTo>
                <a:cubicBezTo>
                  <a:pt x="22360" y="13726"/>
                  <a:pt x="22371" y="13559"/>
                  <a:pt x="22374" y="13395"/>
                </a:cubicBezTo>
                <a:cubicBezTo>
                  <a:pt x="22376" y="13271"/>
                  <a:pt x="22374" y="13146"/>
                  <a:pt x="22374" y="13022"/>
                </a:cubicBezTo>
                <a:cubicBezTo>
                  <a:pt x="22300" y="13009"/>
                  <a:pt x="22226" y="13008"/>
                  <a:pt x="22151" y="12998"/>
                </a:cubicBezTo>
                <a:cubicBezTo>
                  <a:pt x="21972" y="12973"/>
                  <a:pt x="21831" y="12972"/>
                  <a:pt x="21654" y="12998"/>
                </a:cubicBezTo>
                <a:cubicBezTo>
                  <a:pt x="21546" y="13014"/>
                  <a:pt x="21442" y="13012"/>
                  <a:pt x="21332" y="13022"/>
                </a:cubicBezTo>
                <a:cubicBezTo>
                  <a:pt x="21192" y="13035"/>
                  <a:pt x="21051" y="13033"/>
                  <a:pt x="20910" y="13047"/>
                </a:cubicBezTo>
                <a:cubicBezTo>
                  <a:pt x="20752" y="13063"/>
                  <a:pt x="20598" y="13089"/>
                  <a:pt x="20439" y="13097"/>
                </a:cubicBezTo>
                <a:cubicBezTo>
                  <a:pt x="20274" y="13106"/>
                  <a:pt x="20106" y="13114"/>
                  <a:pt x="19943" y="13122"/>
                </a:cubicBezTo>
                <a:cubicBezTo>
                  <a:pt x="19695" y="13134"/>
                  <a:pt x="19442" y="13131"/>
                  <a:pt x="19199" y="13146"/>
                </a:cubicBezTo>
                <a:cubicBezTo>
                  <a:pt x="18945" y="13162"/>
                  <a:pt x="18683" y="13160"/>
                  <a:pt x="18430" y="13171"/>
                </a:cubicBezTo>
                <a:cubicBezTo>
                  <a:pt x="18264" y="13178"/>
                  <a:pt x="18099" y="13179"/>
                  <a:pt x="17934" y="13196"/>
                </a:cubicBezTo>
                <a:cubicBezTo>
                  <a:pt x="17839" y="13206"/>
                  <a:pt x="17748" y="13228"/>
                  <a:pt x="17661" y="13246"/>
                </a:cubicBezTo>
                <a:cubicBezTo>
                  <a:pt x="17534" y="13273"/>
                  <a:pt x="17416" y="13297"/>
                  <a:pt x="17289" y="13320"/>
                </a:cubicBezTo>
                <a:cubicBezTo>
                  <a:pt x="17238" y="13329"/>
                  <a:pt x="17159" y="13366"/>
                  <a:pt x="17115" y="13370"/>
                </a:cubicBezTo>
                <a:cubicBezTo>
                  <a:pt x="17055" y="13376"/>
                  <a:pt x="16990" y="13387"/>
                  <a:pt x="16942" y="13395"/>
                </a:cubicBezTo>
                <a:cubicBezTo>
                  <a:pt x="16934" y="13395"/>
                  <a:pt x="16925" y="13395"/>
                  <a:pt x="16917" y="13395"/>
                </a:cubicBezTo>
                <a:cubicBezTo>
                  <a:pt x="16923" y="13519"/>
                  <a:pt x="16928" y="13644"/>
                  <a:pt x="16942" y="13767"/>
                </a:cubicBezTo>
                <a:cubicBezTo>
                  <a:pt x="16951" y="13843"/>
                  <a:pt x="16978" y="13901"/>
                  <a:pt x="16991" y="13965"/>
                </a:cubicBezTo>
                <a:cubicBezTo>
                  <a:pt x="16991" y="13990"/>
                  <a:pt x="16991" y="13998"/>
                  <a:pt x="16991" y="139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32840" y="5823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2870" y="16173"/>
                </a:moveTo>
                <a:lnTo>
                  <a:pt x="22870" y="16173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51080" y="5010120"/>
            <a:ext cx="241200" cy="231840"/>
          </a:xfrm>
          <a:custGeom>
            <a:avLst/>
            <a:gdLst/>
            <a:ahLst/>
            <a:rect l="l" t="t" r="r" b="b"/>
            <a:pathLst>
              <a:path w="671" h="646">
                <a:moveTo>
                  <a:pt x="6251" y="14263"/>
                </a:moveTo>
                <a:cubicBezTo>
                  <a:pt x="6260" y="14236"/>
                  <a:pt x="6331" y="14194"/>
                  <a:pt x="6375" y="14188"/>
                </a:cubicBezTo>
                <a:cubicBezTo>
                  <a:pt x="6544" y="14164"/>
                  <a:pt x="6730" y="14175"/>
                  <a:pt x="6896" y="14188"/>
                </a:cubicBezTo>
                <a:cubicBezTo>
                  <a:pt x="6904" y="14188"/>
                  <a:pt x="6913" y="14188"/>
                  <a:pt x="6921" y="14188"/>
                </a:cubicBezTo>
              </a:path>
              <a:path w="671" h="646">
                <a:moveTo>
                  <a:pt x="6598" y="13915"/>
                </a:moveTo>
                <a:cubicBezTo>
                  <a:pt x="6598" y="13960"/>
                  <a:pt x="6601" y="13973"/>
                  <a:pt x="6573" y="13990"/>
                </a:cubicBezTo>
                <a:cubicBezTo>
                  <a:pt x="6638" y="13881"/>
                  <a:pt x="6534" y="13917"/>
                  <a:pt x="6548" y="13965"/>
                </a:cubicBezTo>
                <a:cubicBezTo>
                  <a:pt x="6565" y="13990"/>
                  <a:pt x="6581" y="14014"/>
                  <a:pt x="6598" y="14039"/>
                </a:cubicBezTo>
              </a:path>
              <a:path w="671" h="646">
                <a:moveTo>
                  <a:pt x="6573" y="14461"/>
                </a:moveTo>
                <a:cubicBezTo>
                  <a:pt x="6529" y="14491"/>
                  <a:pt x="6551" y="14502"/>
                  <a:pt x="6573" y="14560"/>
                </a:cubicBezTo>
                <a:cubicBezTo>
                  <a:pt x="6605" y="14464"/>
                  <a:pt x="6633" y="14426"/>
                  <a:pt x="6573" y="14486"/>
                </a:cubicBezTo>
                <a:cubicBezTo>
                  <a:pt x="6553" y="14506"/>
                  <a:pt x="6585" y="14436"/>
                  <a:pt x="6598" y="144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90920" y="5089680"/>
            <a:ext cx="1206360" cy="509400"/>
          </a:xfrm>
          <a:custGeom>
            <a:avLst/>
            <a:gdLst/>
            <a:ahLst/>
            <a:rect l="l" t="t" r="r" b="b"/>
            <a:pathLst>
              <a:path w="3349" h="1415">
                <a:moveTo>
                  <a:pt x="9699" y="15354"/>
                </a:moveTo>
                <a:cubicBezTo>
                  <a:pt x="9699" y="15346"/>
                  <a:pt x="9699" y="15337"/>
                  <a:pt x="9699" y="15329"/>
                </a:cubicBezTo>
                <a:cubicBezTo>
                  <a:pt x="9716" y="15389"/>
                  <a:pt x="9713" y="15402"/>
                  <a:pt x="9748" y="15453"/>
                </a:cubicBezTo>
                <a:cubicBezTo>
                  <a:pt x="9815" y="15549"/>
                  <a:pt x="9863" y="15550"/>
                  <a:pt x="9971" y="15528"/>
                </a:cubicBezTo>
                <a:cubicBezTo>
                  <a:pt x="10141" y="15493"/>
                  <a:pt x="10318" y="15442"/>
                  <a:pt x="10492" y="15429"/>
                </a:cubicBezTo>
                <a:cubicBezTo>
                  <a:pt x="10683" y="15415"/>
                  <a:pt x="10871" y="15404"/>
                  <a:pt x="11063" y="15404"/>
                </a:cubicBezTo>
                <a:cubicBezTo>
                  <a:pt x="11225" y="15404"/>
                  <a:pt x="11376" y="15392"/>
                  <a:pt x="11534" y="15379"/>
                </a:cubicBezTo>
                <a:cubicBezTo>
                  <a:pt x="11642" y="15370"/>
                  <a:pt x="11799" y="15385"/>
                  <a:pt x="11906" y="15404"/>
                </a:cubicBezTo>
                <a:cubicBezTo>
                  <a:pt x="12021" y="15425"/>
                  <a:pt x="12139" y="15434"/>
                  <a:pt x="12254" y="15453"/>
                </a:cubicBezTo>
                <a:cubicBezTo>
                  <a:pt x="12377" y="15473"/>
                  <a:pt x="12504" y="15490"/>
                  <a:pt x="12626" y="15503"/>
                </a:cubicBezTo>
                <a:cubicBezTo>
                  <a:pt x="12692" y="15510"/>
                  <a:pt x="12758" y="15532"/>
                  <a:pt x="12824" y="15528"/>
                </a:cubicBezTo>
                <a:cubicBezTo>
                  <a:pt x="12861" y="15526"/>
                  <a:pt x="12922" y="15524"/>
                  <a:pt x="12948" y="15503"/>
                </a:cubicBezTo>
                <a:cubicBezTo>
                  <a:pt x="12973" y="15483"/>
                  <a:pt x="12989" y="15443"/>
                  <a:pt x="13022" y="15404"/>
                </a:cubicBezTo>
                <a:cubicBezTo>
                  <a:pt x="13022" y="15379"/>
                  <a:pt x="13022" y="15371"/>
                  <a:pt x="13047" y="15379"/>
                </a:cubicBezTo>
              </a:path>
              <a:path w="3349" h="1415">
                <a:moveTo>
                  <a:pt x="11063" y="14188"/>
                </a:moveTo>
                <a:cubicBezTo>
                  <a:pt x="11085" y="14232"/>
                  <a:pt x="11088" y="14243"/>
                  <a:pt x="11112" y="14263"/>
                </a:cubicBezTo>
                <a:cubicBezTo>
                  <a:pt x="11100" y="14225"/>
                  <a:pt x="11062" y="14191"/>
                  <a:pt x="11013" y="14163"/>
                </a:cubicBezTo>
                <a:cubicBezTo>
                  <a:pt x="10947" y="14125"/>
                  <a:pt x="10881" y="14140"/>
                  <a:pt x="10840" y="14213"/>
                </a:cubicBezTo>
                <a:cubicBezTo>
                  <a:pt x="10797" y="14289"/>
                  <a:pt x="10688" y="14552"/>
                  <a:pt x="10840" y="14585"/>
                </a:cubicBezTo>
                <a:cubicBezTo>
                  <a:pt x="11047" y="14630"/>
                  <a:pt x="11130" y="14491"/>
                  <a:pt x="11261" y="14387"/>
                </a:cubicBezTo>
                <a:cubicBezTo>
                  <a:pt x="11269" y="14387"/>
                  <a:pt x="11278" y="14387"/>
                  <a:pt x="11286" y="143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61120" y="5661000"/>
            <a:ext cx="1447920" cy="1098720"/>
          </a:xfrm>
          <a:custGeom>
            <a:avLst/>
            <a:gdLst/>
            <a:ahLst/>
            <a:rect l="l" t="t" r="r" b="b"/>
            <a:pathLst>
              <a:path w="4020" h="3052">
                <a:moveTo>
                  <a:pt x="20315" y="16049"/>
                </a:moveTo>
                <a:cubicBezTo>
                  <a:pt x="20471" y="16164"/>
                  <a:pt x="20596" y="16284"/>
                  <a:pt x="20712" y="16446"/>
                </a:cubicBezTo>
                <a:cubicBezTo>
                  <a:pt x="20766" y="16536"/>
                  <a:pt x="20750" y="16577"/>
                  <a:pt x="20811" y="16570"/>
                </a:cubicBezTo>
                <a:cubicBezTo>
                  <a:pt x="20811" y="16409"/>
                  <a:pt x="20805" y="16227"/>
                  <a:pt x="20861" y="16073"/>
                </a:cubicBezTo>
                <a:cubicBezTo>
                  <a:pt x="20919" y="15915"/>
                  <a:pt x="20910" y="16009"/>
                  <a:pt x="20910" y="16049"/>
                </a:cubicBezTo>
              </a:path>
              <a:path w="4020" h="3052">
                <a:moveTo>
                  <a:pt x="21158" y="16024"/>
                </a:moveTo>
                <a:cubicBezTo>
                  <a:pt x="21242" y="16157"/>
                  <a:pt x="21288" y="16238"/>
                  <a:pt x="21406" y="16346"/>
                </a:cubicBezTo>
                <a:cubicBezTo>
                  <a:pt x="21445" y="16385"/>
                  <a:pt x="21462" y="16387"/>
                  <a:pt x="21456" y="16421"/>
                </a:cubicBezTo>
              </a:path>
              <a:path w="4020" h="3052">
                <a:moveTo>
                  <a:pt x="21555" y="15974"/>
                </a:moveTo>
                <a:cubicBezTo>
                  <a:pt x="21445" y="16119"/>
                  <a:pt x="21308" y="16246"/>
                  <a:pt x="21208" y="16396"/>
                </a:cubicBezTo>
                <a:cubicBezTo>
                  <a:pt x="21188" y="16436"/>
                  <a:pt x="21179" y="16443"/>
                  <a:pt x="21183" y="16470"/>
                </a:cubicBezTo>
              </a:path>
              <a:path w="4020" h="3052">
                <a:moveTo>
                  <a:pt x="21878" y="16024"/>
                </a:moveTo>
                <a:cubicBezTo>
                  <a:pt x="21898" y="16085"/>
                  <a:pt x="21955" y="15997"/>
                  <a:pt x="22002" y="15974"/>
                </a:cubicBezTo>
                <a:cubicBezTo>
                  <a:pt x="22057" y="15947"/>
                  <a:pt x="22130" y="15926"/>
                  <a:pt x="22151" y="15974"/>
                </a:cubicBezTo>
                <a:cubicBezTo>
                  <a:pt x="22180" y="16040"/>
                  <a:pt x="22114" y="16100"/>
                  <a:pt x="22051" y="16173"/>
                </a:cubicBezTo>
                <a:cubicBezTo>
                  <a:pt x="21971" y="16266"/>
                  <a:pt x="21899" y="16348"/>
                  <a:pt x="21828" y="16446"/>
                </a:cubicBezTo>
                <a:cubicBezTo>
                  <a:pt x="21820" y="16454"/>
                  <a:pt x="21811" y="16462"/>
                  <a:pt x="21803" y="16470"/>
                </a:cubicBezTo>
                <a:cubicBezTo>
                  <a:pt x="21881" y="16455"/>
                  <a:pt x="21943" y="16424"/>
                  <a:pt x="22027" y="16421"/>
                </a:cubicBezTo>
                <a:cubicBezTo>
                  <a:pt x="22105" y="16418"/>
                  <a:pt x="22140" y="16426"/>
                  <a:pt x="22200" y="16446"/>
                </a:cubicBezTo>
                <a:cubicBezTo>
                  <a:pt x="22225" y="16446"/>
                  <a:pt x="22233" y="16446"/>
                  <a:pt x="22225" y="16421"/>
                </a:cubicBezTo>
              </a:path>
              <a:path w="4020" h="3052">
                <a:moveTo>
                  <a:pt x="22523" y="15925"/>
                </a:moveTo>
                <a:cubicBezTo>
                  <a:pt x="22600" y="15944"/>
                  <a:pt x="22682" y="15949"/>
                  <a:pt x="22771" y="15949"/>
                </a:cubicBezTo>
                <a:cubicBezTo>
                  <a:pt x="22829" y="15949"/>
                  <a:pt x="22853" y="15933"/>
                  <a:pt x="22845" y="15974"/>
                </a:cubicBezTo>
              </a:path>
              <a:path w="4020" h="3052">
                <a:moveTo>
                  <a:pt x="22448" y="16197"/>
                </a:moveTo>
                <a:cubicBezTo>
                  <a:pt x="22557" y="16213"/>
                  <a:pt x="22705" y="16221"/>
                  <a:pt x="22820" y="16197"/>
                </a:cubicBezTo>
                <a:cubicBezTo>
                  <a:pt x="22837" y="16189"/>
                  <a:pt x="22853" y="16181"/>
                  <a:pt x="22870" y="16173"/>
                </a:cubicBezTo>
              </a:path>
              <a:path w="4020" h="3052">
                <a:moveTo>
                  <a:pt x="23465" y="15875"/>
                </a:moveTo>
                <a:cubicBezTo>
                  <a:pt x="23306" y="15911"/>
                  <a:pt x="23175" y="15928"/>
                  <a:pt x="23044" y="16024"/>
                </a:cubicBezTo>
                <a:cubicBezTo>
                  <a:pt x="23137" y="16051"/>
                  <a:pt x="23377" y="16126"/>
                  <a:pt x="23440" y="16197"/>
                </a:cubicBezTo>
                <a:cubicBezTo>
                  <a:pt x="23448" y="16230"/>
                  <a:pt x="23457" y="16264"/>
                  <a:pt x="23465" y="16297"/>
                </a:cubicBezTo>
                <a:cubicBezTo>
                  <a:pt x="23411" y="16359"/>
                  <a:pt x="23281" y="16444"/>
                  <a:pt x="23242" y="16297"/>
                </a:cubicBezTo>
                <a:cubicBezTo>
                  <a:pt x="23206" y="16161"/>
                  <a:pt x="23307" y="15993"/>
                  <a:pt x="23416" y="15925"/>
                </a:cubicBezTo>
                <a:cubicBezTo>
                  <a:pt x="23450" y="15904"/>
                  <a:pt x="23453" y="15901"/>
                  <a:pt x="23465" y="15925"/>
                </a:cubicBezTo>
              </a:path>
              <a:path w="4020" h="3052">
                <a:moveTo>
                  <a:pt x="19918" y="15999"/>
                </a:moveTo>
                <a:cubicBezTo>
                  <a:pt x="19984" y="15999"/>
                  <a:pt x="20001" y="15999"/>
                  <a:pt x="20067" y="15999"/>
                </a:cubicBezTo>
                <a:cubicBezTo>
                  <a:pt x="20203" y="15999"/>
                  <a:pt x="20329" y="16018"/>
                  <a:pt x="20464" y="16024"/>
                </a:cubicBezTo>
                <a:cubicBezTo>
                  <a:pt x="20606" y="16030"/>
                  <a:pt x="20746" y="16014"/>
                  <a:pt x="20886" y="15999"/>
                </a:cubicBezTo>
                <a:cubicBezTo>
                  <a:pt x="21018" y="15985"/>
                  <a:pt x="21149" y="15985"/>
                  <a:pt x="21282" y="15974"/>
                </a:cubicBezTo>
                <a:cubicBezTo>
                  <a:pt x="21421" y="15962"/>
                  <a:pt x="21564" y="15939"/>
                  <a:pt x="21704" y="15925"/>
                </a:cubicBezTo>
                <a:cubicBezTo>
                  <a:pt x="21817" y="15913"/>
                  <a:pt x="21940" y="15894"/>
                  <a:pt x="22051" y="15875"/>
                </a:cubicBezTo>
                <a:cubicBezTo>
                  <a:pt x="22125" y="15862"/>
                  <a:pt x="22199" y="15837"/>
                  <a:pt x="22275" y="15825"/>
                </a:cubicBezTo>
                <a:cubicBezTo>
                  <a:pt x="22360" y="15812"/>
                  <a:pt x="22441" y="15794"/>
                  <a:pt x="22523" y="15776"/>
                </a:cubicBezTo>
                <a:cubicBezTo>
                  <a:pt x="22598" y="15760"/>
                  <a:pt x="22669" y="15755"/>
                  <a:pt x="22746" y="15751"/>
                </a:cubicBezTo>
                <a:cubicBezTo>
                  <a:pt x="22896" y="15743"/>
                  <a:pt x="23044" y="15729"/>
                  <a:pt x="23192" y="15726"/>
                </a:cubicBezTo>
                <a:cubicBezTo>
                  <a:pt x="23407" y="15721"/>
                  <a:pt x="23622" y="15726"/>
                  <a:pt x="23837" y="15726"/>
                </a:cubicBezTo>
                <a:cubicBezTo>
                  <a:pt x="23848" y="15808"/>
                  <a:pt x="23850" y="15892"/>
                  <a:pt x="23862" y="15974"/>
                </a:cubicBezTo>
                <a:cubicBezTo>
                  <a:pt x="23877" y="16083"/>
                  <a:pt x="23903" y="16187"/>
                  <a:pt x="23912" y="16297"/>
                </a:cubicBezTo>
                <a:cubicBezTo>
                  <a:pt x="23920" y="16393"/>
                  <a:pt x="23892" y="16476"/>
                  <a:pt x="23887" y="16570"/>
                </a:cubicBezTo>
                <a:cubicBezTo>
                  <a:pt x="23877" y="16753"/>
                  <a:pt x="23846" y="16909"/>
                  <a:pt x="23812" y="17090"/>
                </a:cubicBezTo>
                <a:cubicBezTo>
                  <a:pt x="23788" y="17219"/>
                  <a:pt x="23782" y="17356"/>
                  <a:pt x="23763" y="17487"/>
                </a:cubicBezTo>
                <a:cubicBezTo>
                  <a:pt x="23749" y="17590"/>
                  <a:pt x="23705" y="17668"/>
                  <a:pt x="23688" y="17760"/>
                </a:cubicBezTo>
                <a:cubicBezTo>
                  <a:pt x="23657" y="17933"/>
                  <a:pt x="23657" y="18106"/>
                  <a:pt x="23639" y="18281"/>
                </a:cubicBezTo>
                <a:cubicBezTo>
                  <a:pt x="23619" y="18472"/>
                  <a:pt x="23571" y="18698"/>
                  <a:pt x="23540" y="187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5411880"/>
            <a:ext cx="7867800" cy="1312920"/>
          </a:xfrm>
          <a:custGeom>
            <a:avLst/>
            <a:gdLst/>
            <a:ahLst/>
            <a:rect l="l" t="t" r="r" b="b"/>
            <a:pathLst>
              <a:path w="21854" h="3647">
                <a:moveTo>
                  <a:pt x="422" y="15032"/>
                </a:moveTo>
                <a:cubicBezTo>
                  <a:pt x="548" y="15032"/>
                  <a:pt x="664" y="15054"/>
                  <a:pt x="794" y="15056"/>
                </a:cubicBezTo>
                <a:cubicBezTo>
                  <a:pt x="885" y="15058"/>
                  <a:pt x="976" y="15056"/>
                  <a:pt x="1067" y="15056"/>
                </a:cubicBezTo>
              </a:path>
              <a:path w="21854" h="3647">
                <a:moveTo>
                  <a:pt x="595" y="17661"/>
                </a:moveTo>
                <a:cubicBezTo>
                  <a:pt x="571" y="17661"/>
                  <a:pt x="562" y="17661"/>
                  <a:pt x="546" y="17661"/>
                </a:cubicBezTo>
                <a:cubicBezTo>
                  <a:pt x="696" y="17661"/>
                  <a:pt x="909" y="17677"/>
                  <a:pt x="1017" y="17636"/>
                </a:cubicBezTo>
                <a:cubicBezTo>
                  <a:pt x="1025" y="17636"/>
                  <a:pt x="1034" y="17636"/>
                  <a:pt x="1042" y="17636"/>
                </a:cubicBezTo>
              </a:path>
              <a:path w="21854" h="3647">
                <a:moveTo>
                  <a:pt x="22200" y="17264"/>
                </a:moveTo>
                <a:lnTo>
                  <a:pt x="22200" y="17264"/>
                </a:lnTo>
              </a:path>
              <a:path w="21854" h="3647">
                <a:moveTo>
                  <a:pt x="21704" y="18281"/>
                </a:moveTo>
                <a:lnTo>
                  <a:pt x="21704" y="18281"/>
                </a:lnTo>
              </a:path>
              <a:path w="21854" h="3647">
                <a:moveTo>
                  <a:pt x="22200" y="18033"/>
                </a:moveTo>
                <a:lnTo>
                  <a:pt x="22200" y="18033"/>
                </a:lnTo>
              </a:path>
              <a:path w="21854" h="3647">
                <a:moveTo>
                  <a:pt x="22275" y="18678"/>
                </a:moveTo>
                <a:lnTo>
                  <a:pt x="22275" y="1867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68280" y="5715000"/>
            <a:ext cx="3571920" cy="857160"/>
          </a:xfrm>
          <a:custGeom>
            <a:avLst/>
            <a:gdLst/>
            <a:ahLst/>
            <a:rect l="l" t="t" r="r" b="b"/>
            <a:pathLst>
              <a:path w="9923" h="2382">
                <a:moveTo>
                  <a:pt x="3522" y="18033"/>
                </a:moveTo>
                <a:cubicBezTo>
                  <a:pt x="3534" y="18125"/>
                  <a:pt x="3518" y="18174"/>
                  <a:pt x="3597" y="18231"/>
                </a:cubicBezTo>
                <a:cubicBezTo>
                  <a:pt x="3708" y="18312"/>
                  <a:pt x="3783" y="18198"/>
                  <a:pt x="3870" y="18157"/>
                </a:cubicBezTo>
                <a:cubicBezTo>
                  <a:pt x="3967" y="18111"/>
                  <a:pt x="3888" y="18162"/>
                  <a:pt x="3994" y="18182"/>
                </a:cubicBezTo>
                <a:cubicBezTo>
                  <a:pt x="4157" y="18213"/>
                  <a:pt x="4232" y="18107"/>
                  <a:pt x="4366" y="18107"/>
                </a:cubicBezTo>
                <a:cubicBezTo>
                  <a:pt x="4440" y="18107"/>
                  <a:pt x="4486" y="18153"/>
                  <a:pt x="4589" y="18182"/>
                </a:cubicBezTo>
                <a:cubicBezTo>
                  <a:pt x="4783" y="18235"/>
                  <a:pt x="4881" y="18107"/>
                  <a:pt x="5060" y="18107"/>
                </a:cubicBezTo>
                <a:cubicBezTo>
                  <a:pt x="5137" y="18107"/>
                  <a:pt x="5140" y="18138"/>
                  <a:pt x="5209" y="18157"/>
                </a:cubicBezTo>
                <a:cubicBezTo>
                  <a:pt x="5413" y="18214"/>
                  <a:pt x="5498" y="18144"/>
                  <a:pt x="5680" y="18083"/>
                </a:cubicBezTo>
                <a:cubicBezTo>
                  <a:pt x="5775" y="18051"/>
                  <a:pt x="5830" y="18045"/>
                  <a:pt x="5904" y="18083"/>
                </a:cubicBezTo>
                <a:cubicBezTo>
                  <a:pt x="5998" y="18132"/>
                  <a:pt x="5993" y="18193"/>
                  <a:pt x="6152" y="18182"/>
                </a:cubicBezTo>
                <a:cubicBezTo>
                  <a:pt x="6298" y="18172"/>
                  <a:pt x="6453" y="18122"/>
                  <a:pt x="6598" y="18182"/>
                </a:cubicBezTo>
                <a:cubicBezTo>
                  <a:pt x="6787" y="18261"/>
                  <a:pt x="6887" y="18255"/>
                  <a:pt x="7094" y="18207"/>
                </a:cubicBezTo>
                <a:cubicBezTo>
                  <a:pt x="7164" y="18191"/>
                  <a:pt x="7244" y="18148"/>
                  <a:pt x="7317" y="18157"/>
                </a:cubicBezTo>
                <a:cubicBezTo>
                  <a:pt x="7407" y="18168"/>
                  <a:pt x="7464" y="18215"/>
                  <a:pt x="7565" y="18207"/>
                </a:cubicBezTo>
                <a:cubicBezTo>
                  <a:pt x="7683" y="18197"/>
                  <a:pt x="7783" y="18090"/>
                  <a:pt x="7888" y="18083"/>
                </a:cubicBezTo>
                <a:cubicBezTo>
                  <a:pt x="7960" y="18078"/>
                  <a:pt x="8075" y="18107"/>
                  <a:pt x="8161" y="18107"/>
                </a:cubicBezTo>
                <a:cubicBezTo>
                  <a:pt x="8285" y="18107"/>
                  <a:pt x="8393" y="18095"/>
                  <a:pt x="8508" y="18107"/>
                </a:cubicBezTo>
                <a:cubicBezTo>
                  <a:pt x="8597" y="18116"/>
                  <a:pt x="8687" y="18154"/>
                  <a:pt x="8781" y="18132"/>
                </a:cubicBezTo>
                <a:cubicBezTo>
                  <a:pt x="8852" y="18115"/>
                  <a:pt x="8894" y="18053"/>
                  <a:pt x="8930" y="18033"/>
                </a:cubicBezTo>
              </a:path>
              <a:path w="9923" h="2382">
                <a:moveTo>
                  <a:pt x="6052" y="16594"/>
                </a:moveTo>
                <a:cubicBezTo>
                  <a:pt x="6028" y="16594"/>
                  <a:pt x="6019" y="16594"/>
                  <a:pt x="6003" y="16594"/>
                </a:cubicBezTo>
                <a:cubicBezTo>
                  <a:pt x="6061" y="16692"/>
                  <a:pt x="6209" y="16784"/>
                  <a:pt x="6300" y="16867"/>
                </a:cubicBezTo>
                <a:cubicBezTo>
                  <a:pt x="6314" y="16879"/>
                  <a:pt x="6412" y="16985"/>
                  <a:pt x="6424" y="16991"/>
                </a:cubicBezTo>
                <a:cubicBezTo>
                  <a:pt x="6432" y="16991"/>
                  <a:pt x="6441" y="16991"/>
                  <a:pt x="6449" y="16991"/>
                </a:cubicBezTo>
              </a:path>
              <a:path w="9923" h="2382">
                <a:moveTo>
                  <a:pt x="6474" y="16594"/>
                </a:moveTo>
                <a:cubicBezTo>
                  <a:pt x="6332" y="16665"/>
                  <a:pt x="6219" y="16779"/>
                  <a:pt x="6102" y="16892"/>
                </a:cubicBezTo>
                <a:cubicBezTo>
                  <a:pt x="6047" y="16947"/>
                  <a:pt x="6049" y="16972"/>
                  <a:pt x="6003" y="16966"/>
                </a:cubicBezTo>
              </a:path>
              <a:path w="9923" h="2382">
                <a:moveTo>
                  <a:pt x="9575" y="17859"/>
                </a:moveTo>
                <a:cubicBezTo>
                  <a:pt x="9601" y="17908"/>
                  <a:pt x="9647" y="18114"/>
                  <a:pt x="9674" y="18132"/>
                </a:cubicBezTo>
                <a:cubicBezTo>
                  <a:pt x="9738" y="18174"/>
                  <a:pt x="9911" y="18096"/>
                  <a:pt x="9971" y="18083"/>
                </a:cubicBezTo>
                <a:cubicBezTo>
                  <a:pt x="10113" y="18052"/>
                  <a:pt x="10248" y="18058"/>
                  <a:pt x="10393" y="18058"/>
                </a:cubicBezTo>
                <a:cubicBezTo>
                  <a:pt x="10570" y="18058"/>
                  <a:pt x="10739" y="18094"/>
                  <a:pt x="10914" y="18107"/>
                </a:cubicBezTo>
                <a:cubicBezTo>
                  <a:pt x="11054" y="18117"/>
                  <a:pt x="11196" y="18128"/>
                  <a:pt x="11336" y="18132"/>
                </a:cubicBezTo>
                <a:cubicBezTo>
                  <a:pt x="11650" y="18141"/>
                  <a:pt x="11968" y="18133"/>
                  <a:pt x="12278" y="18107"/>
                </a:cubicBezTo>
                <a:cubicBezTo>
                  <a:pt x="12374" y="18099"/>
                  <a:pt x="12479" y="18071"/>
                  <a:pt x="12576" y="18083"/>
                </a:cubicBezTo>
                <a:cubicBezTo>
                  <a:pt x="12610" y="18087"/>
                  <a:pt x="12619" y="18105"/>
                  <a:pt x="12675" y="18107"/>
                </a:cubicBezTo>
                <a:cubicBezTo>
                  <a:pt x="12769" y="18110"/>
                  <a:pt x="12731" y="18101"/>
                  <a:pt x="12774" y="18058"/>
                </a:cubicBezTo>
                <a:cubicBezTo>
                  <a:pt x="12799" y="18033"/>
                  <a:pt x="12824" y="18008"/>
                  <a:pt x="12849" y="17983"/>
                </a:cubicBezTo>
              </a:path>
              <a:path w="9923" h="2382">
                <a:moveTo>
                  <a:pt x="10517" y="16594"/>
                </a:moveTo>
                <a:cubicBezTo>
                  <a:pt x="10482" y="16527"/>
                  <a:pt x="10534" y="16674"/>
                  <a:pt x="10567" y="16743"/>
                </a:cubicBezTo>
                <a:cubicBezTo>
                  <a:pt x="10625" y="16864"/>
                  <a:pt x="10682" y="16964"/>
                  <a:pt x="10765" y="17066"/>
                </a:cubicBezTo>
                <a:cubicBezTo>
                  <a:pt x="10710" y="16955"/>
                  <a:pt x="10767" y="16832"/>
                  <a:pt x="10815" y="16718"/>
                </a:cubicBezTo>
                <a:cubicBezTo>
                  <a:pt x="10851" y="16645"/>
                  <a:pt x="10839" y="16612"/>
                  <a:pt x="10889" y="16619"/>
                </a:cubicBezTo>
              </a:path>
              <a:path w="9923" h="2382">
                <a:moveTo>
                  <a:pt x="5606" y="16793"/>
                </a:moveTo>
                <a:cubicBezTo>
                  <a:pt x="5638" y="16876"/>
                  <a:pt x="5644" y="16941"/>
                  <a:pt x="5705" y="17016"/>
                </a:cubicBezTo>
                <a:cubicBezTo>
                  <a:pt x="5790" y="17121"/>
                  <a:pt x="5815" y="17180"/>
                  <a:pt x="5953" y="17239"/>
                </a:cubicBezTo>
                <a:cubicBezTo>
                  <a:pt x="6055" y="17283"/>
                  <a:pt x="6142" y="17289"/>
                  <a:pt x="6251" y="17289"/>
                </a:cubicBezTo>
                <a:cubicBezTo>
                  <a:pt x="6380" y="17289"/>
                  <a:pt x="6474" y="17273"/>
                  <a:pt x="6598" y="17239"/>
                </a:cubicBezTo>
                <a:cubicBezTo>
                  <a:pt x="6674" y="17218"/>
                  <a:pt x="6832" y="17203"/>
                  <a:pt x="6896" y="17165"/>
                </a:cubicBezTo>
                <a:cubicBezTo>
                  <a:pt x="6967" y="17123"/>
                  <a:pt x="6973" y="17051"/>
                  <a:pt x="6995" y="16991"/>
                </a:cubicBezTo>
                <a:cubicBezTo>
                  <a:pt x="7029" y="16900"/>
                  <a:pt x="7068" y="16850"/>
                  <a:pt x="7045" y="16743"/>
                </a:cubicBezTo>
                <a:cubicBezTo>
                  <a:pt x="7035" y="16694"/>
                  <a:pt x="6990" y="16587"/>
                  <a:pt x="6970" y="16545"/>
                </a:cubicBezTo>
                <a:cubicBezTo>
                  <a:pt x="6934" y="16469"/>
                  <a:pt x="6871" y="16385"/>
                  <a:pt x="6796" y="16346"/>
                </a:cubicBezTo>
                <a:cubicBezTo>
                  <a:pt x="6712" y="16302"/>
                  <a:pt x="6611" y="16294"/>
                  <a:pt x="6524" y="16272"/>
                </a:cubicBezTo>
                <a:cubicBezTo>
                  <a:pt x="6443" y="16252"/>
                  <a:pt x="6362" y="16233"/>
                  <a:pt x="6276" y="16247"/>
                </a:cubicBezTo>
                <a:cubicBezTo>
                  <a:pt x="6171" y="16264"/>
                  <a:pt x="6075" y="16276"/>
                  <a:pt x="5978" y="16321"/>
                </a:cubicBezTo>
                <a:cubicBezTo>
                  <a:pt x="5934" y="16342"/>
                  <a:pt x="5836" y="16388"/>
                  <a:pt x="5804" y="16421"/>
                </a:cubicBezTo>
                <a:cubicBezTo>
                  <a:pt x="5766" y="16462"/>
                  <a:pt x="5695" y="16518"/>
                  <a:pt x="5680" y="16570"/>
                </a:cubicBezTo>
                <a:cubicBezTo>
                  <a:pt x="5670" y="16603"/>
                  <a:pt x="5630" y="16709"/>
                  <a:pt x="5631" y="16743"/>
                </a:cubicBezTo>
                <a:cubicBezTo>
                  <a:pt x="5634" y="16829"/>
                  <a:pt x="5667" y="16915"/>
                  <a:pt x="5705" y="16991"/>
                </a:cubicBezTo>
                <a:cubicBezTo>
                  <a:pt x="5734" y="17049"/>
                  <a:pt x="5734" y="17039"/>
                  <a:pt x="5755" y="17066"/>
                </a:cubicBezTo>
              </a:path>
              <a:path w="9923" h="2382">
                <a:moveTo>
                  <a:pt x="6921" y="16520"/>
                </a:moveTo>
                <a:cubicBezTo>
                  <a:pt x="6980" y="16529"/>
                  <a:pt x="7036" y="16541"/>
                  <a:pt x="7094" y="16545"/>
                </a:cubicBezTo>
                <a:cubicBezTo>
                  <a:pt x="7283" y="16559"/>
                  <a:pt x="7479" y="16560"/>
                  <a:pt x="7665" y="16570"/>
                </a:cubicBezTo>
                <a:cubicBezTo>
                  <a:pt x="7755" y="16575"/>
                  <a:pt x="7853" y="16569"/>
                  <a:pt x="7938" y="16545"/>
                </a:cubicBezTo>
                <a:cubicBezTo>
                  <a:pt x="8054" y="16512"/>
                  <a:pt x="8162" y="16471"/>
                  <a:pt x="8285" y="16446"/>
                </a:cubicBezTo>
                <a:cubicBezTo>
                  <a:pt x="8433" y="16416"/>
                  <a:pt x="8588" y="16426"/>
                  <a:pt x="8731" y="16371"/>
                </a:cubicBezTo>
                <a:cubicBezTo>
                  <a:pt x="8863" y="16321"/>
                  <a:pt x="8990" y="16259"/>
                  <a:pt x="9128" y="16222"/>
                </a:cubicBezTo>
                <a:cubicBezTo>
                  <a:pt x="9276" y="16182"/>
                  <a:pt x="9428" y="16147"/>
                  <a:pt x="9575" y="16098"/>
                </a:cubicBezTo>
                <a:cubicBezTo>
                  <a:pt x="9754" y="16039"/>
                  <a:pt x="9883" y="16032"/>
                  <a:pt x="10071" y="16024"/>
                </a:cubicBezTo>
                <a:cubicBezTo>
                  <a:pt x="10254" y="16016"/>
                  <a:pt x="10434" y="16010"/>
                  <a:pt x="10616" y="15999"/>
                </a:cubicBezTo>
                <a:cubicBezTo>
                  <a:pt x="10774" y="15989"/>
                  <a:pt x="10931" y="15996"/>
                  <a:pt x="11088" y="15974"/>
                </a:cubicBezTo>
                <a:cubicBezTo>
                  <a:pt x="11253" y="15951"/>
                  <a:pt x="11419" y="15945"/>
                  <a:pt x="11584" y="15925"/>
                </a:cubicBezTo>
                <a:cubicBezTo>
                  <a:pt x="11780" y="15901"/>
                  <a:pt x="12008" y="15857"/>
                  <a:pt x="12204" y="15875"/>
                </a:cubicBezTo>
                <a:cubicBezTo>
                  <a:pt x="12307" y="15884"/>
                  <a:pt x="12482" y="15877"/>
                  <a:pt x="12576" y="15925"/>
                </a:cubicBezTo>
                <a:cubicBezTo>
                  <a:pt x="12646" y="15961"/>
                  <a:pt x="12667" y="16023"/>
                  <a:pt x="12725" y="16073"/>
                </a:cubicBezTo>
                <a:cubicBezTo>
                  <a:pt x="12770" y="16111"/>
                  <a:pt x="12791" y="16078"/>
                  <a:pt x="12824" y="16148"/>
                </a:cubicBezTo>
                <a:cubicBezTo>
                  <a:pt x="12856" y="16215"/>
                  <a:pt x="12858" y="16328"/>
                  <a:pt x="12874" y="16396"/>
                </a:cubicBezTo>
                <a:cubicBezTo>
                  <a:pt x="12884" y="16438"/>
                  <a:pt x="12889" y="16457"/>
                  <a:pt x="12898" y="16495"/>
                </a:cubicBezTo>
              </a:path>
              <a:path w="9923" h="2382">
                <a:moveTo>
                  <a:pt x="12626" y="16247"/>
                </a:moveTo>
                <a:cubicBezTo>
                  <a:pt x="12688" y="16315"/>
                  <a:pt x="12752" y="16434"/>
                  <a:pt x="12849" y="16446"/>
                </a:cubicBezTo>
                <a:cubicBezTo>
                  <a:pt x="12979" y="16463"/>
                  <a:pt x="12954" y="16340"/>
                  <a:pt x="13022" y="16272"/>
                </a:cubicBezTo>
                <a:cubicBezTo>
                  <a:pt x="13030" y="16272"/>
                  <a:pt x="13039" y="16272"/>
                  <a:pt x="13047" y="16272"/>
                </a:cubicBezTo>
              </a:path>
              <a:path w="9923" h="2382">
                <a:moveTo>
                  <a:pt x="13097" y="16743"/>
                </a:moveTo>
                <a:cubicBezTo>
                  <a:pt x="13216" y="16827"/>
                  <a:pt x="13303" y="16929"/>
                  <a:pt x="13395" y="17041"/>
                </a:cubicBezTo>
                <a:cubicBezTo>
                  <a:pt x="13433" y="17088"/>
                  <a:pt x="13435" y="17050"/>
                  <a:pt x="13444" y="17016"/>
                </a:cubicBezTo>
              </a:path>
              <a:path w="9923" h="2382">
                <a:moveTo>
                  <a:pt x="13444" y="16619"/>
                </a:moveTo>
                <a:cubicBezTo>
                  <a:pt x="13393" y="16774"/>
                  <a:pt x="13295" y="16972"/>
                  <a:pt x="13196" y="17115"/>
                </a:cubicBezTo>
                <a:cubicBezTo>
                  <a:pt x="13157" y="17154"/>
                  <a:pt x="13140" y="17156"/>
                  <a:pt x="13146" y="171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02160" y="5732640"/>
            <a:ext cx="2840040" cy="1071360"/>
          </a:xfrm>
          <a:custGeom>
            <a:avLst/>
            <a:gdLst/>
            <a:ahLst/>
            <a:rect l="l" t="t" r="r" b="b"/>
            <a:pathLst>
              <a:path w="7889" h="2977">
                <a:moveTo>
                  <a:pt x="15007" y="18058"/>
                </a:moveTo>
                <a:cubicBezTo>
                  <a:pt x="15115" y="18040"/>
                  <a:pt x="15218" y="18046"/>
                  <a:pt x="15329" y="18033"/>
                </a:cubicBezTo>
                <a:cubicBezTo>
                  <a:pt x="15503" y="18013"/>
                  <a:pt x="15675" y="17975"/>
                  <a:pt x="15850" y="17959"/>
                </a:cubicBezTo>
                <a:cubicBezTo>
                  <a:pt x="15998" y="17946"/>
                  <a:pt x="16150" y="17929"/>
                  <a:pt x="16297" y="17909"/>
                </a:cubicBezTo>
                <a:cubicBezTo>
                  <a:pt x="16376" y="17898"/>
                  <a:pt x="16421" y="17884"/>
                  <a:pt x="16495" y="17884"/>
                </a:cubicBezTo>
              </a:path>
              <a:path w="7889" h="2977">
                <a:moveTo>
                  <a:pt x="15379" y="16619"/>
                </a:moveTo>
                <a:cubicBezTo>
                  <a:pt x="15304" y="16594"/>
                  <a:pt x="15450" y="16510"/>
                  <a:pt x="15478" y="16495"/>
                </a:cubicBezTo>
                <a:cubicBezTo>
                  <a:pt x="15539" y="16475"/>
                  <a:pt x="15553" y="16477"/>
                  <a:pt x="15577" y="16446"/>
                </a:cubicBezTo>
                <a:cubicBezTo>
                  <a:pt x="15661" y="16695"/>
                  <a:pt x="15584" y="16782"/>
                  <a:pt x="15429" y="16991"/>
                </a:cubicBezTo>
                <a:cubicBezTo>
                  <a:pt x="15372" y="17066"/>
                  <a:pt x="15368" y="17078"/>
                  <a:pt x="15329" y="17115"/>
                </a:cubicBezTo>
                <a:cubicBezTo>
                  <a:pt x="15461" y="17078"/>
                  <a:pt x="15558" y="17046"/>
                  <a:pt x="15701" y="17041"/>
                </a:cubicBezTo>
                <a:cubicBezTo>
                  <a:pt x="15757" y="17039"/>
                  <a:pt x="15763" y="17027"/>
                  <a:pt x="15776" y="17066"/>
                </a:cubicBezTo>
              </a:path>
              <a:path w="7889" h="2977">
                <a:moveTo>
                  <a:pt x="17413" y="18207"/>
                </a:moveTo>
                <a:cubicBezTo>
                  <a:pt x="17528" y="18168"/>
                  <a:pt x="17686" y="18163"/>
                  <a:pt x="17810" y="18157"/>
                </a:cubicBezTo>
                <a:cubicBezTo>
                  <a:pt x="18124" y="18143"/>
                  <a:pt x="18439" y="18149"/>
                  <a:pt x="18752" y="18132"/>
                </a:cubicBezTo>
                <a:cubicBezTo>
                  <a:pt x="18833" y="18128"/>
                  <a:pt x="18918" y="18132"/>
                  <a:pt x="19000" y="18132"/>
                </a:cubicBezTo>
              </a:path>
              <a:path w="7889" h="2977">
                <a:moveTo>
                  <a:pt x="18430" y="16272"/>
                </a:moveTo>
                <a:cubicBezTo>
                  <a:pt x="18256" y="16237"/>
                  <a:pt x="18133" y="16316"/>
                  <a:pt x="18008" y="16446"/>
                </a:cubicBezTo>
                <a:cubicBezTo>
                  <a:pt x="17992" y="16471"/>
                  <a:pt x="17975" y="16495"/>
                  <a:pt x="17959" y="16520"/>
                </a:cubicBezTo>
                <a:cubicBezTo>
                  <a:pt x="18057" y="16682"/>
                  <a:pt x="18189" y="16724"/>
                  <a:pt x="18355" y="16818"/>
                </a:cubicBezTo>
                <a:cubicBezTo>
                  <a:pt x="18316" y="16880"/>
                  <a:pt x="18119" y="17067"/>
                  <a:pt x="18107" y="16867"/>
                </a:cubicBezTo>
                <a:cubicBezTo>
                  <a:pt x="18097" y="16690"/>
                  <a:pt x="18290" y="16544"/>
                  <a:pt x="18355" y="16396"/>
                </a:cubicBezTo>
              </a:path>
              <a:path w="7889" h="2977">
                <a:moveTo>
                  <a:pt x="16917" y="17934"/>
                </a:moveTo>
                <a:cubicBezTo>
                  <a:pt x="16902" y="17980"/>
                  <a:pt x="16888" y="17959"/>
                  <a:pt x="16991" y="17959"/>
                </a:cubicBezTo>
                <a:cubicBezTo>
                  <a:pt x="17069" y="17959"/>
                  <a:pt x="17291" y="17971"/>
                  <a:pt x="17214" y="17983"/>
                </a:cubicBezTo>
                <a:cubicBezTo>
                  <a:pt x="17120" y="17998"/>
                  <a:pt x="17021" y="18021"/>
                  <a:pt x="16917" y="18033"/>
                </a:cubicBezTo>
                <a:cubicBezTo>
                  <a:pt x="16875" y="18033"/>
                  <a:pt x="16850" y="18033"/>
                  <a:pt x="16892" y="18033"/>
                </a:cubicBezTo>
                <a:cubicBezTo>
                  <a:pt x="17009" y="18021"/>
                  <a:pt x="17123" y="18005"/>
                  <a:pt x="17239" y="17983"/>
                </a:cubicBezTo>
                <a:cubicBezTo>
                  <a:pt x="17278" y="18041"/>
                  <a:pt x="17126" y="18041"/>
                  <a:pt x="17066" y="18058"/>
                </a:cubicBezTo>
                <a:cubicBezTo>
                  <a:pt x="16920" y="18099"/>
                  <a:pt x="16973" y="18091"/>
                  <a:pt x="17090" y="18083"/>
                </a:cubicBezTo>
                <a:cubicBezTo>
                  <a:pt x="17122" y="18081"/>
                  <a:pt x="17289" y="18060"/>
                  <a:pt x="17239" y="18083"/>
                </a:cubicBezTo>
                <a:cubicBezTo>
                  <a:pt x="17171" y="18113"/>
                  <a:pt x="16970" y="18161"/>
                  <a:pt x="16991" y="18182"/>
                </a:cubicBezTo>
                <a:cubicBezTo>
                  <a:pt x="17024" y="18173"/>
                  <a:pt x="17234" y="18132"/>
                  <a:pt x="17190" y="18132"/>
                </a:cubicBezTo>
                <a:cubicBezTo>
                  <a:pt x="17128" y="18151"/>
                  <a:pt x="16964" y="18180"/>
                  <a:pt x="16991" y="18207"/>
                </a:cubicBezTo>
                <a:cubicBezTo>
                  <a:pt x="17017" y="18206"/>
                  <a:pt x="17235" y="18163"/>
                  <a:pt x="17190" y="18182"/>
                </a:cubicBezTo>
                <a:cubicBezTo>
                  <a:pt x="17163" y="18193"/>
                  <a:pt x="16998" y="18252"/>
                  <a:pt x="17066" y="18256"/>
                </a:cubicBezTo>
                <a:cubicBezTo>
                  <a:pt x="17179" y="18263"/>
                  <a:pt x="17349" y="18230"/>
                  <a:pt x="17090" y="18281"/>
                </a:cubicBezTo>
                <a:cubicBezTo>
                  <a:pt x="16996" y="18300"/>
                  <a:pt x="16976" y="18286"/>
                  <a:pt x="16942" y="18331"/>
                </a:cubicBezTo>
                <a:cubicBezTo>
                  <a:pt x="17042" y="18331"/>
                  <a:pt x="17139" y="18312"/>
                  <a:pt x="17239" y="18306"/>
                </a:cubicBezTo>
                <a:cubicBezTo>
                  <a:pt x="17156" y="18343"/>
                  <a:pt x="17001" y="18424"/>
                  <a:pt x="17090" y="18405"/>
                </a:cubicBezTo>
                <a:cubicBezTo>
                  <a:pt x="17142" y="18394"/>
                  <a:pt x="17270" y="18357"/>
                  <a:pt x="17165" y="18405"/>
                </a:cubicBezTo>
                <a:cubicBezTo>
                  <a:pt x="17062" y="18451"/>
                  <a:pt x="16917" y="18479"/>
                  <a:pt x="17090" y="18479"/>
                </a:cubicBezTo>
                <a:cubicBezTo>
                  <a:pt x="17115" y="18479"/>
                  <a:pt x="17123" y="18479"/>
                  <a:pt x="17140" y="18479"/>
                </a:cubicBezTo>
              </a:path>
              <a:path w="7889" h="2977">
                <a:moveTo>
                  <a:pt x="16743" y="16619"/>
                </a:moveTo>
                <a:cubicBezTo>
                  <a:pt x="16867" y="16619"/>
                  <a:pt x="16991" y="16619"/>
                  <a:pt x="17115" y="16619"/>
                </a:cubicBezTo>
              </a:path>
              <a:path w="7889" h="2977">
                <a:moveTo>
                  <a:pt x="16743" y="16818"/>
                </a:moveTo>
                <a:cubicBezTo>
                  <a:pt x="16842" y="16818"/>
                  <a:pt x="16977" y="16784"/>
                  <a:pt x="17066" y="16793"/>
                </a:cubicBezTo>
                <a:cubicBezTo>
                  <a:pt x="17090" y="16818"/>
                  <a:pt x="17098" y="16826"/>
                  <a:pt x="17115" y="16793"/>
                </a:cubicBezTo>
              </a:path>
              <a:path w="7889" h="2977">
                <a:moveTo>
                  <a:pt x="20588" y="17140"/>
                </a:moveTo>
                <a:cubicBezTo>
                  <a:pt x="20609" y="17283"/>
                  <a:pt x="20665" y="17367"/>
                  <a:pt x="20737" y="17487"/>
                </a:cubicBezTo>
                <a:cubicBezTo>
                  <a:pt x="20745" y="17504"/>
                  <a:pt x="20754" y="17520"/>
                  <a:pt x="20762" y="17537"/>
                </a:cubicBezTo>
                <a:cubicBezTo>
                  <a:pt x="20806" y="17434"/>
                  <a:pt x="20863" y="17339"/>
                  <a:pt x="20910" y="17239"/>
                </a:cubicBezTo>
                <a:cubicBezTo>
                  <a:pt x="20949" y="17156"/>
                  <a:pt x="20944" y="17188"/>
                  <a:pt x="20960" y="17140"/>
                </a:cubicBezTo>
              </a:path>
              <a:path w="7889" h="2977">
                <a:moveTo>
                  <a:pt x="21158" y="17239"/>
                </a:moveTo>
                <a:cubicBezTo>
                  <a:pt x="21158" y="17292"/>
                  <a:pt x="21139" y="17348"/>
                  <a:pt x="21183" y="17363"/>
                </a:cubicBezTo>
                <a:cubicBezTo>
                  <a:pt x="21210" y="17345"/>
                  <a:pt x="21210" y="17328"/>
                  <a:pt x="21233" y="17289"/>
                </a:cubicBezTo>
              </a:path>
              <a:path w="7889" h="2977">
                <a:moveTo>
                  <a:pt x="21506" y="17016"/>
                </a:moveTo>
                <a:cubicBezTo>
                  <a:pt x="21573" y="16971"/>
                  <a:pt x="21731" y="16916"/>
                  <a:pt x="21704" y="17090"/>
                </a:cubicBezTo>
                <a:cubicBezTo>
                  <a:pt x="21691" y="17176"/>
                  <a:pt x="21552" y="17368"/>
                  <a:pt x="21481" y="17413"/>
                </a:cubicBezTo>
                <a:cubicBezTo>
                  <a:pt x="21473" y="17413"/>
                  <a:pt x="21464" y="17413"/>
                  <a:pt x="21456" y="17413"/>
                </a:cubicBezTo>
                <a:cubicBezTo>
                  <a:pt x="21540" y="17456"/>
                  <a:pt x="21613" y="17431"/>
                  <a:pt x="21704" y="17413"/>
                </a:cubicBezTo>
                <a:cubicBezTo>
                  <a:pt x="21739" y="17413"/>
                  <a:pt x="21757" y="17408"/>
                  <a:pt x="21779" y="17388"/>
                </a:cubicBezTo>
              </a:path>
              <a:path w="7889" h="2977">
                <a:moveTo>
                  <a:pt x="22002" y="17066"/>
                </a:moveTo>
                <a:cubicBezTo>
                  <a:pt x="22068" y="17066"/>
                  <a:pt x="22134" y="17066"/>
                  <a:pt x="22200" y="17066"/>
                </a:cubicBezTo>
              </a:path>
              <a:path w="7889" h="2977">
                <a:moveTo>
                  <a:pt x="21952" y="17289"/>
                </a:moveTo>
                <a:cubicBezTo>
                  <a:pt x="22041" y="17289"/>
                  <a:pt x="22114" y="17284"/>
                  <a:pt x="22200" y="17264"/>
                </a:cubicBezTo>
              </a:path>
              <a:path w="7889" h="2977">
                <a:moveTo>
                  <a:pt x="22895" y="16942"/>
                </a:moveTo>
                <a:cubicBezTo>
                  <a:pt x="22719" y="16951"/>
                  <a:pt x="22601" y="16978"/>
                  <a:pt x="22448" y="17066"/>
                </a:cubicBezTo>
                <a:cubicBezTo>
                  <a:pt x="22502" y="17173"/>
                  <a:pt x="22629" y="17171"/>
                  <a:pt x="22721" y="17264"/>
                </a:cubicBezTo>
                <a:cubicBezTo>
                  <a:pt x="22800" y="17343"/>
                  <a:pt x="22668" y="17367"/>
                  <a:pt x="22622" y="17388"/>
                </a:cubicBezTo>
                <a:cubicBezTo>
                  <a:pt x="22534" y="17329"/>
                  <a:pt x="22591" y="17255"/>
                  <a:pt x="22647" y="17165"/>
                </a:cubicBezTo>
                <a:cubicBezTo>
                  <a:pt x="22683" y="17108"/>
                  <a:pt x="22729" y="17044"/>
                  <a:pt x="22771" y="16991"/>
                </a:cubicBezTo>
              </a:path>
              <a:path w="7889" h="2977">
                <a:moveTo>
                  <a:pt x="20613" y="17934"/>
                </a:moveTo>
                <a:cubicBezTo>
                  <a:pt x="20667" y="18050"/>
                  <a:pt x="20712" y="18176"/>
                  <a:pt x="20786" y="18281"/>
                </a:cubicBezTo>
                <a:cubicBezTo>
                  <a:pt x="20794" y="18289"/>
                  <a:pt x="20803" y="18298"/>
                  <a:pt x="20811" y="18306"/>
                </a:cubicBezTo>
                <a:cubicBezTo>
                  <a:pt x="20828" y="18219"/>
                  <a:pt x="20868" y="18113"/>
                  <a:pt x="20910" y="18033"/>
                </a:cubicBezTo>
                <a:cubicBezTo>
                  <a:pt x="20961" y="17936"/>
                  <a:pt x="20967" y="17988"/>
                  <a:pt x="20985" y="17934"/>
                </a:cubicBezTo>
              </a:path>
              <a:path w="7889" h="2977">
                <a:moveTo>
                  <a:pt x="21208" y="17711"/>
                </a:moveTo>
                <a:cubicBezTo>
                  <a:pt x="21106" y="17813"/>
                  <a:pt x="21075" y="18001"/>
                  <a:pt x="21084" y="18157"/>
                </a:cubicBezTo>
                <a:cubicBezTo>
                  <a:pt x="21090" y="18258"/>
                  <a:pt x="21135" y="18355"/>
                  <a:pt x="21233" y="18380"/>
                </a:cubicBezTo>
              </a:path>
              <a:path w="7889" h="2977">
                <a:moveTo>
                  <a:pt x="21233" y="17884"/>
                </a:moveTo>
                <a:cubicBezTo>
                  <a:pt x="21296" y="17867"/>
                  <a:pt x="21387" y="17828"/>
                  <a:pt x="21431" y="17909"/>
                </a:cubicBezTo>
                <a:cubicBezTo>
                  <a:pt x="21473" y="17986"/>
                  <a:pt x="21452" y="18010"/>
                  <a:pt x="21406" y="18083"/>
                </a:cubicBezTo>
                <a:cubicBezTo>
                  <a:pt x="21365" y="18147"/>
                  <a:pt x="21319" y="18169"/>
                  <a:pt x="21332" y="18182"/>
                </a:cubicBezTo>
                <a:cubicBezTo>
                  <a:pt x="21403" y="18206"/>
                  <a:pt x="21468" y="18164"/>
                  <a:pt x="21555" y="18157"/>
                </a:cubicBezTo>
                <a:cubicBezTo>
                  <a:pt x="21583" y="18157"/>
                  <a:pt x="21594" y="18155"/>
                  <a:pt x="21605" y="18132"/>
                </a:cubicBezTo>
              </a:path>
              <a:path w="7889" h="2977">
                <a:moveTo>
                  <a:pt x="21555" y="17686"/>
                </a:moveTo>
                <a:cubicBezTo>
                  <a:pt x="21655" y="17743"/>
                  <a:pt x="21816" y="17883"/>
                  <a:pt x="21853" y="18008"/>
                </a:cubicBezTo>
                <a:cubicBezTo>
                  <a:pt x="21881" y="18103"/>
                  <a:pt x="21832" y="18260"/>
                  <a:pt x="21729" y="18281"/>
                </a:cubicBezTo>
                <a:cubicBezTo>
                  <a:pt x="21721" y="18281"/>
                  <a:pt x="21712" y="18281"/>
                  <a:pt x="21704" y="18281"/>
                </a:cubicBezTo>
              </a:path>
              <a:path w="7889" h="2977">
                <a:moveTo>
                  <a:pt x="22002" y="17884"/>
                </a:moveTo>
                <a:cubicBezTo>
                  <a:pt x="22071" y="17884"/>
                  <a:pt x="22141" y="17874"/>
                  <a:pt x="22175" y="17909"/>
                </a:cubicBezTo>
              </a:path>
              <a:path w="7889" h="2977">
                <a:moveTo>
                  <a:pt x="21977" y="18083"/>
                </a:moveTo>
                <a:cubicBezTo>
                  <a:pt x="22061" y="18076"/>
                  <a:pt x="22119" y="18060"/>
                  <a:pt x="22200" y="18033"/>
                </a:cubicBezTo>
              </a:path>
              <a:path w="7889" h="2977">
                <a:moveTo>
                  <a:pt x="22746" y="18281"/>
                </a:moveTo>
                <a:cubicBezTo>
                  <a:pt x="22680" y="18193"/>
                  <a:pt x="22677" y="18262"/>
                  <a:pt x="22597" y="18281"/>
                </a:cubicBezTo>
                <a:cubicBezTo>
                  <a:pt x="22552" y="18281"/>
                  <a:pt x="22539" y="18277"/>
                  <a:pt x="22523" y="18306"/>
                </a:cubicBezTo>
                <a:cubicBezTo>
                  <a:pt x="22556" y="18453"/>
                  <a:pt x="22626" y="18409"/>
                  <a:pt x="22721" y="18504"/>
                </a:cubicBezTo>
                <a:cubicBezTo>
                  <a:pt x="22765" y="18548"/>
                  <a:pt x="22781" y="18576"/>
                  <a:pt x="22796" y="18628"/>
                </a:cubicBezTo>
                <a:cubicBezTo>
                  <a:pt x="22767" y="18714"/>
                  <a:pt x="22716" y="18690"/>
                  <a:pt x="22622" y="18678"/>
                </a:cubicBezTo>
                <a:cubicBezTo>
                  <a:pt x="22589" y="18678"/>
                  <a:pt x="22580" y="18670"/>
                  <a:pt x="22597" y="18628"/>
                </a:cubicBezTo>
                <a:cubicBezTo>
                  <a:pt x="22597" y="18567"/>
                  <a:pt x="22652" y="18516"/>
                  <a:pt x="22696" y="18479"/>
                </a:cubicBezTo>
                <a:cubicBezTo>
                  <a:pt x="22757" y="18427"/>
                  <a:pt x="22787" y="18407"/>
                  <a:pt x="22796" y="18331"/>
                </a:cubicBezTo>
                <a:cubicBezTo>
                  <a:pt x="22796" y="18323"/>
                  <a:pt x="22796" y="18314"/>
                  <a:pt x="22796" y="18306"/>
                </a:cubicBezTo>
              </a:path>
              <a:path w="7889" h="2977">
                <a:moveTo>
                  <a:pt x="20017" y="15925"/>
                </a:moveTo>
                <a:cubicBezTo>
                  <a:pt x="20017" y="16057"/>
                  <a:pt x="20022" y="16192"/>
                  <a:pt x="20042" y="16321"/>
                </a:cubicBezTo>
                <a:cubicBezTo>
                  <a:pt x="20065" y="16468"/>
                  <a:pt x="20103" y="16619"/>
                  <a:pt x="20117" y="16768"/>
                </a:cubicBezTo>
                <a:cubicBezTo>
                  <a:pt x="20129" y="16899"/>
                  <a:pt x="20141" y="17036"/>
                  <a:pt x="20166" y="17165"/>
                </a:cubicBezTo>
                <a:cubicBezTo>
                  <a:pt x="20184" y="17257"/>
                  <a:pt x="20230" y="17348"/>
                  <a:pt x="20241" y="17438"/>
                </a:cubicBezTo>
                <a:cubicBezTo>
                  <a:pt x="20257" y="17561"/>
                  <a:pt x="20245" y="17662"/>
                  <a:pt x="20241" y="17785"/>
                </a:cubicBezTo>
                <a:cubicBezTo>
                  <a:pt x="20237" y="17892"/>
                  <a:pt x="20237" y="17972"/>
                  <a:pt x="20241" y="18083"/>
                </a:cubicBezTo>
                <a:cubicBezTo>
                  <a:pt x="20246" y="18220"/>
                  <a:pt x="20229" y="18345"/>
                  <a:pt x="20216" y="18479"/>
                </a:cubicBezTo>
                <a:cubicBezTo>
                  <a:pt x="20204" y="18602"/>
                  <a:pt x="20196" y="18729"/>
                  <a:pt x="20191" y="18852"/>
                </a:cubicBezTo>
                <a:cubicBezTo>
                  <a:pt x="20191" y="18876"/>
                  <a:pt x="20191" y="18885"/>
                  <a:pt x="20191" y="189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83320" y="6643800"/>
            <a:ext cx="536760" cy="152280"/>
          </a:xfrm>
          <a:custGeom>
            <a:avLst/>
            <a:gdLst/>
            <a:ahLst/>
            <a:rect l="l" t="t" r="r" b="b"/>
            <a:pathLst>
              <a:path w="1490" h="422">
                <a:moveTo>
                  <a:pt x="20811" y="18703"/>
                </a:moveTo>
                <a:cubicBezTo>
                  <a:pt x="20811" y="18665"/>
                  <a:pt x="20821" y="18609"/>
                  <a:pt x="20836" y="18579"/>
                </a:cubicBezTo>
                <a:cubicBezTo>
                  <a:pt x="20845" y="18562"/>
                  <a:pt x="20927" y="18485"/>
                  <a:pt x="20935" y="18479"/>
                </a:cubicBezTo>
                <a:cubicBezTo>
                  <a:pt x="20965" y="18459"/>
                  <a:pt x="20998" y="18450"/>
                  <a:pt x="21034" y="18455"/>
                </a:cubicBezTo>
                <a:cubicBezTo>
                  <a:pt x="21117" y="18467"/>
                  <a:pt x="21134" y="18508"/>
                  <a:pt x="21134" y="18579"/>
                </a:cubicBezTo>
                <a:cubicBezTo>
                  <a:pt x="21134" y="18643"/>
                  <a:pt x="21064" y="18736"/>
                  <a:pt x="21010" y="18777"/>
                </a:cubicBezTo>
                <a:cubicBezTo>
                  <a:pt x="20959" y="18816"/>
                  <a:pt x="20901" y="18870"/>
                  <a:pt x="20836" y="18876"/>
                </a:cubicBezTo>
                <a:cubicBezTo>
                  <a:pt x="20811" y="18876"/>
                  <a:pt x="20803" y="18876"/>
                  <a:pt x="20786" y="18876"/>
                </a:cubicBezTo>
                <a:cubicBezTo>
                  <a:pt x="20910" y="18876"/>
                  <a:pt x="21034" y="18876"/>
                  <a:pt x="21158" y="18876"/>
                </a:cubicBezTo>
              </a:path>
              <a:path w="1490" h="422">
                <a:moveTo>
                  <a:pt x="21332" y="18628"/>
                </a:moveTo>
                <a:cubicBezTo>
                  <a:pt x="21307" y="18628"/>
                  <a:pt x="21299" y="18628"/>
                  <a:pt x="21307" y="18604"/>
                </a:cubicBezTo>
                <a:cubicBezTo>
                  <a:pt x="21325" y="18692"/>
                  <a:pt x="21384" y="18740"/>
                  <a:pt x="21431" y="18802"/>
                </a:cubicBezTo>
                <a:cubicBezTo>
                  <a:pt x="21451" y="18843"/>
                  <a:pt x="21449" y="18859"/>
                  <a:pt x="21481" y="18852"/>
                </a:cubicBezTo>
                <a:cubicBezTo>
                  <a:pt x="21512" y="18831"/>
                  <a:pt x="21542" y="18753"/>
                  <a:pt x="21580" y="18703"/>
                </a:cubicBezTo>
                <a:cubicBezTo>
                  <a:pt x="21600" y="18677"/>
                  <a:pt x="21649" y="18617"/>
                  <a:pt x="21679" y="18604"/>
                </a:cubicBezTo>
                <a:cubicBezTo>
                  <a:pt x="21687" y="18604"/>
                  <a:pt x="21696" y="18604"/>
                  <a:pt x="21704" y="18604"/>
                </a:cubicBezTo>
              </a:path>
              <a:path w="1490" h="422">
                <a:moveTo>
                  <a:pt x="22101" y="18579"/>
                </a:moveTo>
                <a:cubicBezTo>
                  <a:pt x="22093" y="18571"/>
                  <a:pt x="22084" y="18562"/>
                  <a:pt x="22076" y="18554"/>
                </a:cubicBezTo>
                <a:cubicBezTo>
                  <a:pt x="22124" y="18544"/>
                  <a:pt x="22163" y="18541"/>
                  <a:pt x="22175" y="18504"/>
                </a:cubicBezTo>
                <a:cubicBezTo>
                  <a:pt x="22175" y="18529"/>
                  <a:pt x="22175" y="18537"/>
                  <a:pt x="22175" y="18554"/>
                </a:cubicBezTo>
              </a:path>
              <a:path w="1490" h="422">
                <a:moveTo>
                  <a:pt x="22027" y="18678"/>
                </a:moveTo>
                <a:cubicBezTo>
                  <a:pt x="22110" y="18678"/>
                  <a:pt x="22192" y="18678"/>
                  <a:pt x="22275" y="186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082000" y="6348240"/>
            <a:ext cx="106200" cy="162000"/>
          </a:xfrm>
          <a:custGeom>
            <a:avLst/>
            <a:gdLst/>
            <a:ahLst/>
            <a:rect l="l" t="t" r="r" b="b"/>
            <a:pathLst>
              <a:path w="299" h="448">
                <a:moveTo>
                  <a:pt x="22696" y="17636"/>
                </a:moveTo>
                <a:cubicBezTo>
                  <a:pt x="22561" y="17651"/>
                  <a:pt x="22483" y="17645"/>
                  <a:pt x="22448" y="17785"/>
                </a:cubicBezTo>
                <a:cubicBezTo>
                  <a:pt x="22511" y="17821"/>
                  <a:pt x="22727" y="17882"/>
                  <a:pt x="22746" y="17959"/>
                </a:cubicBezTo>
                <a:cubicBezTo>
                  <a:pt x="22746" y="18037"/>
                  <a:pt x="22761" y="18055"/>
                  <a:pt x="22721" y="18083"/>
                </a:cubicBezTo>
                <a:cubicBezTo>
                  <a:pt x="22570" y="18068"/>
                  <a:pt x="22593" y="17989"/>
                  <a:pt x="22647" y="17859"/>
                </a:cubicBezTo>
                <a:cubicBezTo>
                  <a:pt x="22691" y="17770"/>
                  <a:pt x="22704" y="17747"/>
                  <a:pt x="22721" y="176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73080" y="1633680"/>
            <a:ext cx="6850080" cy="4002120"/>
          </a:xfrm>
          <a:custGeom>
            <a:avLst/>
            <a:gdLst/>
            <a:ahLst/>
            <a:rect l="l" t="t" r="r" b="b"/>
            <a:pathLst>
              <a:path w="19026" h="11114">
                <a:moveTo>
                  <a:pt x="2704" y="15602"/>
                </a:moveTo>
                <a:cubicBezTo>
                  <a:pt x="2704" y="15619"/>
                  <a:pt x="2704" y="15635"/>
                  <a:pt x="2704" y="15652"/>
                </a:cubicBezTo>
              </a:path>
              <a:path w="19026" h="11114">
                <a:moveTo>
                  <a:pt x="21704" y="4539"/>
                </a:moveTo>
                <a:cubicBezTo>
                  <a:pt x="21712" y="4539"/>
                  <a:pt x="21721" y="4539"/>
                  <a:pt x="21729" y="45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16000" y="5483160"/>
            <a:ext cx="2170080" cy="108000"/>
          </a:xfrm>
          <a:custGeom>
            <a:avLst/>
            <a:gdLst/>
            <a:ahLst/>
            <a:rect l="l" t="t" r="r" b="b"/>
            <a:pathLst>
              <a:path w="6028" h="299">
                <a:moveTo>
                  <a:pt x="3101" y="15379"/>
                </a:moveTo>
                <a:cubicBezTo>
                  <a:pt x="3142" y="15408"/>
                  <a:pt x="3231" y="15522"/>
                  <a:pt x="3299" y="15528"/>
                </a:cubicBezTo>
                <a:cubicBezTo>
                  <a:pt x="3429" y="15539"/>
                  <a:pt x="3460" y="15357"/>
                  <a:pt x="3572" y="15354"/>
                </a:cubicBezTo>
                <a:cubicBezTo>
                  <a:pt x="3731" y="15350"/>
                  <a:pt x="3850" y="15512"/>
                  <a:pt x="4018" y="15478"/>
                </a:cubicBezTo>
                <a:cubicBezTo>
                  <a:pt x="4229" y="15435"/>
                  <a:pt x="4269" y="15315"/>
                  <a:pt x="4490" y="15379"/>
                </a:cubicBezTo>
                <a:cubicBezTo>
                  <a:pt x="4653" y="15427"/>
                  <a:pt x="4692" y="15375"/>
                  <a:pt x="4862" y="15379"/>
                </a:cubicBezTo>
                <a:cubicBezTo>
                  <a:pt x="5000" y="15382"/>
                  <a:pt x="5098" y="15461"/>
                  <a:pt x="5234" y="15453"/>
                </a:cubicBezTo>
                <a:cubicBezTo>
                  <a:pt x="5424" y="15442"/>
                  <a:pt x="5589" y="15506"/>
                  <a:pt x="5779" y="15503"/>
                </a:cubicBezTo>
                <a:cubicBezTo>
                  <a:pt x="6076" y="15499"/>
                  <a:pt x="6304" y="15448"/>
                  <a:pt x="6598" y="15503"/>
                </a:cubicBezTo>
                <a:cubicBezTo>
                  <a:pt x="6840" y="15548"/>
                  <a:pt x="6901" y="15428"/>
                  <a:pt x="7119" y="15379"/>
                </a:cubicBezTo>
                <a:cubicBezTo>
                  <a:pt x="7293" y="15340"/>
                  <a:pt x="7453" y="15405"/>
                  <a:pt x="7640" y="15354"/>
                </a:cubicBezTo>
                <a:cubicBezTo>
                  <a:pt x="7875" y="15290"/>
                  <a:pt x="8052" y="15348"/>
                  <a:pt x="8285" y="15329"/>
                </a:cubicBezTo>
                <a:cubicBezTo>
                  <a:pt x="8454" y="15315"/>
                  <a:pt x="8615" y="15298"/>
                  <a:pt x="8781" y="15280"/>
                </a:cubicBezTo>
                <a:cubicBezTo>
                  <a:pt x="8874" y="15270"/>
                  <a:pt x="8936" y="15235"/>
                  <a:pt x="9029" y="15230"/>
                </a:cubicBezTo>
                <a:cubicBezTo>
                  <a:pt x="9062" y="15228"/>
                  <a:pt x="9095" y="15230"/>
                  <a:pt x="9128" y="152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bjective:  Students will write algebraic expressions to represent unknown quantities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Practice:  Translate each.</a:t>
            </a:r>
            <a:endParaRPr b="0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A number increased by seven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half of a number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The sum of 4 times a number and 3 is 27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The quotient of a number and nine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Four less than a number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Seven less a number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5800" y="982800"/>
            <a:ext cx="1152360" cy="660240"/>
          </a:xfrm>
          <a:custGeom>
            <a:avLst/>
            <a:gdLst/>
            <a:ahLst/>
            <a:rect l="l" t="t" r="r" b="b"/>
            <a:pathLst>
              <a:path w="3201" h="1836">
                <a:moveTo>
                  <a:pt x="2654" y="4366"/>
                </a:moveTo>
                <a:cubicBezTo>
                  <a:pt x="2680" y="4412"/>
                  <a:pt x="2722" y="4464"/>
                  <a:pt x="2753" y="4514"/>
                </a:cubicBezTo>
                <a:cubicBezTo>
                  <a:pt x="2779" y="4556"/>
                  <a:pt x="2765" y="4572"/>
                  <a:pt x="2853" y="4564"/>
                </a:cubicBezTo>
                <a:cubicBezTo>
                  <a:pt x="2946" y="4556"/>
                  <a:pt x="3035" y="4536"/>
                  <a:pt x="3125" y="4514"/>
                </a:cubicBezTo>
                <a:cubicBezTo>
                  <a:pt x="3316" y="4467"/>
                  <a:pt x="3507" y="4427"/>
                  <a:pt x="3696" y="4390"/>
                </a:cubicBezTo>
                <a:cubicBezTo>
                  <a:pt x="3784" y="4373"/>
                  <a:pt x="3853" y="4344"/>
                  <a:pt x="3944" y="4341"/>
                </a:cubicBezTo>
                <a:cubicBezTo>
                  <a:pt x="4034" y="4338"/>
                  <a:pt x="4098" y="4319"/>
                  <a:pt x="4192" y="4316"/>
                </a:cubicBezTo>
                <a:cubicBezTo>
                  <a:pt x="4312" y="4312"/>
                  <a:pt x="4421" y="4295"/>
                  <a:pt x="4539" y="4291"/>
                </a:cubicBezTo>
                <a:cubicBezTo>
                  <a:pt x="4658" y="4287"/>
                  <a:pt x="4772" y="4277"/>
                  <a:pt x="4887" y="4266"/>
                </a:cubicBezTo>
                <a:cubicBezTo>
                  <a:pt x="4998" y="4256"/>
                  <a:pt x="5099" y="4273"/>
                  <a:pt x="5209" y="4266"/>
                </a:cubicBezTo>
                <a:cubicBezTo>
                  <a:pt x="5290" y="4261"/>
                  <a:pt x="5344" y="4229"/>
                  <a:pt x="5432" y="4242"/>
                </a:cubicBezTo>
                <a:cubicBezTo>
                  <a:pt x="5502" y="4252"/>
                  <a:pt x="5585" y="4253"/>
                  <a:pt x="5655" y="4266"/>
                </a:cubicBezTo>
                <a:cubicBezTo>
                  <a:pt x="5701" y="4275"/>
                  <a:pt x="5732" y="4295"/>
                  <a:pt x="5779" y="4291"/>
                </a:cubicBezTo>
                <a:cubicBezTo>
                  <a:pt x="5842" y="4286"/>
                  <a:pt x="5811" y="4284"/>
                  <a:pt x="5854" y="4242"/>
                </a:cubicBezTo>
              </a:path>
              <a:path w="3201" h="1836">
                <a:moveTo>
                  <a:pt x="2902" y="3001"/>
                </a:moveTo>
                <a:cubicBezTo>
                  <a:pt x="2959" y="3071"/>
                  <a:pt x="3001" y="3259"/>
                  <a:pt x="3026" y="3373"/>
                </a:cubicBezTo>
                <a:cubicBezTo>
                  <a:pt x="3026" y="3381"/>
                  <a:pt x="3026" y="3390"/>
                  <a:pt x="3026" y="3398"/>
                </a:cubicBezTo>
              </a:path>
              <a:path w="3201" h="1836">
                <a:moveTo>
                  <a:pt x="3026" y="2828"/>
                </a:moveTo>
                <a:cubicBezTo>
                  <a:pt x="2968" y="2847"/>
                  <a:pt x="3012" y="2973"/>
                  <a:pt x="3026" y="3026"/>
                </a:cubicBezTo>
                <a:cubicBezTo>
                  <a:pt x="3037" y="3069"/>
                  <a:pt x="3159" y="3419"/>
                  <a:pt x="3200" y="3398"/>
                </a:cubicBezTo>
                <a:cubicBezTo>
                  <a:pt x="3200" y="3390"/>
                  <a:pt x="3200" y="3381"/>
                  <a:pt x="3200" y="3373"/>
                </a:cubicBezTo>
                <a:cubicBezTo>
                  <a:pt x="3200" y="3300"/>
                  <a:pt x="3221" y="3262"/>
                  <a:pt x="3175" y="3274"/>
                </a:cubicBezTo>
                <a:cubicBezTo>
                  <a:pt x="3130" y="3285"/>
                  <a:pt x="3042" y="3012"/>
                  <a:pt x="3026" y="2977"/>
                </a:cubicBezTo>
                <a:cubicBezTo>
                  <a:pt x="2988" y="2894"/>
                  <a:pt x="2994" y="2667"/>
                  <a:pt x="2927" y="2729"/>
                </a:cubicBezTo>
                <a:cubicBezTo>
                  <a:pt x="2927" y="2737"/>
                  <a:pt x="2927" y="2745"/>
                  <a:pt x="2927" y="2753"/>
                </a:cubicBezTo>
                <a:cubicBezTo>
                  <a:pt x="3028" y="2967"/>
                  <a:pt x="3075" y="3197"/>
                  <a:pt x="3150" y="3423"/>
                </a:cubicBezTo>
                <a:cubicBezTo>
                  <a:pt x="3158" y="3448"/>
                  <a:pt x="3167" y="3472"/>
                  <a:pt x="3175" y="3497"/>
                </a:cubicBezTo>
                <a:cubicBezTo>
                  <a:pt x="3175" y="3377"/>
                  <a:pt x="3139" y="3302"/>
                  <a:pt x="3175" y="3175"/>
                </a:cubicBezTo>
                <a:cubicBezTo>
                  <a:pt x="3229" y="2982"/>
                  <a:pt x="3395" y="3011"/>
                  <a:pt x="3522" y="3125"/>
                </a:cubicBezTo>
                <a:cubicBezTo>
                  <a:pt x="3657" y="3246"/>
                  <a:pt x="3680" y="3450"/>
                  <a:pt x="3497" y="3522"/>
                </a:cubicBezTo>
                <a:cubicBezTo>
                  <a:pt x="3391" y="3564"/>
                  <a:pt x="3306" y="3532"/>
                  <a:pt x="3200" y="35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97120" y="1197000"/>
            <a:ext cx="187200" cy="152280"/>
          </a:xfrm>
          <a:custGeom>
            <a:avLst/>
            <a:gdLst/>
            <a:ahLst/>
            <a:rect l="l" t="t" r="r" b="b"/>
            <a:pathLst>
              <a:path w="522" h="423">
                <a:moveTo>
                  <a:pt x="7789" y="3497"/>
                </a:moveTo>
                <a:cubicBezTo>
                  <a:pt x="7781" y="3473"/>
                  <a:pt x="7780" y="3453"/>
                  <a:pt x="7764" y="3423"/>
                </a:cubicBezTo>
                <a:cubicBezTo>
                  <a:pt x="7726" y="3367"/>
                  <a:pt x="7709" y="3364"/>
                  <a:pt x="7714" y="3324"/>
                </a:cubicBezTo>
                <a:cubicBezTo>
                  <a:pt x="7714" y="3458"/>
                  <a:pt x="7760" y="3566"/>
                  <a:pt x="7789" y="3696"/>
                </a:cubicBezTo>
                <a:cubicBezTo>
                  <a:pt x="7789" y="3721"/>
                  <a:pt x="7789" y="3729"/>
                  <a:pt x="7789" y="3746"/>
                </a:cubicBezTo>
              </a:path>
              <a:path w="522" h="423">
                <a:moveTo>
                  <a:pt x="7491" y="3572"/>
                </a:moveTo>
                <a:cubicBezTo>
                  <a:pt x="7648" y="3537"/>
                  <a:pt x="7801" y="3504"/>
                  <a:pt x="7962" y="3497"/>
                </a:cubicBezTo>
                <a:cubicBezTo>
                  <a:pt x="7987" y="3497"/>
                  <a:pt x="7995" y="3497"/>
                  <a:pt x="8012" y="34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19680" y="1143000"/>
            <a:ext cx="134640" cy="160200"/>
          </a:xfrm>
          <a:custGeom>
            <a:avLst/>
            <a:gdLst/>
            <a:ahLst/>
            <a:rect l="l" t="t" r="r" b="b"/>
            <a:pathLst>
              <a:path w="373" h="447">
                <a:moveTo>
                  <a:pt x="10889" y="3200"/>
                </a:moveTo>
                <a:cubicBezTo>
                  <a:pt x="10906" y="3148"/>
                  <a:pt x="11032" y="3175"/>
                  <a:pt x="11088" y="3175"/>
                </a:cubicBezTo>
                <a:cubicBezTo>
                  <a:pt x="11146" y="3175"/>
                  <a:pt x="11203" y="3175"/>
                  <a:pt x="11261" y="3175"/>
                </a:cubicBezTo>
                <a:cubicBezTo>
                  <a:pt x="11236" y="3325"/>
                  <a:pt x="11183" y="3474"/>
                  <a:pt x="11137" y="36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608200" y="4795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7243" y="13320"/>
                </a:moveTo>
                <a:lnTo>
                  <a:pt x="7243" y="1332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90800" y="2589120"/>
            <a:ext cx="2465280" cy="2689200"/>
          </a:xfrm>
          <a:custGeom>
            <a:avLst/>
            <a:gdLst/>
            <a:ahLst/>
            <a:rect l="l" t="t" r="r" b="b"/>
            <a:pathLst>
              <a:path w="6848" h="7468">
                <a:moveTo>
                  <a:pt x="9327" y="8781"/>
                </a:moveTo>
                <a:cubicBezTo>
                  <a:pt x="9346" y="8850"/>
                  <a:pt x="9360" y="8914"/>
                  <a:pt x="9376" y="8979"/>
                </a:cubicBezTo>
                <a:cubicBezTo>
                  <a:pt x="9606" y="8903"/>
                  <a:pt x="9830" y="8933"/>
                  <a:pt x="10071" y="8954"/>
                </a:cubicBezTo>
                <a:cubicBezTo>
                  <a:pt x="10373" y="8980"/>
                  <a:pt x="10665" y="9037"/>
                  <a:pt x="10964" y="9079"/>
                </a:cubicBezTo>
                <a:cubicBezTo>
                  <a:pt x="11145" y="9105"/>
                  <a:pt x="11329" y="9138"/>
                  <a:pt x="11509" y="9153"/>
                </a:cubicBezTo>
                <a:cubicBezTo>
                  <a:pt x="11623" y="9162"/>
                  <a:pt x="11727" y="9152"/>
                  <a:pt x="11832" y="9128"/>
                </a:cubicBezTo>
                <a:cubicBezTo>
                  <a:pt x="11888" y="9115"/>
                  <a:pt x="11947" y="9110"/>
                  <a:pt x="12005" y="9103"/>
                </a:cubicBezTo>
                <a:cubicBezTo>
                  <a:pt x="12118" y="9090"/>
                  <a:pt x="12096" y="9112"/>
                  <a:pt x="12154" y="9054"/>
                </a:cubicBezTo>
                <a:cubicBezTo>
                  <a:pt x="12222" y="8986"/>
                  <a:pt x="12378" y="8780"/>
                  <a:pt x="12353" y="8756"/>
                </a:cubicBezTo>
                <a:cubicBezTo>
                  <a:pt x="12336" y="8773"/>
                  <a:pt x="12320" y="8789"/>
                  <a:pt x="12303" y="8806"/>
                </a:cubicBezTo>
              </a:path>
              <a:path w="6848" h="7468">
                <a:moveTo>
                  <a:pt x="10468" y="7367"/>
                </a:moveTo>
                <a:cubicBezTo>
                  <a:pt x="10478" y="7450"/>
                  <a:pt x="10556" y="7520"/>
                  <a:pt x="10492" y="7392"/>
                </a:cubicBezTo>
                <a:cubicBezTo>
                  <a:pt x="10425" y="7279"/>
                  <a:pt x="10409" y="7247"/>
                  <a:pt x="10344" y="7193"/>
                </a:cubicBezTo>
                <a:cubicBezTo>
                  <a:pt x="10194" y="7264"/>
                  <a:pt x="9786" y="7617"/>
                  <a:pt x="10096" y="7813"/>
                </a:cubicBezTo>
                <a:cubicBezTo>
                  <a:pt x="10269" y="7923"/>
                  <a:pt x="10524" y="7752"/>
                  <a:pt x="10666" y="7665"/>
                </a:cubicBezTo>
              </a:path>
              <a:path w="6848" h="7468">
                <a:moveTo>
                  <a:pt x="8062" y="10988"/>
                </a:moveTo>
                <a:cubicBezTo>
                  <a:pt x="8090" y="11078"/>
                  <a:pt x="8101" y="11178"/>
                  <a:pt x="8161" y="11261"/>
                </a:cubicBezTo>
                <a:cubicBezTo>
                  <a:pt x="8280" y="11427"/>
                  <a:pt x="8388" y="11432"/>
                  <a:pt x="8582" y="11385"/>
                </a:cubicBezTo>
                <a:cubicBezTo>
                  <a:pt x="8889" y="11311"/>
                  <a:pt x="9187" y="11233"/>
                  <a:pt x="9500" y="11187"/>
                </a:cubicBezTo>
                <a:cubicBezTo>
                  <a:pt x="9723" y="11154"/>
                  <a:pt x="9944" y="11162"/>
                  <a:pt x="10170" y="11162"/>
                </a:cubicBezTo>
                <a:cubicBezTo>
                  <a:pt x="10285" y="11162"/>
                  <a:pt x="10418" y="11179"/>
                  <a:pt x="10517" y="11187"/>
                </a:cubicBezTo>
                <a:cubicBezTo>
                  <a:pt x="10652" y="11198"/>
                  <a:pt x="10792" y="11186"/>
                  <a:pt x="10914" y="11212"/>
                </a:cubicBezTo>
                <a:cubicBezTo>
                  <a:pt x="10903" y="11145"/>
                  <a:pt x="10911" y="11023"/>
                  <a:pt x="10889" y="10964"/>
                </a:cubicBezTo>
                <a:cubicBezTo>
                  <a:pt x="10873" y="10947"/>
                  <a:pt x="10856" y="10931"/>
                  <a:pt x="10840" y="10914"/>
                </a:cubicBezTo>
              </a:path>
              <a:path w="6848" h="7468">
                <a:moveTo>
                  <a:pt x="9252" y="9525"/>
                </a:moveTo>
                <a:cubicBezTo>
                  <a:pt x="9227" y="9475"/>
                  <a:pt x="9189" y="9433"/>
                  <a:pt x="9178" y="9401"/>
                </a:cubicBezTo>
                <a:cubicBezTo>
                  <a:pt x="9201" y="9611"/>
                  <a:pt x="9231" y="9815"/>
                  <a:pt x="9277" y="10021"/>
                </a:cubicBezTo>
                <a:cubicBezTo>
                  <a:pt x="9296" y="10095"/>
                  <a:pt x="9304" y="10154"/>
                  <a:pt x="9302" y="10096"/>
                </a:cubicBezTo>
                <a:cubicBezTo>
                  <a:pt x="9289" y="9944"/>
                  <a:pt x="9253" y="9637"/>
                  <a:pt x="9525" y="9723"/>
                </a:cubicBezTo>
                <a:cubicBezTo>
                  <a:pt x="9664" y="9816"/>
                  <a:pt x="9708" y="9840"/>
                  <a:pt x="9748" y="9947"/>
                </a:cubicBezTo>
                <a:cubicBezTo>
                  <a:pt x="9648" y="10170"/>
                  <a:pt x="9550" y="10161"/>
                  <a:pt x="9302" y="10170"/>
                </a:cubicBezTo>
                <a:cubicBezTo>
                  <a:pt x="9294" y="10170"/>
                  <a:pt x="9285" y="10170"/>
                  <a:pt x="9277" y="10170"/>
                </a:cubicBezTo>
              </a:path>
              <a:path w="6848" h="7468">
                <a:moveTo>
                  <a:pt x="5531" y="12229"/>
                </a:moveTo>
                <a:cubicBezTo>
                  <a:pt x="5674" y="12229"/>
                  <a:pt x="5811" y="12192"/>
                  <a:pt x="5953" y="12179"/>
                </a:cubicBezTo>
                <a:cubicBezTo>
                  <a:pt x="5978" y="12179"/>
                  <a:pt x="6003" y="12179"/>
                  <a:pt x="6028" y="12179"/>
                </a:cubicBezTo>
              </a:path>
              <a:path w="6848" h="7468">
                <a:moveTo>
                  <a:pt x="7913" y="12055"/>
                </a:moveTo>
                <a:cubicBezTo>
                  <a:pt x="7948" y="12198"/>
                  <a:pt x="8017" y="12335"/>
                  <a:pt x="8062" y="12477"/>
                </a:cubicBezTo>
                <a:cubicBezTo>
                  <a:pt x="8044" y="12370"/>
                  <a:pt x="7979" y="12263"/>
                  <a:pt x="8037" y="12154"/>
                </a:cubicBezTo>
                <a:cubicBezTo>
                  <a:pt x="8110" y="12016"/>
                  <a:pt x="8350" y="12020"/>
                  <a:pt x="8458" y="12105"/>
                </a:cubicBezTo>
                <a:cubicBezTo>
                  <a:pt x="8600" y="12217"/>
                  <a:pt x="8497" y="12358"/>
                  <a:pt x="8582" y="12477"/>
                </a:cubicBezTo>
                <a:cubicBezTo>
                  <a:pt x="8622" y="12532"/>
                  <a:pt x="8749" y="12502"/>
                  <a:pt x="8806" y="12502"/>
                </a:cubicBezTo>
              </a:path>
              <a:path w="6848" h="7468">
                <a:moveTo>
                  <a:pt x="6127" y="13271"/>
                </a:moveTo>
                <a:cubicBezTo>
                  <a:pt x="6278" y="13300"/>
                  <a:pt x="6467" y="13269"/>
                  <a:pt x="6623" y="13246"/>
                </a:cubicBezTo>
                <a:cubicBezTo>
                  <a:pt x="6701" y="13234"/>
                  <a:pt x="7233" y="13032"/>
                  <a:pt x="7045" y="13246"/>
                </a:cubicBezTo>
              </a:path>
              <a:path w="6848" h="7468">
                <a:moveTo>
                  <a:pt x="6176" y="13469"/>
                </a:moveTo>
                <a:cubicBezTo>
                  <a:pt x="6478" y="13393"/>
                  <a:pt x="6781" y="13355"/>
                  <a:pt x="7094" y="13345"/>
                </a:cubicBezTo>
                <a:cubicBezTo>
                  <a:pt x="7230" y="13341"/>
                  <a:pt x="7228" y="13394"/>
                  <a:pt x="7243" y="13320"/>
                </a:cubicBezTo>
              </a:path>
              <a:path w="6848" h="7468">
                <a:moveTo>
                  <a:pt x="6896" y="14188"/>
                </a:moveTo>
                <a:cubicBezTo>
                  <a:pt x="6930" y="14344"/>
                  <a:pt x="6966" y="14501"/>
                  <a:pt x="6995" y="14660"/>
                </a:cubicBezTo>
                <a:cubicBezTo>
                  <a:pt x="6971" y="14495"/>
                  <a:pt x="6895" y="14364"/>
                  <a:pt x="7020" y="14213"/>
                </a:cubicBezTo>
                <a:cubicBezTo>
                  <a:pt x="7159" y="14045"/>
                  <a:pt x="7357" y="14110"/>
                  <a:pt x="7417" y="14288"/>
                </a:cubicBezTo>
                <a:cubicBezTo>
                  <a:pt x="7445" y="14372"/>
                  <a:pt x="7408" y="14652"/>
                  <a:pt x="7565" y="14610"/>
                </a:cubicBezTo>
                <a:cubicBezTo>
                  <a:pt x="7669" y="14558"/>
                  <a:pt x="7705" y="14539"/>
                  <a:pt x="7764" y="144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1177920"/>
            <a:ext cx="5492520" cy="2135160"/>
          </a:xfrm>
          <a:custGeom>
            <a:avLst/>
            <a:gdLst/>
            <a:ahLst/>
            <a:rect l="l" t="t" r="r" b="b"/>
            <a:pathLst>
              <a:path w="15256" h="5930">
                <a:moveTo>
                  <a:pt x="9947" y="5581"/>
                </a:moveTo>
                <a:cubicBezTo>
                  <a:pt x="9999" y="5762"/>
                  <a:pt x="10048" y="5945"/>
                  <a:pt x="10096" y="6127"/>
                </a:cubicBezTo>
                <a:cubicBezTo>
                  <a:pt x="9992" y="5983"/>
                  <a:pt x="9967" y="5807"/>
                  <a:pt x="10021" y="5631"/>
                </a:cubicBezTo>
                <a:cubicBezTo>
                  <a:pt x="10084" y="5426"/>
                  <a:pt x="10291" y="5347"/>
                  <a:pt x="10443" y="5531"/>
                </a:cubicBezTo>
                <a:cubicBezTo>
                  <a:pt x="10568" y="5683"/>
                  <a:pt x="10612" y="5923"/>
                  <a:pt x="10592" y="6102"/>
                </a:cubicBezTo>
                <a:cubicBezTo>
                  <a:pt x="10592" y="6127"/>
                  <a:pt x="10592" y="6135"/>
                  <a:pt x="10592" y="6102"/>
                </a:cubicBezTo>
              </a:path>
              <a:path w="15256" h="5930">
                <a:moveTo>
                  <a:pt x="10939" y="5705"/>
                </a:moveTo>
                <a:cubicBezTo>
                  <a:pt x="11017" y="5744"/>
                  <a:pt x="11143" y="5761"/>
                  <a:pt x="11237" y="5779"/>
                </a:cubicBezTo>
                <a:cubicBezTo>
                  <a:pt x="11307" y="5792"/>
                  <a:pt x="11269" y="5734"/>
                  <a:pt x="11261" y="5705"/>
                </a:cubicBezTo>
              </a:path>
              <a:path w="15256" h="5930">
                <a:moveTo>
                  <a:pt x="11013" y="5358"/>
                </a:moveTo>
                <a:cubicBezTo>
                  <a:pt x="11013" y="5401"/>
                  <a:pt x="11019" y="5426"/>
                  <a:pt x="11038" y="5457"/>
                </a:cubicBezTo>
              </a:path>
              <a:path w="15256" h="5930">
                <a:moveTo>
                  <a:pt x="11112" y="6127"/>
                </a:moveTo>
                <a:lnTo>
                  <a:pt x="11112" y="6127"/>
                </a:lnTo>
                <a:lnTo>
                  <a:pt x="11112" y="6127"/>
                </a:lnTo>
              </a:path>
              <a:path w="15256" h="5930">
                <a:moveTo>
                  <a:pt x="11609" y="5482"/>
                </a:moveTo>
                <a:cubicBezTo>
                  <a:pt x="11677" y="5447"/>
                  <a:pt x="11884" y="5386"/>
                  <a:pt x="11881" y="5556"/>
                </a:cubicBezTo>
                <a:cubicBezTo>
                  <a:pt x="11877" y="5777"/>
                  <a:pt x="11660" y="6010"/>
                  <a:pt x="11559" y="6201"/>
                </a:cubicBezTo>
                <a:cubicBezTo>
                  <a:pt x="11717" y="6215"/>
                  <a:pt x="11870" y="6226"/>
                  <a:pt x="12030" y="6226"/>
                </a:cubicBezTo>
                <a:cubicBezTo>
                  <a:pt x="12055" y="6226"/>
                  <a:pt x="12080" y="6226"/>
                  <a:pt x="12105" y="6226"/>
                </a:cubicBezTo>
              </a:path>
              <a:path w="15256" h="5930">
                <a:moveTo>
                  <a:pt x="13271" y="5680"/>
                </a:moveTo>
                <a:cubicBezTo>
                  <a:pt x="13134" y="5840"/>
                  <a:pt x="13088" y="5904"/>
                  <a:pt x="13146" y="6102"/>
                </a:cubicBezTo>
                <a:cubicBezTo>
                  <a:pt x="13325" y="6075"/>
                  <a:pt x="13510" y="6017"/>
                  <a:pt x="13395" y="5779"/>
                </a:cubicBezTo>
                <a:cubicBezTo>
                  <a:pt x="13339" y="5752"/>
                  <a:pt x="13317" y="5744"/>
                  <a:pt x="13271" y="5755"/>
                </a:cubicBezTo>
              </a:path>
              <a:path w="15256" h="5930">
                <a:moveTo>
                  <a:pt x="13643" y="5829"/>
                </a:moveTo>
                <a:cubicBezTo>
                  <a:pt x="13643" y="5870"/>
                  <a:pt x="13643" y="5945"/>
                  <a:pt x="13643" y="5904"/>
                </a:cubicBezTo>
                <a:cubicBezTo>
                  <a:pt x="13607" y="5798"/>
                  <a:pt x="13587" y="5621"/>
                  <a:pt x="13717" y="5556"/>
                </a:cubicBezTo>
                <a:cubicBezTo>
                  <a:pt x="13750" y="5548"/>
                  <a:pt x="13783" y="5539"/>
                  <a:pt x="13816" y="5531"/>
                </a:cubicBezTo>
              </a:path>
              <a:path w="15256" h="5930">
                <a:moveTo>
                  <a:pt x="14908" y="4787"/>
                </a:moveTo>
                <a:cubicBezTo>
                  <a:pt x="14920" y="4885"/>
                  <a:pt x="14938" y="4989"/>
                  <a:pt x="14957" y="5085"/>
                </a:cubicBezTo>
                <a:cubicBezTo>
                  <a:pt x="14957" y="5077"/>
                  <a:pt x="14957" y="5068"/>
                  <a:pt x="14957" y="5060"/>
                </a:cubicBezTo>
                <a:cubicBezTo>
                  <a:pt x="14931" y="4950"/>
                  <a:pt x="14901" y="4800"/>
                  <a:pt x="15007" y="4713"/>
                </a:cubicBezTo>
                <a:cubicBezTo>
                  <a:pt x="15145" y="4600"/>
                  <a:pt x="15338" y="4889"/>
                  <a:pt x="15379" y="4986"/>
                </a:cubicBezTo>
                <a:cubicBezTo>
                  <a:pt x="15410" y="5058"/>
                  <a:pt x="15404" y="5134"/>
                  <a:pt x="15404" y="5209"/>
                </a:cubicBezTo>
              </a:path>
              <a:path w="15256" h="5930">
                <a:moveTo>
                  <a:pt x="14734" y="5457"/>
                </a:moveTo>
                <a:cubicBezTo>
                  <a:pt x="14968" y="5414"/>
                  <a:pt x="15237" y="5364"/>
                  <a:pt x="15478" y="5407"/>
                </a:cubicBezTo>
                <a:cubicBezTo>
                  <a:pt x="15486" y="5415"/>
                  <a:pt x="15495" y="5424"/>
                  <a:pt x="15503" y="5432"/>
                </a:cubicBezTo>
              </a:path>
              <a:path w="15256" h="5930">
                <a:moveTo>
                  <a:pt x="15503" y="5432"/>
                </a:moveTo>
                <a:lnTo>
                  <a:pt x="15503" y="5432"/>
                </a:lnTo>
              </a:path>
              <a:path w="15256" h="5930">
                <a:moveTo>
                  <a:pt x="15528" y="6648"/>
                </a:moveTo>
                <a:cubicBezTo>
                  <a:pt x="15552" y="6478"/>
                  <a:pt x="15575" y="6328"/>
                  <a:pt x="15577" y="6152"/>
                </a:cubicBezTo>
                <a:cubicBezTo>
                  <a:pt x="15580" y="5868"/>
                  <a:pt x="15543" y="5589"/>
                  <a:pt x="15528" y="5308"/>
                </a:cubicBezTo>
                <a:cubicBezTo>
                  <a:pt x="15522" y="5193"/>
                  <a:pt x="15509" y="5037"/>
                  <a:pt x="15503" y="4936"/>
                </a:cubicBezTo>
                <a:cubicBezTo>
                  <a:pt x="15498" y="4853"/>
                  <a:pt x="15514" y="4782"/>
                  <a:pt x="15478" y="4713"/>
                </a:cubicBezTo>
                <a:cubicBezTo>
                  <a:pt x="15451" y="4661"/>
                  <a:pt x="15406" y="4617"/>
                  <a:pt x="15354" y="4589"/>
                </a:cubicBezTo>
                <a:cubicBezTo>
                  <a:pt x="15239" y="4526"/>
                  <a:pt x="15106" y="4542"/>
                  <a:pt x="14982" y="4539"/>
                </a:cubicBezTo>
                <a:cubicBezTo>
                  <a:pt x="14813" y="4535"/>
                  <a:pt x="14651" y="4549"/>
                  <a:pt x="14486" y="4589"/>
                </a:cubicBezTo>
                <a:cubicBezTo>
                  <a:pt x="14165" y="4667"/>
                  <a:pt x="13838" y="4773"/>
                  <a:pt x="13519" y="4862"/>
                </a:cubicBezTo>
                <a:cubicBezTo>
                  <a:pt x="13094" y="4980"/>
                  <a:pt x="12689" y="5026"/>
                  <a:pt x="12254" y="5085"/>
                </a:cubicBezTo>
                <a:cubicBezTo>
                  <a:pt x="11895" y="5134"/>
                  <a:pt x="11526" y="5169"/>
                  <a:pt x="11162" y="5184"/>
                </a:cubicBezTo>
                <a:cubicBezTo>
                  <a:pt x="10875" y="5196"/>
                  <a:pt x="10603" y="5199"/>
                  <a:pt x="10319" y="5184"/>
                </a:cubicBezTo>
                <a:cubicBezTo>
                  <a:pt x="10071" y="5171"/>
                  <a:pt x="9820" y="5180"/>
                  <a:pt x="9575" y="5209"/>
                </a:cubicBezTo>
                <a:cubicBezTo>
                  <a:pt x="9515" y="5216"/>
                  <a:pt x="9460" y="5226"/>
                  <a:pt x="9401" y="5234"/>
                </a:cubicBezTo>
                <a:cubicBezTo>
                  <a:pt x="9413" y="5450"/>
                  <a:pt x="9424" y="5663"/>
                  <a:pt x="9426" y="5879"/>
                </a:cubicBezTo>
                <a:cubicBezTo>
                  <a:pt x="9428" y="6020"/>
                  <a:pt x="9340" y="6561"/>
                  <a:pt x="9451" y="6672"/>
                </a:cubicBezTo>
                <a:cubicBezTo>
                  <a:pt x="9530" y="6751"/>
                  <a:pt x="9642" y="6763"/>
                  <a:pt x="9798" y="6772"/>
                </a:cubicBezTo>
                <a:cubicBezTo>
                  <a:pt x="10304" y="6801"/>
                  <a:pt x="10832" y="6782"/>
                  <a:pt x="11336" y="6747"/>
                </a:cubicBezTo>
                <a:cubicBezTo>
                  <a:pt x="11734" y="6719"/>
                  <a:pt x="12127" y="6654"/>
                  <a:pt x="12526" y="6648"/>
                </a:cubicBezTo>
                <a:cubicBezTo>
                  <a:pt x="12848" y="6644"/>
                  <a:pt x="13175" y="6689"/>
                  <a:pt x="13494" y="6672"/>
                </a:cubicBezTo>
                <a:cubicBezTo>
                  <a:pt x="13757" y="6658"/>
                  <a:pt x="14002" y="6658"/>
                  <a:pt x="14263" y="6672"/>
                </a:cubicBezTo>
                <a:cubicBezTo>
                  <a:pt x="14431" y="6681"/>
                  <a:pt x="14594" y="6702"/>
                  <a:pt x="14759" y="6722"/>
                </a:cubicBezTo>
                <a:cubicBezTo>
                  <a:pt x="14956" y="6746"/>
                  <a:pt x="15156" y="6768"/>
                  <a:pt x="15354" y="6796"/>
                </a:cubicBezTo>
                <a:cubicBezTo>
                  <a:pt x="15495" y="6816"/>
                  <a:pt x="15635" y="6831"/>
                  <a:pt x="15776" y="6846"/>
                </a:cubicBezTo>
              </a:path>
              <a:path w="15256" h="5930">
                <a:moveTo>
                  <a:pt x="14908" y="3274"/>
                </a:moveTo>
                <a:cubicBezTo>
                  <a:pt x="14939" y="3496"/>
                  <a:pt x="14977" y="3721"/>
                  <a:pt x="15007" y="3944"/>
                </a:cubicBezTo>
                <a:cubicBezTo>
                  <a:pt x="15029" y="4112"/>
                  <a:pt x="15032" y="4272"/>
                  <a:pt x="15032" y="4440"/>
                </a:cubicBezTo>
              </a:path>
              <a:path w="15256" h="5930">
                <a:moveTo>
                  <a:pt x="14883" y="3398"/>
                </a:moveTo>
                <a:cubicBezTo>
                  <a:pt x="14982" y="3349"/>
                  <a:pt x="15089" y="3326"/>
                  <a:pt x="15230" y="3324"/>
                </a:cubicBezTo>
                <a:cubicBezTo>
                  <a:pt x="15484" y="3320"/>
                  <a:pt x="15748" y="3339"/>
                  <a:pt x="15999" y="3373"/>
                </a:cubicBezTo>
                <a:cubicBezTo>
                  <a:pt x="16219" y="3403"/>
                  <a:pt x="16473" y="3430"/>
                  <a:pt x="16694" y="3423"/>
                </a:cubicBezTo>
                <a:cubicBezTo>
                  <a:pt x="16958" y="3415"/>
                  <a:pt x="17222" y="3377"/>
                  <a:pt x="17487" y="3373"/>
                </a:cubicBezTo>
                <a:cubicBezTo>
                  <a:pt x="17652" y="3371"/>
                  <a:pt x="17835" y="3383"/>
                  <a:pt x="17983" y="3398"/>
                </a:cubicBezTo>
                <a:cubicBezTo>
                  <a:pt x="17991" y="3398"/>
                  <a:pt x="18000" y="3398"/>
                  <a:pt x="18008" y="3398"/>
                </a:cubicBezTo>
                <a:cubicBezTo>
                  <a:pt x="18002" y="3612"/>
                  <a:pt x="18004" y="3830"/>
                  <a:pt x="17983" y="4043"/>
                </a:cubicBezTo>
                <a:cubicBezTo>
                  <a:pt x="17974" y="4139"/>
                  <a:pt x="18027" y="4291"/>
                  <a:pt x="18008" y="4366"/>
                </a:cubicBezTo>
                <a:cubicBezTo>
                  <a:pt x="17978" y="4484"/>
                  <a:pt x="17494" y="4460"/>
                  <a:pt x="17413" y="4465"/>
                </a:cubicBezTo>
                <a:cubicBezTo>
                  <a:pt x="16890" y="4499"/>
                  <a:pt x="16374" y="4471"/>
                  <a:pt x="15850" y="4514"/>
                </a:cubicBezTo>
                <a:cubicBezTo>
                  <a:pt x="15692" y="4527"/>
                  <a:pt x="15512" y="4537"/>
                  <a:pt x="15354" y="4564"/>
                </a:cubicBezTo>
                <a:cubicBezTo>
                  <a:pt x="15300" y="4573"/>
                  <a:pt x="15309" y="4564"/>
                  <a:pt x="15255" y="4564"/>
                </a:cubicBezTo>
              </a:path>
              <a:path w="15256" h="5930">
                <a:moveTo>
                  <a:pt x="2753" y="8855"/>
                </a:moveTo>
                <a:cubicBezTo>
                  <a:pt x="2775" y="8909"/>
                  <a:pt x="2782" y="8983"/>
                  <a:pt x="2828" y="9029"/>
                </a:cubicBezTo>
                <a:cubicBezTo>
                  <a:pt x="2923" y="9124"/>
                  <a:pt x="3107" y="8904"/>
                  <a:pt x="3225" y="8979"/>
                </a:cubicBezTo>
                <a:cubicBezTo>
                  <a:pt x="3331" y="9047"/>
                  <a:pt x="3320" y="9113"/>
                  <a:pt x="3473" y="9128"/>
                </a:cubicBezTo>
                <a:cubicBezTo>
                  <a:pt x="3609" y="9142"/>
                  <a:pt x="3736" y="9187"/>
                  <a:pt x="3870" y="9203"/>
                </a:cubicBezTo>
                <a:cubicBezTo>
                  <a:pt x="4052" y="9225"/>
                  <a:pt x="4287" y="9218"/>
                  <a:pt x="4465" y="9178"/>
                </a:cubicBezTo>
                <a:cubicBezTo>
                  <a:pt x="4575" y="9153"/>
                  <a:pt x="4649" y="9178"/>
                  <a:pt x="4762" y="9153"/>
                </a:cubicBezTo>
                <a:cubicBezTo>
                  <a:pt x="4886" y="9126"/>
                  <a:pt x="5007" y="9068"/>
                  <a:pt x="5135" y="9079"/>
                </a:cubicBezTo>
                <a:cubicBezTo>
                  <a:pt x="5278" y="9091"/>
                  <a:pt x="5386" y="9043"/>
                  <a:pt x="5531" y="9054"/>
                </a:cubicBezTo>
                <a:cubicBezTo>
                  <a:pt x="5696" y="9067"/>
                  <a:pt x="5811" y="9046"/>
                  <a:pt x="5978" y="9029"/>
                </a:cubicBezTo>
                <a:cubicBezTo>
                  <a:pt x="6063" y="9020"/>
                  <a:pt x="6142" y="9047"/>
                  <a:pt x="6226" y="9054"/>
                </a:cubicBezTo>
              </a:path>
              <a:path w="15256" h="5930">
                <a:moveTo>
                  <a:pt x="4614" y="7516"/>
                </a:moveTo>
                <a:cubicBezTo>
                  <a:pt x="4542" y="7540"/>
                  <a:pt x="4612" y="7799"/>
                  <a:pt x="4614" y="7838"/>
                </a:cubicBezTo>
                <a:cubicBezTo>
                  <a:pt x="4617" y="7894"/>
                  <a:pt x="4614" y="7955"/>
                  <a:pt x="4614" y="8012"/>
                </a:cubicBezTo>
              </a:path>
              <a:path w="15256" h="5930">
                <a:moveTo>
                  <a:pt x="4266" y="7764"/>
                </a:moveTo>
                <a:cubicBezTo>
                  <a:pt x="4450" y="7715"/>
                  <a:pt x="4599" y="7732"/>
                  <a:pt x="4787" y="7739"/>
                </a:cubicBezTo>
                <a:cubicBezTo>
                  <a:pt x="4795" y="7739"/>
                  <a:pt x="4804" y="7739"/>
                  <a:pt x="4812" y="7739"/>
                </a:cubicBezTo>
              </a:path>
              <a:path w="15256" h="5930">
                <a:moveTo>
                  <a:pt x="6697" y="7342"/>
                </a:moveTo>
                <a:cubicBezTo>
                  <a:pt x="6697" y="7431"/>
                  <a:pt x="6644" y="7539"/>
                  <a:pt x="6648" y="7615"/>
                </a:cubicBezTo>
                <a:cubicBezTo>
                  <a:pt x="6656" y="7623"/>
                  <a:pt x="6664" y="7632"/>
                  <a:pt x="6672" y="7640"/>
                </a:cubicBezTo>
                <a:cubicBezTo>
                  <a:pt x="6756" y="7615"/>
                  <a:pt x="6831" y="7615"/>
                  <a:pt x="6921" y="7615"/>
                </a:cubicBezTo>
              </a:path>
              <a:path w="15256" h="5930">
                <a:moveTo>
                  <a:pt x="6921" y="7193"/>
                </a:moveTo>
                <a:cubicBezTo>
                  <a:pt x="6896" y="7366"/>
                  <a:pt x="6892" y="7539"/>
                  <a:pt x="6871" y="7714"/>
                </a:cubicBezTo>
                <a:cubicBezTo>
                  <a:pt x="6857" y="7828"/>
                  <a:pt x="6840" y="7871"/>
                  <a:pt x="6821" y="7962"/>
                </a:cubicBezTo>
              </a:path>
              <a:path w="15256" h="5930">
                <a:moveTo>
                  <a:pt x="7863" y="7417"/>
                </a:moveTo>
                <a:cubicBezTo>
                  <a:pt x="7863" y="7393"/>
                  <a:pt x="8077" y="7650"/>
                  <a:pt x="8111" y="7689"/>
                </a:cubicBezTo>
                <a:cubicBezTo>
                  <a:pt x="8189" y="7786"/>
                  <a:pt x="8191" y="7812"/>
                  <a:pt x="8260" y="7838"/>
                </a:cubicBezTo>
              </a:path>
              <a:path w="15256" h="5930">
                <a:moveTo>
                  <a:pt x="8210" y="7293"/>
                </a:moveTo>
                <a:cubicBezTo>
                  <a:pt x="8108" y="7504"/>
                  <a:pt x="8001" y="7714"/>
                  <a:pt x="7888" y="7913"/>
                </a:cubicBezTo>
                <a:cubicBezTo>
                  <a:pt x="7896" y="7905"/>
                  <a:pt x="7905" y="7896"/>
                  <a:pt x="7913" y="78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04920" y="1509840"/>
            <a:ext cx="4788000" cy="490320"/>
          </a:xfrm>
          <a:custGeom>
            <a:avLst/>
            <a:gdLst/>
            <a:ahLst/>
            <a:rect l="l" t="t" r="r" b="b"/>
            <a:pathLst>
              <a:path w="13296" h="1365">
                <a:moveTo>
                  <a:pt x="16644" y="4192"/>
                </a:moveTo>
                <a:lnTo>
                  <a:pt x="16644" y="4192"/>
                </a:lnTo>
              </a:path>
              <a:path w="13296" h="1365">
                <a:moveTo>
                  <a:pt x="3349" y="5060"/>
                </a:moveTo>
                <a:lnTo>
                  <a:pt x="3349" y="5060"/>
                </a:lnTo>
              </a:path>
              <a:path w="13296" h="1365">
                <a:moveTo>
                  <a:pt x="3398" y="5531"/>
                </a:moveTo>
                <a:cubicBezTo>
                  <a:pt x="3390" y="5539"/>
                  <a:pt x="3381" y="5548"/>
                  <a:pt x="3373" y="55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73080" y="1625760"/>
            <a:ext cx="1955880" cy="830160"/>
          </a:xfrm>
          <a:custGeom>
            <a:avLst/>
            <a:gdLst/>
            <a:ahLst/>
            <a:rect l="l" t="t" r="r" b="b"/>
            <a:pathLst>
              <a:path w="5433" h="2308">
                <a:moveTo>
                  <a:pt x="3721" y="5011"/>
                </a:moveTo>
                <a:cubicBezTo>
                  <a:pt x="3675" y="4996"/>
                  <a:pt x="3701" y="4937"/>
                  <a:pt x="3746" y="4911"/>
                </a:cubicBezTo>
                <a:cubicBezTo>
                  <a:pt x="3785" y="4889"/>
                  <a:pt x="3910" y="4960"/>
                  <a:pt x="3919" y="4986"/>
                </a:cubicBezTo>
                <a:cubicBezTo>
                  <a:pt x="3973" y="5137"/>
                  <a:pt x="3863" y="5226"/>
                  <a:pt x="3795" y="5333"/>
                </a:cubicBezTo>
                <a:cubicBezTo>
                  <a:pt x="3729" y="5437"/>
                  <a:pt x="3680" y="5538"/>
                  <a:pt x="3671" y="5655"/>
                </a:cubicBezTo>
                <a:cubicBezTo>
                  <a:pt x="3662" y="5769"/>
                  <a:pt x="3672" y="5608"/>
                  <a:pt x="3721" y="5581"/>
                </a:cubicBezTo>
                <a:cubicBezTo>
                  <a:pt x="3776" y="5550"/>
                  <a:pt x="3825" y="5616"/>
                  <a:pt x="3870" y="5631"/>
                </a:cubicBezTo>
                <a:cubicBezTo>
                  <a:pt x="3958" y="5661"/>
                  <a:pt x="3977" y="5584"/>
                  <a:pt x="4018" y="5531"/>
                </a:cubicBezTo>
                <a:cubicBezTo>
                  <a:pt x="4026" y="5523"/>
                  <a:pt x="4035" y="5515"/>
                  <a:pt x="4043" y="5507"/>
                </a:cubicBezTo>
              </a:path>
              <a:path w="5433" h="2308">
                <a:moveTo>
                  <a:pt x="5035" y="6648"/>
                </a:moveTo>
                <a:cubicBezTo>
                  <a:pt x="5121" y="6733"/>
                  <a:pt x="5165" y="6815"/>
                  <a:pt x="5283" y="6821"/>
                </a:cubicBezTo>
                <a:cubicBezTo>
                  <a:pt x="5523" y="6834"/>
                  <a:pt x="5763" y="6758"/>
                  <a:pt x="6003" y="6747"/>
                </a:cubicBezTo>
                <a:cubicBezTo>
                  <a:pt x="6389" y="6729"/>
                  <a:pt x="6790" y="6790"/>
                  <a:pt x="7169" y="6772"/>
                </a:cubicBezTo>
                <a:cubicBezTo>
                  <a:pt x="7292" y="6766"/>
                  <a:pt x="7469" y="6774"/>
                  <a:pt x="7590" y="6747"/>
                </a:cubicBezTo>
                <a:cubicBezTo>
                  <a:pt x="7687" y="6726"/>
                  <a:pt x="7788" y="6740"/>
                  <a:pt x="7888" y="6722"/>
                </a:cubicBezTo>
                <a:cubicBezTo>
                  <a:pt x="7966" y="6708"/>
                  <a:pt x="8003" y="6729"/>
                  <a:pt x="8062" y="6722"/>
                </a:cubicBezTo>
                <a:cubicBezTo>
                  <a:pt x="8103" y="6717"/>
                  <a:pt x="8104" y="6698"/>
                  <a:pt x="8136" y="6672"/>
                </a:cubicBezTo>
              </a:path>
              <a:path w="5433" h="2308">
                <a:moveTo>
                  <a:pt x="6201" y="5135"/>
                </a:moveTo>
                <a:cubicBezTo>
                  <a:pt x="6244" y="5261"/>
                  <a:pt x="6316" y="5396"/>
                  <a:pt x="6350" y="5531"/>
                </a:cubicBezTo>
                <a:cubicBezTo>
                  <a:pt x="6350" y="5548"/>
                  <a:pt x="6350" y="5564"/>
                  <a:pt x="6350" y="5581"/>
                </a:cubicBezTo>
                <a:cubicBezTo>
                  <a:pt x="6316" y="5480"/>
                  <a:pt x="6271" y="5422"/>
                  <a:pt x="6325" y="5308"/>
                </a:cubicBezTo>
                <a:cubicBezTo>
                  <a:pt x="6382" y="5186"/>
                  <a:pt x="6443" y="5107"/>
                  <a:pt x="6573" y="5135"/>
                </a:cubicBezTo>
                <a:cubicBezTo>
                  <a:pt x="6672" y="5157"/>
                  <a:pt x="6728" y="5232"/>
                  <a:pt x="6747" y="5333"/>
                </a:cubicBezTo>
                <a:cubicBezTo>
                  <a:pt x="6760" y="5405"/>
                  <a:pt x="6713" y="5521"/>
                  <a:pt x="6772" y="5581"/>
                </a:cubicBezTo>
                <a:cubicBezTo>
                  <a:pt x="6821" y="5581"/>
                  <a:pt x="6855" y="5581"/>
                  <a:pt x="6896" y="5581"/>
                </a:cubicBezTo>
              </a:path>
              <a:path w="5433" h="2308">
                <a:moveTo>
                  <a:pt x="3051" y="5705"/>
                </a:moveTo>
                <a:cubicBezTo>
                  <a:pt x="3013" y="5667"/>
                  <a:pt x="3034" y="5685"/>
                  <a:pt x="3076" y="5730"/>
                </a:cubicBezTo>
                <a:cubicBezTo>
                  <a:pt x="3156" y="5816"/>
                  <a:pt x="3261" y="5871"/>
                  <a:pt x="3373" y="5904"/>
                </a:cubicBezTo>
                <a:cubicBezTo>
                  <a:pt x="3500" y="5942"/>
                  <a:pt x="3618" y="5932"/>
                  <a:pt x="3746" y="5904"/>
                </a:cubicBezTo>
                <a:cubicBezTo>
                  <a:pt x="3933" y="5863"/>
                  <a:pt x="4130" y="5734"/>
                  <a:pt x="4242" y="5581"/>
                </a:cubicBezTo>
                <a:cubicBezTo>
                  <a:pt x="4316" y="5480"/>
                  <a:pt x="4361" y="5383"/>
                  <a:pt x="4366" y="5259"/>
                </a:cubicBezTo>
                <a:cubicBezTo>
                  <a:pt x="4373" y="5079"/>
                  <a:pt x="4317" y="4997"/>
                  <a:pt x="4242" y="4837"/>
                </a:cubicBezTo>
                <a:cubicBezTo>
                  <a:pt x="4185" y="4715"/>
                  <a:pt x="4065" y="4554"/>
                  <a:pt x="3919" y="4514"/>
                </a:cubicBezTo>
                <a:cubicBezTo>
                  <a:pt x="3744" y="4466"/>
                  <a:pt x="3559" y="4565"/>
                  <a:pt x="3398" y="4614"/>
                </a:cubicBezTo>
                <a:cubicBezTo>
                  <a:pt x="3156" y="4688"/>
                  <a:pt x="3046" y="4758"/>
                  <a:pt x="2877" y="4936"/>
                </a:cubicBezTo>
                <a:cubicBezTo>
                  <a:pt x="2738" y="5083"/>
                  <a:pt x="2663" y="5297"/>
                  <a:pt x="2704" y="5507"/>
                </a:cubicBezTo>
                <a:cubicBezTo>
                  <a:pt x="2725" y="5612"/>
                  <a:pt x="2803" y="5669"/>
                  <a:pt x="2877" y="5730"/>
                </a:cubicBezTo>
              </a:path>
              <a:path w="5433" h="2308">
                <a:moveTo>
                  <a:pt x="4291" y="4911"/>
                </a:moveTo>
                <a:cubicBezTo>
                  <a:pt x="4375" y="4897"/>
                  <a:pt x="4429" y="4853"/>
                  <a:pt x="4514" y="4837"/>
                </a:cubicBezTo>
                <a:cubicBezTo>
                  <a:pt x="4650" y="4812"/>
                  <a:pt x="4823" y="4823"/>
                  <a:pt x="4961" y="4812"/>
                </a:cubicBezTo>
                <a:cubicBezTo>
                  <a:pt x="5087" y="4802"/>
                  <a:pt x="5208" y="4773"/>
                  <a:pt x="5333" y="4762"/>
                </a:cubicBezTo>
                <a:cubicBezTo>
                  <a:pt x="5498" y="4748"/>
                  <a:pt x="5667" y="4724"/>
                  <a:pt x="5829" y="4688"/>
                </a:cubicBezTo>
                <a:cubicBezTo>
                  <a:pt x="5968" y="4657"/>
                  <a:pt x="6086" y="4613"/>
                  <a:pt x="6226" y="4589"/>
                </a:cubicBezTo>
                <a:cubicBezTo>
                  <a:pt x="6335" y="4571"/>
                  <a:pt x="6460" y="4543"/>
                  <a:pt x="6573" y="4564"/>
                </a:cubicBezTo>
                <a:cubicBezTo>
                  <a:pt x="6686" y="4585"/>
                  <a:pt x="6811" y="4594"/>
                  <a:pt x="6921" y="4638"/>
                </a:cubicBezTo>
                <a:cubicBezTo>
                  <a:pt x="7037" y="4684"/>
                  <a:pt x="7180" y="4746"/>
                  <a:pt x="7268" y="4837"/>
                </a:cubicBezTo>
                <a:cubicBezTo>
                  <a:pt x="7374" y="4947"/>
                  <a:pt x="7457" y="5094"/>
                  <a:pt x="7516" y="5234"/>
                </a:cubicBezTo>
                <a:cubicBezTo>
                  <a:pt x="7536" y="5274"/>
                  <a:pt x="7545" y="5280"/>
                  <a:pt x="7541" y="5308"/>
                </a:cubicBezTo>
              </a:path>
              <a:path w="5433" h="2308">
                <a:moveTo>
                  <a:pt x="7293" y="5135"/>
                </a:moveTo>
                <a:cubicBezTo>
                  <a:pt x="7381" y="5211"/>
                  <a:pt x="7475" y="5297"/>
                  <a:pt x="7590" y="5333"/>
                </a:cubicBezTo>
                <a:cubicBezTo>
                  <a:pt x="7660" y="5355"/>
                  <a:pt x="7734" y="5136"/>
                  <a:pt x="7764" y="5110"/>
                </a:cubicBezTo>
                <a:cubicBezTo>
                  <a:pt x="7772" y="5110"/>
                  <a:pt x="7781" y="5110"/>
                  <a:pt x="7789" y="51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83160" y="1251000"/>
            <a:ext cx="768240" cy="357120"/>
          </a:xfrm>
          <a:custGeom>
            <a:avLst/>
            <a:gdLst/>
            <a:ahLst/>
            <a:rect l="l" t="t" r="r" b="b"/>
            <a:pathLst>
              <a:path w="2134" h="993">
                <a:moveTo>
                  <a:pt x="15230" y="3473"/>
                </a:moveTo>
                <a:cubicBezTo>
                  <a:pt x="15279" y="3692"/>
                  <a:pt x="15350" y="3917"/>
                  <a:pt x="15379" y="4142"/>
                </a:cubicBezTo>
                <a:cubicBezTo>
                  <a:pt x="15388" y="4216"/>
                  <a:pt x="15379" y="4291"/>
                  <a:pt x="15379" y="4217"/>
                </a:cubicBezTo>
                <a:cubicBezTo>
                  <a:pt x="15364" y="4069"/>
                  <a:pt x="15352" y="3816"/>
                  <a:pt x="15602" y="3845"/>
                </a:cubicBezTo>
                <a:cubicBezTo>
                  <a:pt x="15877" y="3877"/>
                  <a:pt x="15886" y="4276"/>
                  <a:pt x="15701" y="4415"/>
                </a:cubicBezTo>
                <a:cubicBezTo>
                  <a:pt x="15618" y="4477"/>
                  <a:pt x="15422" y="4468"/>
                  <a:pt x="15354" y="4390"/>
                </a:cubicBezTo>
                <a:cubicBezTo>
                  <a:pt x="15354" y="4382"/>
                  <a:pt x="15354" y="4374"/>
                  <a:pt x="15354" y="4366"/>
                </a:cubicBezTo>
              </a:path>
              <a:path w="2134" h="993">
                <a:moveTo>
                  <a:pt x="16842" y="3572"/>
                </a:moveTo>
                <a:cubicBezTo>
                  <a:pt x="16954" y="3572"/>
                  <a:pt x="17053" y="3568"/>
                  <a:pt x="17165" y="3547"/>
                </a:cubicBezTo>
                <a:cubicBezTo>
                  <a:pt x="17180" y="3544"/>
                  <a:pt x="17349" y="3482"/>
                  <a:pt x="17363" y="3547"/>
                </a:cubicBezTo>
                <a:cubicBezTo>
                  <a:pt x="17408" y="3749"/>
                  <a:pt x="17318" y="4032"/>
                  <a:pt x="17314" y="4242"/>
                </a:cubicBezTo>
                <a:cubicBezTo>
                  <a:pt x="17312" y="4352"/>
                  <a:pt x="17315" y="4343"/>
                  <a:pt x="17338" y="4390"/>
                </a:cubicBezTo>
                <a:cubicBezTo>
                  <a:pt x="17338" y="4398"/>
                  <a:pt x="17338" y="4407"/>
                  <a:pt x="17338" y="4415"/>
                </a:cubicBezTo>
              </a:path>
              <a:path w="2134" h="993">
                <a:moveTo>
                  <a:pt x="16396" y="3770"/>
                </a:moveTo>
                <a:cubicBezTo>
                  <a:pt x="16462" y="3685"/>
                  <a:pt x="16449" y="3865"/>
                  <a:pt x="16446" y="3944"/>
                </a:cubicBezTo>
                <a:cubicBezTo>
                  <a:pt x="16441" y="4085"/>
                  <a:pt x="16421" y="4223"/>
                  <a:pt x="16421" y="4366"/>
                </a:cubicBezTo>
              </a:path>
              <a:path w="2134" h="993">
                <a:moveTo>
                  <a:pt x="16073" y="4043"/>
                </a:moveTo>
                <a:cubicBezTo>
                  <a:pt x="16199" y="4043"/>
                  <a:pt x="16319" y="4066"/>
                  <a:pt x="16446" y="4068"/>
                </a:cubicBezTo>
                <a:cubicBezTo>
                  <a:pt x="16528" y="4070"/>
                  <a:pt x="16611" y="4068"/>
                  <a:pt x="16694" y="40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46800" y="2581200"/>
            <a:ext cx="2760480" cy="330120"/>
          </a:xfrm>
          <a:custGeom>
            <a:avLst/>
            <a:gdLst/>
            <a:ahLst/>
            <a:rect l="l" t="t" r="r" b="b"/>
            <a:pathLst>
              <a:path w="7666" h="918">
                <a:moveTo>
                  <a:pt x="15131" y="7516"/>
                </a:moveTo>
                <a:lnTo>
                  <a:pt x="15131" y="7516"/>
                </a:lnTo>
              </a:path>
              <a:path w="7666" h="918">
                <a:moveTo>
                  <a:pt x="15602" y="7169"/>
                </a:moveTo>
                <a:lnTo>
                  <a:pt x="15602" y="7169"/>
                </a:lnTo>
              </a:path>
              <a:path w="7666" h="918">
                <a:moveTo>
                  <a:pt x="15602" y="7169"/>
                </a:moveTo>
                <a:lnTo>
                  <a:pt x="15602" y="7169"/>
                </a:lnTo>
              </a:path>
              <a:path w="7666" h="918">
                <a:moveTo>
                  <a:pt x="19621" y="7640"/>
                </a:moveTo>
                <a:cubicBezTo>
                  <a:pt x="19509" y="7779"/>
                  <a:pt x="19367" y="7926"/>
                  <a:pt x="19298" y="8086"/>
                </a:cubicBezTo>
              </a:path>
              <a:path w="7666" h="918">
                <a:moveTo>
                  <a:pt x="19298" y="8086"/>
                </a:moveTo>
                <a:lnTo>
                  <a:pt x="19298" y="8086"/>
                </a:lnTo>
              </a:path>
              <a:path w="7666" h="918">
                <a:moveTo>
                  <a:pt x="20836" y="7466"/>
                </a:moveTo>
                <a:cubicBezTo>
                  <a:pt x="20814" y="7617"/>
                  <a:pt x="20777" y="7773"/>
                  <a:pt x="20712" y="7913"/>
                </a:cubicBezTo>
                <a:cubicBezTo>
                  <a:pt x="20684" y="7941"/>
                  <a:pt x="20675" y="7945"/>
                  <a:pt x="20687" y="7888"/>
                </a:cubicBezTo>
              </a:path>
              <a:path w="7666" h="918">
                <a:moveTo>
                  <a:pt x="22796" y="7739"/>
                </a:moveTo>
                <a:lnTo>
                  <a:pt x="22796" y="7739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01840" y="2071800"/>
            <a:ext cx="4581360" cy="901440"/>
          </a:xfrm>
          <a:custGeom>
            <a:avLst/>
            <a:gdLst/>
            <a:ahLst/>
            <a:rect l="l" t="t" r="r" b="b"/>
            <a:pathLst>
              <a:path w="12726" h="2506">
                <a:moveTo>
                  <a:pt x="14858" y="5953"/>
                </a:moveTo>
                <a:cubicBezTo>
                  <a:pt x="14858" y="5851"/>
                  <a:pt x="14919" y="5821"/>
                  <a:pt x="15007" y="5779"/>
                </a:cubicBezTo>
                <a:cubicBezTo>
                  <a:pt x="15146" y="5712"/>
                  <a:pt x="15182" y="5894"/>
                  <a:pt x="15156" y="6003"/>
                </a:cubicBezTo>
                <a:cubicBezTo>
                  <a:pt x="15111" y="6195"/>
                  <a:pt x="14992" y="6340"/>
                  <a:pt x="14858" y="6474"/>
                </a:cubicBezTo>
                <a:cubicBezTo>
                  <a:pt x="14936" y="6474"/>
                  <a:pt x="15000" y="6428"/>
                  <a:pt x="15081" y="6449"/>
                </a:cubicBezTo>
                <a:cubicBezTo>
                  <a:pt x="15172" y="6473"/>
                  <a:pt x="15260" y="6530"/>
                  <a:pt x="15354" y="6548"/>
                </a:cubicBezTo>
              </a:path>
              <a:path w="12726" h="2506">
                <a:moveTo>
                  <a:pt x="13891" y="7119"/>
                </a:moveTo>
                <a:cubicBezTo>
                  <a:pt x="14063" y="7047"/>
                  <a:pt x="14169" y="7017"/>
                  <a:pt x="14337" y="7069"/>
                </a:cubicBezTo>
                <a:cubicBezTo>
                  <a:pt x="14248" y="7228"/>
                  <a:pt x="14154" y="7295"/>
                  <a:pt x="13965" y="7342"/>
                </a:cubicBezTo>
                <a:cubicBezTo>
                  <a:pt x="14112" y="7289"/>
                  <a:pt x="14325" y="7273"/>
                  <a:pt x="14288" y="7516"/>
                </a:cubicBezTo>
                <a:cubicBezTo>
                  <a:pt x="14243" y="7806"/>
                  <a:pt x="13811" y="7669"/>
                  <a:pt x="13667" y="7565"/>
                </a:cubicBezTo>
                <a:cubicBezTo>
                  <a:pt x="13675" y="7557"/>
                  <a:pt x="13684" y="7549"/>
                  <a:pt x="13692" y="7541"/>
                </a:cubicBezTo>
              </a:path>
              <a:path w="12726" h="2506">
                <a:moveTo>
                  <a:pt x="14808" y="7342"/>
                </a:moveTo>
                <a:cubicBezTo>
                  <a:pt x="14881" y="7342"/>
                  <a:pt x="15136" y="7307"/>
                  <a:pt x="15156" y="7367"/>
                </a:cubicBezTo>
              </a:path>
              <a:path w="12726" h="2506">
                <a:moveTo>
                  <a:pt x="14808" y="7491"/>
                </a:moveTo>
                <a:cubicBezTo>
                  <a:pt x="14919" y="7511"/>
                  <a:pt x="15018" y="7516"/>
                  <a:pt x="15131" y="7516"/>
                </a:cubicBezTo>
              </a:path>
              <a:path w="12726" h="2506">
                <a:moveTo>
                  <a:pt x="15627" y="7144"/>
                </a:moveTo>
                <a:cubicBezTo>
                  <a:pt x="15659" y="7120"/>
                  <a:pt x="15672" y="7098"/>
                  <a:pt x="15701" y="7094"/>
                </a:cubicBezTo>
                <a:cubicBezTo>
                  <a:pt x="15745" y="7088"/>
                  <a:pt x="15782" y="7073"/>
                  <a:pt x="15825" y="7069"/>
                </a:cubicBezTo>
                <a:cubicBezTo>
                  <a:pt x="15882" y="7063"/>
                  <a:pt x="15906" y="7087"/>
                  <a:pt x="15925" y="7144"/>
                </a:cubicBezTo>
                <a:cubicBezTo>
                  <a:pt x="15955" y="7235"/>
                  <a:pt x="15728" y="7352"/>
                  <a:pt x="15677" y="7392"/>
                </a:cubicBezTo>
                <a:cubicBezTo>
                  <a:pt x="15565" y="7480"/>
                  <a:pt x="15491" y="7541"/>
                  <a:pt x="15429" y="7665"/>
                </a:cubicBezTo>
                <a:cubicBezTo>
                  <a:pt x="15421" y="7681"/>
                  <a:pt x="15412" y="7698"/>
                  <a:pt x="15404" y="7714"/>
                </a:cubicBezTo>
                <a:cubicBezTo>
                  <a:pt x="15471" y="7697"/>
                  <a:pt x="15530" y="7622"/>
                  <a:pt x="15602" y="7590"/>
                </a:cubicBezTo>
                <a:cubicBezTo>
                  <a:pt x="15709" y="7542"/>
                  <a:pt x="15698" y="7549"/>
                  <a:pt x="15801" y="7590"/>
                </a:cubicBezTo>
                <a:cubicBezTo>
                  <a:pt x="15907" y="7632"/>
                  <a:pt x="15941" y="7598"/>
                  <a:pt x="16024" y="7541"/>
                </a:cubicBezTo>
              </a:path>
              <a:path w="12726" h="2506">
                <a:moveTo>
                  <a:pt x="16123" y="7144"/>
                </a:moveTo>
                <a:cubicBezTo>
                  <a:pt x="16242" y="7144"/>
                  <a:pt x="16348" y="7180"/>
                  <a:pt x="16470" y="7169"/>
                </a:cubicBezTo>
                <a:cubicBezTo>
                  <a:pt x="16581" y="7159"/>
                  <a:pt x="16553" y="7119"/>
                  <a:pt x="16619" y="7169"/>
                </a:cubicBezTo>
                <a:cubicBezTo>
                  <a:pt x="16507" y="7359"/>
                  <a:pt x="16444" y="7526"/>
                  <a:pt x="16396" y="7739"/>
                </a:cubicBezTo>
              </a:path>
              <a:path w="12726" h="2506">
                <a:moveTo>
                  <a:pt x="3969" y="7863"/>
                </a:moveTo>
                <a:cubicBezTo>
                  <a:pt x="4059" y="7959"/>
                  <a:pt x="4157" y="8093"/>
                  <a:pt x="4291" y="8161"/>
                </a:cubicBezTo>
                <a:cubicBezTo>
                  <a:pt x="4503" y="8268"/>
                  <a:pt x="4766" y="8300"/>
                  <a:pt x="4986" y="8210"/>
                </a:cubicBezTo>
                <a:cubicBezTo>
                  <a:pt x="5213" y="8117"/>
                  <a:pt x="5290" y="7891"/>
                  <a:pt x="5283" y="7665"/>
                </a:cubicBezTo>
                <a:cubicBezTo>
                  <a:pt x="5275" y="7384"/>
                  <a:pt x="5107" y="7267"/>
                  <a:pt x="4862" y="7193"/>
                </a:cubicBezTo>
                <a:cubicBezTo>
                  <a:pt x="4658" y="7132"/>
                  <a:pt x="4409" y="7049"/>
                  <a:pt x="4192" y="7094"/>
                </a:cubicBezTo>
                <a:cubicBezTo>
                  <a:pt x="3946" y="7145"/>
                  <a:pt x="3910" y="7378"/>
                  <a:pt x="3894" y="7590"/>
                </a:cubicBezTo>
                <a:cubicBezTo>
                  <a:pt x="3874" y="7844"/>
                  <a:pt x="3970" y="8020"/>
                  <a:pt x="4217" y="8086"/>
                </a:cubicBezTo>
                <a:cubicBezTo>
                  <a:pt x="4275" y="8086"/>
                  <a:pt x="4283" y="8086"/>
                  <a:pt x="4316" y="8086"/>
                </a:cubicBezTo>
              </a:path>
              <a:path w="12726" h="2506">
                <a:moveTo>
                  <a:pt x="5159" y="7367"/>
                </a:moveTo>
                <a:cubicBezTo>
                  <a:pt x="5199" y="7364"/>
                  <a:pt x="5170" y="7373"/>
                  <a:pt x="5209" y="7367"/>
                </a:cubicBezTo>
                <a:cubicBezTo>
                  <a:pt x="5269" y="7357"/>
                  <a:pt x="5324" y="7354"/>
                  <a:pt x="5383" y="7342"/>
                </a:cubicBezTo>
                <a:cubicBezTo>
                  <a:pt x="5444" y="7330"/>
                  <a:pt x="5498" y="7327"/>
                  <a:pt x="5556" y="7317"/>
                </a:cubicBezTo>
                <a:cubicBezTo>
                  <a:pt x="5623" y="7305"/>
                  <a:pt x="5689" y="7305"/>
                  <a:pt x="5755" y="7293"/>
                </a:cubicBezTo>
                <a:cubicBezTo>
                  <a:pt x="5841" y="7278"/>
                  <a:pt x="5941" y="7249"/>
                  <a:pt x="6028" y="7243"/>
                </a:cubicBezTo>
                <a:cubicBezTo>
                  <a:pt x="6170" y="7234"/>
                  <a:pt x="6308" y="7223"/>
                  <a:pt x="6449" y="7218"/>
                </a:cubicBezTo>
                <a:cubicBezTo>
                  <a:pt x="6724" y="7208"/>
                  <a:pt x="6998" y="7233"/>
                  <a:pt x="7268" y="7243"/>
                </a:cubicBezTo>
                <a:cubicBezTo>
                  <a:pt x="7543" y="7254"/>
                  <a:pt x="7813" y="7223"/>
                  <a:pt x="8086" y="7218"/>
                </a:cubicBezTo>
                <a:cubicBezTo>
                  <a:pt x="8352" y="7213"/>
                  <a:pt x="8616" y="7219"/>
                  <a:pt x="8880" y="7193"/>
                </a:cubicBezTo>
                <a:cubicBezTo>
                  <a:pt x="9034" y="7178"/>
                  <a:pt x="9195" y="7160"/>
                  <a:pt x="9351" y="7144"/>
                </a:cubicBezTo>
                <a:cubicBezTo>
                  <a:pt x="9532" y="7126"/>
                  <a:pt x="9714" y="7101"/>
                  <a:pt x="9897" y="7094"/>
                </a:cubicBezTo>
                <a:cubicBezTo>
                  <a:pt x="10048" y="7088"/>
                  <a:pt x="10194" y="7074"/>
                  <a:pt x="10344" y="7069"/>
                </a:cubicBezTo>
                <a:cubicBezTo>
                  <a:pt x="10568" y="7061"/>
                  <a:pt x="10791" y="7074"/>
                  <a:pt x="11013" y="7094"/>
                </a:cubicBezTo>
                <a:cubicBezTo>
                  <a:pt x="11170" y="7108"/>
                  <a:pt x="11332" y="7125"/>
                  <a:pt x="11485" y="7169"/>
                </a:cubicBezTo>
                <a:cubicBezTo>
                  <a:pt x="11615" y="7206"/>
                  <a:pt x="11713" y="7283"/>
                  <a:pt x="11832" y="7342"/>
                </a:cubicBezTo>
                <a:cubicBezTo>
                  <a:pt x="11945" y="7398"/>
                  <a:pt x="12026" y="7437"/>
                  <a:pt x="12129" y="7516"/>
                </a:cubicBezTo>
                <a:cubicBezTo>
                  <a:pt x="12236" y="7599"/>
                  <a:pt x="12334" y="7688"/>
                  <a:pt x="12427" y="7789"/>
                </a:cubicBezTo>
                <a:cubicBezTo>
                  <a:pt x="12502" y="7870"/>
                  <a:pt x="12564" y="7924"/>
                  <a:pt x="12626" y="7987"/>
                </a:cubicBezTo>
                <a:cubicBezTo>
                  <a:pt x="12626" y="8012"/>
                  <a:pt x="12626" y="8020"/>
                  <a:pt x="12650" y="8012"/>
                </a:cubicBezTo>
              </a:path>
              <a:path w="12726" h="2506">
                <a:moveTo>
                  <a:pt x="12378" y="7888"/>
                </a:moveTo>
                <a:cubicBezTo>
                  <a:pt x="12471" y="7953"/>
                  <a:pt x="12571" y="8044"/>
                  <a:pt x="12675" y="8086"/>
                </a:cubicBezTo>
                <a:cubicBezTo>
                  <a:pt x="12683" y="8086"/>
                  <a:pt x="12692" y="8086"/>
                  <a:pt x="12700" y="8086"/>
                </a:cubicBezTo>
                <a:cubicBezTo>
                  <a:pt x="12736" y="8028"/>
                  <a:pt x="12869" y="7873"/>
                  <a:pt x="12799" y="7813"/>
                </a:cubicBezTo>
                <a:cubicBezTo>
                  <a:pt x="12791" y="7813"/>
                  <a:pt x="12782" y="7813"/>
                  <a:pt x="12774" y="7813"/>
                </a:cubicBezTo>
              </a:path>
              <a:path w="12726" h="2506">
                <a:moveTo>
                  <a:pt x="12774" y="7392"/>
                </a:moveTo>
                <a:cubicBezTo>
                  <a:pt x="12790" y="7518"/>
                  <a:pt x="12650" y="7843"/>
                  <a:pt x="12750" y="7764"/>
                </a:cubicBezTo>
                <a:cubicBezTo>
                  <a:pt x="12758" y="7747"/>
                  <a:pt x="12766" y="7731"/>
                  <a:pt x="12774" y="7714"/>
                </a:cubicBezTo>
              </a:path>
              <a:path w="12726" h="2506">
                <a:moveTo>
                  <a:pt x="12601" y="7516"/>
                </a:moveTo>
                <a:cubicBezTo>
                  <a:pt x="12751" y="7509"/>
                  <a:pt x="12897" y="7491"/>
                  <a:pt x="13047" y="7491"/>
                </a:cubicBezTo>
                <a:cubicBezTo>
                  <a:pt x="13055" y="7491"/>
                  <a:pt x="13064" y="7491"/>
                  <a:pt x="13072" y="74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688080" y="2562120"/>
            <a:ext cx="2152800" cy="750960"/>
          </a:xfrm>
          <a:custGeom>
            <a:avLst/>
            <a:gdLst/>
            <a:ahLst/>
            <a:rect l="l" t="t" r="r" b="b"/>
            <a:pathLst>
              <a:path w="5979" h="2085">
                <a:moveTo>
                  <a:pt x="18752" y="7367"/>
                </a:moveTo>
                <a:cubicBezTo>
                  <a:pt x="18763" y="7586"/>
                  <a:pt x="18722" y="7691"/>
                  <a:pt x="18579" y="7863"/>
                </a:cubicBezTo>
                <a:cubicBezTo>
                  <a:pt x="18721" y="7847"/>
                  <a:pt x="18829" y="7813"/>
                  <a:pt x="18976" y="7838"/>
                </a:cubicBezTo>
                <a:cubicBezTo>
                  <a:pt x="19075" y="7863"/>
                  <a:pt x="19108" y="7871"/>
                  <a:pt x="19100" y="7764"/>
                </a:cubicBezTo>
              </a:path>
              <a:path w="5979" h="2085">
                <a:moveTo>
                  <a:pt x="19075" y="7119"/>
                </a:moveTo>
                <a:cubicBezTo>
                  <a:pt x="19075" y="7450"/>
                  <a:pt x="19038" y="7720"/>
                  <a:pt x="18951" y="8037"/>
                </a:cubicBezTo>
                <a:cubicBezTo>
                  <a:pt x="18932" y="8111"/>
                  <a:pt x="18950" y="8144"/>
                  <a:pt x="18901" y="8136"/>
                </a:cubicBezTo>
              </a:path>
              <a:path w="5979" h="2085">
                <a:moveTo>
                  <a:pt x="19323" y="7714"/>
                </a:moveTo>
                <a:cubicBezTo>
                  <a:pt x="19387" y="7800"/>
                  <a:pt x="19396" y="7935"/>
                  <a:pt x="19447" y="8037"/>
                </a:cubicBezTo>
                <a:cubicBezTo>
                  <a:pt x="19469" y="8059"/>
                  <a:pt x="19478" y="8064"/>
                  <a:pt x="19472" y="8086"/>
                </a:cubicBezTo>
              </a:path>
              <a:path w="5979" h="2085">
                <a:moveTo>
                  <a:pt x="20092" y="7813"/>
                </a:moveTo>
                <a:cubicBezTo>
                  <a:pt x="20092" y="7886"/>
                  <a:pt x="20117" y="7648"/>
                  <a:pt x="20117" y="7640"/>
                </a:cubicBezTo>
                <a:cubicBezTo>
                  <a:pt x="20117" y="7623"/>
                  <a:pt x="20117" y="7607"/>
                  <a:pt x="20117" y="7590"/>
                </a:cubicBezTo>
                <a:cubicBezTo>
                  <a:pt x="19969" y="7634"/>
                  <a:pt x="19737" y="7821"/>
                  <a:pt x="19769" y="8012"/>
                </a:cubicBezTo>
                <a:cubicBezTo>
                  <a:pt x="19802" y="8210"/>
                  <a:pt x="20138" y="8095"/>
                  <a:pt x="20241" y="8062"/>
                </a:cubicBezTo>
              </a:path>
              <a:path w="5979" h="2085">
                <a:moveTo>
                  <a:pt x="20588" y="7665"/>
                </a:moveTo>
                <a:cubicBezTo>
                  <a:pt x="20773" y="7665"/>
                  <a:pt x="20951" y="7676"/>
                  <a:pt x="21134" y="7689"/>
                </a:cubicBezTo>
              </a:path>
              <a:path w="5979" h="2085">
                <a:moveTo>
                  <a:pt x="21605" y="7342"/>
                </a:moveTo>
                <a:cubicBezTo>
                  <a:pt x="21532" y="7306"/>
                  <a:pt x="21817" y="7221"/>
                  <a:pt x="21828" y="7218"/>
                </a:cubicBezTo>
                <a:cubicBezTo>
                  <a:pt x="21922" y="7199"/>
                  <a:pt x="21942" y="7169"/>
                  <a:pt x="21977" y="7218"/>
                </a:cubicBezTo>
                <a:cubicBezTo>
                  <a:pt x="21927" y="7429"/>
                  <a:pt x="21816" y="7509"/>
                  <a:pt x="21605" y="7590"/>
                </a:cubicBezTo>
                <a:cubicBezTo>
                  <a:pt x="21597" y="7590"/>
                  <a:pt x="21588" y="7590"/>
                  <a:pt x="21580" y="7590"/>
                </a:cubicBezTo>
                <a:cubicBezTo>
                  <a:pt x="21733" y="7571"/>
                  <a:pt x="21887" y="7579"/>
                  <a:pt x="21878" y="7789"/>
                </a:cubicBezTo>
                <a:cubicBezTo>
                  <a:pt x="21865" y="8107"/>
                  <a:pt x="21486" y="8018"/>
                  <a:pt x="21307" y="7938"/>
                </a:cubicBezTo>
                <a:cubicBezTo>
                  <a:pt x="21284" y="7915"/>
                  <a:pt x="21276" y="7911"/>
                  <a:pt x="21282" y="7888"/>
                </a:cubicBezTo>
              </a:path>
              <a:path w="5979" h="2085">
                <a:moveTo>
                  <a:pt x="22423" y="7516"/>
                </a:moveTo>
                <a:cubicBezTo>
                  <a:pt x="22546" y="7516"/>
                  <a:pt x="22721" y="7487"/>
                  <a:pt x="22820" y="7516"/>
                </a:cubicBezTo>
              </a:path>
              <a:path w="5979" h="2085">
                <a:moveTo>
                  <a:pt x="22399" y="7714"/>
                </a:moveTo>
                <a:cubicBezTo>
                  <a:pt x="22538" y="7714"/>
                  <a:pt x="22666" y="7713"/>
                  <a:pt x="22796" y="7739"/>
                </a:cubicBezTo>
              </a:path>
              <a:path w="5979" h="2085">
                <a:moveTo>
                  <a:pt x="23391" y="7317"/>
                </a:moveTo>
                <a:cubicBezTo>
                  <a:pt x="23379" y="7282"/>
                  <a:pt x="23511" y="7273"/>
                  <a:pt x="23589" y="7268"/>
                </a:cubicBezTo>
                <a:cubicBezTo>
                  <a:pt x="23735" y="7268"/>
                  <a:pt x="23769" y="7252"/>
                  <a:pt x="23837" y="7317"/>
                </a:cubicBezTo>
                <a:cubicBezTo>
                  <a:pt x="23594" y="7583"/>
                  <a:pt x="23387" y="7691"/>
                  <a:pt x="23068" y="7838"/>
                </a:cubicBezTo>
                <a:cubicBezTo>
                  <a:pt x="23060" y="7846"/>
                  <a:pt x="23052" y="7855"/>
                  <a:pt x="23044" y="7863"/>
                </a:cubicBezTo>
                <a:cubicBezTo>
                  <a:pt x="23236" y="7883"/>
                  <a:pt x="23451" y="7879"/>
                  <a:pt x="23639" y="7913"/>
                </a:cubicBezTo>
                <a:cubicBezTo>
                  <a:pt x="23647" y="7921"/>
                  <a:pt x="23656" y="7930"/>
                  <a:pt x="23664" y="7938"/>
                </a:cubicBezTo>
              </a:path>
              <a:path w="5979" h="2085">
                <a:moveTo>
                  <a:pt x="24135" y="7169"/>
                </a:moveTo>
                <a:cubicBezTo>
                  <a:pt x="24205" y="7141"/>
                  <a:pt x="24316" y="7210"/>
                  <a:pt x="24408" y="7218"/>
                </a:cubicBezTo>
                <a:cubicBezTo>
                  <a:pt x="24499" y="7218"/>
                  <a:pt x="24507" y="7218"/>
                  <a:pt x="24557" y="7218"/>
                </a:cubicBezTo>
                <a:cubicBezTo>
                  <a:pt x="24471" y="7447"/>
                  <a:pt x="24276" y="7625"/>
                  <a:pt x="24160" y="7838"/>
                </a:cubicBezTo>
                <a:cubicBezTo>
                  <a:pt x="24141" y="7912"/>
                  <a:pt x="24133" y="7919"/>
                  <a:pt x="24135" y="7962"/>
                </a:cubicBezTo>
              </a:path>
              <a:path w="5979" h="2085">
                <a:moveTo>
                  <a:pt x="18951" y="8830"/>
                </a:moveTo>
                <a:cubicBezTo>
                  <a:pt x="18891" y="8924"/>
                  <a:pt x="18906" y="8945"/>
                  <a:pt x="18802" y="8979"/>
                </a:cubicBezTo>
                <a:cubicBezTo>
                  <a:pt x="18953" y="8979"/>
                  <a:pt x="19114" y="9054"/>
                  <a:pt x="19248" y="9054"/>
                </a:cubicBezTo>
                <a:cubicBezTo>
                  <a:pt x="19248" y="9046"/>
                  <a:pt x="19248" y="9037"/>
                  <a:pt x="19248" y="9029"/>
                </a:cubicBezTo>
              </a:path>
              <a:path w="5979" h="2085">
                <a:moveTo>
                  <a:pt x="19298" y="8434"/>
                </a:moveTo>
                <a:cubicBezTo>
                  <a:pt x="19265" y="8698"/>
                  <a:pt x="19256" y="8940"/>
                  <a:pt x="19124" y="9178"/>
                </a:cubicBezTo>
                <a:cubicBezTo>
                  <a:pt x="19087" y="9216"/>
                  <a:pt x="19089" y="9209"/>
                  <a:pt x="19149" y="91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19080" y="3133800"/>
            <a:ext cx="6983640" cy="1287360"/>
          </a:xfrm>
          <a:custGeom>
            <a:avLst/>
            <a:gdLst/>
            <a:ahLst/>
            <a:rect l="l" t="t" r="r" b="b"/>
            <a:pathLst>
              <a:path w="19398" h="3573">
                <a:moveTo>
                  <a:pt x="19149" y="9128"/>
                </a:moveTo>
                <a:lnTo>
                  <a:pt x="19149" y="9128"/>
                </a:lnTo>
              </a:path>
              <a:path w="19398" h="3573">
                <a:moveTo>
                  <a:pt x="20513" y="8706"/>
                </a:moveTo>
                <a:cubicBezTo>
                  <a:pt x="20484" y="8806"/>
                  <a:pt x="20459" y="9030"/>
                  <a:pt x="20365" y="9079"/>
                </a:cubicBezTo>
              </a:path>
              <a:path w="19398" h="3573">
                <a:moveTo>
                  <a:pt x="20216" y="8830"/>
                </a:moveTo>
                <a:cubicBezTo>
                  <a:pt x="20414" y="8854"/>
                  <a:pt x="20587" y="8848"/>
                  <a:pt x="20786" y="8830"/>
                </a:cubicBezTo>
              </a:path>
              <a:path w="19398" h="3573">
                <a:moveTo>
                  <a:pt x="21530" y="8954"/>
                </a:moveTo>
                <a:cubicBezTo>
                  <a:pt x="21728" y="8927"/>
                  <a:pt x="21811" y="8916"/>
                  <a:pt x="21952" y="8905"/>
                </a:cubicBezTo>
              </a:path>
              <a:path w="19398" h="3573">
                <a:moveTo>
                  <a:pt x="21952" y="8905"/>
                </a:moveTo>
                <a:lnTo>
                  <a:pt x="21952" y="8905"/>
                </a:lnTo>
              </a:path>
              <a:path w="19398" h="3573">
                <a:moveTo>
                  <a:pt x="2555" y="11410"/>
                </a:moveTo>
                <a:cubicBezTo>
                  <a:pt x="2627" y="11391"/>
                  <a:pt x="2702" y="11374"/>
                  <a:pt x="2778" y="11361"/>
                </a:cubicBezTo>
                <a:cubicBezTo>
                  <a:pt x="2976" y="11326"/>
                  <a:pt x="3175" y="11333"/>
                  <a:pt x="3373" y="11311"/>
                </a:cubicBezTo>
                <a:cubicBezTo>
                  <a:pt x="3589" y="11287"/>
                  <a:pt x="3832" y="11239"/>
                  <a:pt x="4043" y="11187"/>
                </a:cubicBezTo>
                <a:cubicBezTo>
                  <a:pt x="4236" y="11139"/>
                  <a:pt x="4416" y="11135"/>
                  <a:pt x="4614" y="11112"/>
                </a:cubicBezTo>
                <a:cubicBezTo>
                  <a:pt x="4829" y="11087"/>
                  <a:pt x="5043" y="11050"/>
                  <a:pt x="5259" y="11038"/>
                </a:cubicBezTo>
                <a:cubicBezTo>
                  <a:pt x="5418" y="11029"/>
                  <a:pt x="5571" y="11013"/>
                  <a:pt x="5730" y="11013"/>
                </a:cubicBezTo>
                <a:cubicBezTo>
                  <a:pt x="5940" y="11013"/>
                  <a:pt x="6145" y="11024"/>
                  <a:pt x="6350" y="11038"/>
                </a:cubicBezTo>
                <a:cubicBezTo>
                  <a:pt x="6583" y="11054"/>
                  <a:pt x="6814" y="11017"/>
                  <a:pt x="7045" y="11013"/>
                </a:cubicBezTo>
                <a:cubicBezTo>
                  <a:pt x="7136" y="11011"/>
                  <a:pt x="7384" y="11013"/>
                  <a:pt x="7392" y="11013"/>
                </a:cubicBezTo>
              </a:path>
              <a:path w="19398" h="3573">
                <a:moveTo>
                  <a:pt x="4986" y="9947"/>
                </a:moveTo>
                <a:cubicBezTo>
                  <a:pt x="5207" y="9937"/>
                  <a:pt x="5441" y="9918"/>
                  <a:pt x="5655" y="9872"/>
                </a:cubicBezTo>
              </a:path>
              <a:path w="19398" h="3573">
                <a:moveTo>
                  <a:pt x="5234" y="9773"/>
                </a:moveTo>
                <a:cubicBezTo>
                  <a:pt x="5198" y="9844"/>
                  <a:pt x="5195" y="9884"/>
                  <a:pt x="5234" y="9947"/>
                </a:cubicBezTo>
              </a:path>
              <a:path w="19398" h="3573">
                <a:moveTo>
                  <a:pt x="5308" y="10220"/>
                </a:moveTo>
                <a:lnTo>
                  <a:pt x="5308" y="10220"/>
                </a:lnTo>
              </a:path>
              <a:path w="19398" h="3573">
                <a:moveTo>
                  <a:pt x="6796" y="10666"/>
                </a:moveTo>
                <a:cubicBezTo>
                  <a:pt x="6852" y="10610"/>
                  <a:pt x="6916" y="10750"/>
                  <a:pt x="6970" y="10790"/>
                </a:cubicBezTo>
                <a:cubicBezTo>
                  <a:pt x="7073" y="10865"/>
                  <a:pt x="7220" y="10882"/>
                  <a:pt x="7342" y="10889"/>
                </a:cubicBezTo>
                <a:cubicBezTo>
                  <a:pt x="7350" y="10889"/>
                  <a:pt x="7434" y="10889"/>
                  <a:pt x="7367" y="10889"/>
                </a:cubicBezTo>
              </a:path>
              <a:path w="19398" h="3573">
                <a:moveTo>
                  <a:pt x="4738" y="10294"/>
                </a:moveTo>
                <a:cubicBezTo>
                  <a:pt x="4999" y="10388"/>
                  <a:pt x="5177" y="10467"/>
                  <a:pt x="5457" y="10393"/>
                </a:cubicBezTo>
                <a:cubicBezTo>
                  <a:pt x="5659" y="10340"/>
                  <a:pt x="6026" y="10282"/>
                  <a:pt x="6102" y="10046"/>
                </a:cubicBezTo>
                <a:cubicBezTo>
                  <a:pt x="6174" y="9822"/>
                  <a:pt x="5944" y="9519"/>
                  <a:pt x="5755" y="9426"/>
                </a:cubicBezTo>
                <a:cubicBezTo>
                  <a:pt x="5497" y="9299"/>
                  <a:pt x="5057" y="9334"/>
                  <a:pt x="4812" y="9475"/>
                </a:cubicBezTo>
                <a:cubicBezTo>
                  <a:pt x="4448" y="9685"/>
                  <a:pt x="4357" y="10080"/>
                  <a:pt x="4614" y="10418"/>
                </a:cubicBezTo>
                <a:cubicBezTo>
                  <a:pt x="4790" y="10544"/>
                  <a:pt x="4850" y="10584"/>
                  <a:pt x="4986" y="10443"/>
                </a:cubicBezTo>
              </a:path>
              <a:path w="19398" h="3573">
                <a:moveTo>
                  <a:pt x="5779" y="9897"/>
                </a:moveTo>
                <a:cubicBezTo>
                  <a:pt x="5819" y="9870"/>
                  <a:pt x="5663" y="9919"/>
                  <a:pt x="5904" y="9798"/>
                </a:cubicBezTo>
                <a:cubicBezTo>
                  <a:pt x="6186" y="9656"/>
                  <a:pt x="6541" y="9527"/>
                  <a:pt x="6846" y="9451"/>
                </a:cubicBezTo>
                <a:cubicBezTo>
                  <a:pt x="7263" y="9347"/>
                  <a:pt x="7711" y="9285"/>
                  <a:pt x="8136" y="9227"/>
                </a:cubicBezTo>
                <a:cubicBezTo>
                  <a:pt x="8357" y="9197"/>
                  <a:pt x="8607" y="9162"/>
                  <a:pt x="8830" y="9178"/>
                </a:cubicBezTo>
                <a:cubicBezTo>
                  <a:pt x="9009" y="9191"/>
                  <a:pt x="9198" y="9184"/>
                  <a:pt x="9376" y="9203"/>
                </a:cubicBezTo>
                <a:cubicBezTo>
                  <a:pt x="9554" y="9222"/>
                  <a:pt x="9704" y="9237"/>
                  <a:pt x="9872" y="9302"/>
                </a:cubicBezTo>
                <a:cubicBezTo>
                  <a:pt x="9952" y="9333"/>
                  <a:pt x="10189" y="9486"/>
                  <a:pt x="10269" y="9475"/>
                </a:cubicBezTo>
                <a:cubicBezTo>
                  <a:pt x="10327" y="9467"/>
                  <a:pt x="10285" y="9391"/>
                  <a:pt x="10269" y="9351"/>
                </a:cubicBezTo>
                <a:cubicBezTo>
                  <a:pt x="10218" y="9300"/>
                  <a:pt x="10200" y="9280"/>
                  <a:pt x="10195" y="9227"/>
                </a:cubicBezTo>
                <a:cubicBezTo>
                  <a:pt x="10187" y="9227"/>
                  <a:pt x="10178" y="9227"/>
                  <a:pt x="10170" y="9227"/>
                </a:cubicBezTo>
                <a:cubicBezTo>
                  <a:pt x="10227" y="9308"/>
                  <a:pt x="10255" y="9351"/>
                  <a:pt x="10319" y="9426"/>
                </a:cubicBezTo>
                <a:cubicBezTo>
                  <a:pt x="10335" y="9442"/>
                  <a:pt x="10352" y="9459"/>
                  <a:pt x="10368" y="9475"/>
                </a:cubicBezTo>
                <a:cubicBezTo>
                  <a:pt x="10253" y="9505"/>
                  <a:pt x="10141" y="9531"/>
                  <a:pt x="10021" y="9550"/>
                </a:cubicBezTo>
              </a:path>
              <a:path w="19398" h="3573">
                <a:moveTo>
                  <a:pt x="3597" y="12278"/>
                </a:moveTo>
                <a:lnTo>
                  <a:pt x="3597" y="1227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70280" y="2884320"/>
            <a:ext cx="4037040" cy="1133640"/>
          </a:xfrm>
          <a:custGeom>
            <a:avLst/>
            <a:gdLst/>
            <a:ahLst/>
            <a:rect l="l" t="t" r="r" b="b"/>
            <a:pathLst>
              <a:path w="11213" h="3151">
                <a:moveTo>
                  <a:pt x="19844" y="8880"/>
                </a:moveTo>
                <a:cubicBezTo>
                  <a:pt x="19844" y="8787"/>
                  <a:pt x="19836" y="8790"/>
                  <a:pt x="19794" y="8706"/>
                </a:cubicBezTo>
                <a:cubicBezTo>
                  <a:pt x="19692" y="8752"/>
                  <a:pt x="19285" y="8976"/>
                  <a:pt x="19472" y="9153"/>
                </a:cubicBezTo>
                <a:cubicBezTo>
                  <a:pt x="19615" y="9288"/>
                  <a:pt x="19851" y="9128"/>
                  <a:pt x="19993" y="9079"/>
                </a:cubicBezTo>
              </a:path>
              <a:path w="11213" h="3151">
                <a:moveTo>
                  <a:pt x="21109" y="8508"/>
                </a:moveTo>
                <a:cubicBezTo>
                  <a:pt x="21196" y="8490"/>
                  <a:pt x="21348" y="8404"/>
                  <a:pt x="21431" y="8483"/>
                </a:cubicBezTo>
                <a:cubicBezTo>
                  <a:pt x="21542" y="8588"/>
                  <a:pt x="21194" y="8734"/>
                  <a:pt x="21158" y="8756"/>
                </a:cubicBezTo>
                <a:cubicBezTo>
                  <a:pt x="21081" y="8796"/>
                  <a:pt x="21435" y="8644"/>
                  <a:pt x="21382" y="8954"/>
                </a:cubicBezTo>
                <a:cubicBezTo>
                  <a:pt x="21351" y="9132"/>
                  <a:pt x="20854" y="9326"/>
                  <a:pt x="20786" y="9103"/>
                </a:cubicBezTo>
                <a:cubicBezTo>
                  <a:pt x="20803" y="9053"/>
                  <a:pt x="20819" y="9004"/>
                  <a:pt x="20836" y="8954"/>
                </a:cubicBezTo>
              </a:path>
              <a:path w="11213" h="3151">
                <a:moveTo>
                  <a:pt x="21630" y="8781"/>
                </a:moveTo>
                <a:cubicBezTo>
                  <a:pt x="21750" y="8781"/>
                  <a:pt x="21859" y="8786"/>
                  <a:pt x="21977" y="8806"/>
                </a:cubicBezTo>
              </a:path>
              <a:path w="11213" h="3151">
                <a:moveTo>
                  <a:pt x="22498" y="8657"/>
                </a:moveTo>
                <a:cubicBezTo>
                  <a:pt x="22724" y="8635"/>
                  <a:pt x="22923" y="8691"/>
                  <a:pt x="22746" y="8979"/>
                </a:cubicBezTo>
                <a:cubicBezTo>
                  <a:pt x="22620" y="9183"/>
                  <a:pt x="22383" y="9277"/>
                  <a:pt x="22275" y="9079"/>
                </a:cubicBezTo>
                <a:cubicBezTo>
                  <a:pt x="22397" y="8986"/>
                  <a:pt x="22506" y="9098"/>
                  <a:pt x="22647" y="9153"/>
                </a:cubicBezTo>
              </a:path>
              <a:path w="11213" h="3151">
                <a:moveTo>
                  <a:pt x="23093" y="8582"/>
                </a:moveTo>
                <a:cubicBezTo>
                  <a:pt x="23157" y="8668"/>
                  <a:pt x="23377" y="8646"/>
                  <a:pt x="23490" y="8632"/>
                </a:cubicBezTo>
                <a:cubicBezTo>
                  <a:pt x="23515" y="8624"/>
                  <a:pt x="23539" y="8615"/>
                  <a:pt x="23564" y="8607"/>
                </a:cubicBezTo>
                <a:cubicBezTo>
                  <a:pt x="23512" y="8818"/>
                  <a:pt x="23373" y="8990"/>
                  <a:pt x="23267" y="9178"/>
                </a:cubicBezTo>
                <a:cubicBezTo>
                  <a:pt x="23220" y="9271"/>
                  <a:pt x="23210" y="9308"/>
                  <a:pt x="23143" y="9227"/>
                </a:cubicBezTo>
              </a:path>
              <a:path w="11213" h="3151">
                <a:moveTo>
                  <a:pt x="18479" y="8483"/>
                </a:moveTo>
                <a:cubicBezTo>
                  <a:pt x="18438" y="8701"/>
                  <a:pt x="18405" y="8888"/>
                  <a:pt x="18331" y="9103"/>
                </a:cubicBezTo>
                <a:cubicBezTo>
                  <a:pt x="18270" y="9279"/>
                  <a:pt x="18218" y="9444"/>
                  <a:pt x="18182" y="9624"/>
                </a:cubicBezTo>
                <a:cubicBezTo>
                  <a:pt x="18395" y="9656"/>
                  <a:pt x="18613" y="9668"/>
                  <a:pt x="18827" y="9699"/>
                </a:cubicBezTo>
                <a:cubicBezTo>
                  <a:pt x="19375" y="9778"/>
                  <a:pt x="19923" y="9878"/>
                  <a:pt x="20464" y="9996"/>
                </a:cubicBezTo>
                <a:cubicBezTo>
                  <a:pt x="21176" y="10152"/>
                  <a:pt x="21892" y="10262"/>
                  <a:pt x="22622" y="10269"/>
                </a:cubicBezTo>
                <a:cubicBezTo>
                  <a:pt x="22893" y="10272"/>
                  <a:pt x="23171" y="10274"/>
                  <a:pt x="23440" y="10244"/>
                </a:cubicBezTo>
                <a:cubicBezTo>
                  <a:pt x="23624" y="10224"/>
                  <a:pt x="23590" y="10203"/>
                  <a:pt x="23688" y="10046"/>
                </a:cubicBezTo>
                <a:cubicBezTo>
                  <a:pt x="23835" y="9809"/>
                  <a:pt x="23890" y="9534"/>
                  <a:pt x="23986" y="9277"/>
                </a:cubicBezTo>
                <a:cubicBezTo>
                  <a:pt x="24040" y="9133"/>
                  <a:pt x="24118" y="8998"/>
                  <a:pt x="24160" y="8855"/>
                </a:cubicBezTo>
                <a:cubicBezTo>
                  <a:pt x="24176" y="8800"/>
                  <a:pt x="24215" y="8699"/>
                  <a:pt x="24185" y="8632"/>
                </a:cubicBezTo>
                <a:cubicBezTo>
                  <a:pt x="24160" y="8577"/>
                  <a:pt x="24093" y="8519"/>
                  <a:pt x="24036" y="8483"/>
                </a:cubicBezTo>
                <a:cubicBezTo>
                  <a:pt x="23916" y="8408"/>
                  <a:pt x="23769" y="8402"/>
                  <a:pt x="23639" y="8359"/>
                </a:cubicBezTo>
                <a:cubicBezTo>
                  <a:pt x="23484" y="8308"/>
                  <a:pt x="23330" y="8261"/>
                  <a:pt x="23168" y="8235"/>
                </a:cubicBezTo>
                <a:cubicBezTo>
                  <a:pt x="23045" y="8216"/>
                  <a:pt x="22921" y="8221"/>
                  <a:pt x="22796" y="8210"/>
                </a:cubicBezTo>
                <a:cubicBezTo>
                  <a:pt x="22649" y="8198"/>
                  <a:pt x="22498" y="8170"/>
                  <a:pt x="22349" y="8186"/>
                </a:cubicBezTo>
                <a:cubicBezTo>
                  <a:pt x="22174" y="8205"/>
                  <a:pt x="22025" y="8212"/>
                  <a:pt x="21853" y="8186"/>
                </a:cubicBezTo>
                <a:cubicBezTo>
                  <a:pt x="21737" y="8169"/>
                  <a:pt x="21623" y="8174"/>
                  <a:pt x="21506" y="8161"/>
                </a:cubicBezTo>
                <a:cubicBezTo>
                  <a:pt x="21308" y="8139"/>
                  <a:pt x="21109" y="8101"/>
                  <a:pt x="20910" y="8086"/>
                </a:cubicBezTo>
                <a:cubicBezTo>
                  <a:pt x="20745" y="8073"/>
                  <a:pt x="20577" y="8048"/>
                  <a:pt x="20414" y="8037"/>
                </a:cubicBezTo>
                <a:cubicBezTo>
                  <a:pt x="20254" y="8026"/>
                  <a:pt x="20102" y="8059"/>
                  <a:pt x="19943" y="8062"/>
                </a:cubicBezTo>
                <a:cubicBezTo>
                  <a:pt x="19754" y="8066"/>
                  <a:pt x="19559" y="8061"/>
                  <a:pt x="19372" y="8037"/>
                </a:cubicBezTo>
                <a:cubicBezTo>
                  <a:pt x="19197" y="8015"/>
                  <a:pt x="19029" y="8012"/>
                  <a:pt x="18852" y="8012"/>
                </a:cubicBezTo>
                <a:cubicBezTo>
                  <a:pt x="18710" y="8012"/>
                  <a:pt x="18569" y="8013"/>
                  <a:pt x="18430" y="8037"/>
                </a:cubicBezTo>
                <a:cubicBezTo>
                  <a:pt x="18288" y="8062"/>
                  <a:pt x="18379" y="8012"/>
                  <a:pt x="18331" y="8086"/>
                </a:cubicBezTo>
                <a:cubicBezTo>
                  <a:pt x="18315" y="8111"/>
                  <a:pt x="18266" y="8452"/>
                  <a:pt x="18281" y="8483"/>
                </a:cubicBezTo>
                <a:cubicBezTo>
                  <a:pt x="18281" y="8524"/>
                  <a:pt x="18297" y="8533"/>
                  <a:pt x="18355" y="8508"/>
                </a:cubicBezTo>
              </a:path>
              <a:path w="11213" h="3151">
                <a:moveTo>
                  <a:pt x="13419" y="9699"/>
                </a:moveTo>
                <a:cubicBezTo>
                  <a:pt x="13363" y="9605"/>
                  <a:pt x="13206" y="9237"/>
                  <a:pt x="13047" y="9426"/>
                </a:cubicBezTo>
                <a:cubicBezTo>
                  <a:pt x="12901" y="9599"/>
                  <a:pt x="12969" y="9677"/>
                  <a:pt x="13072" y="9798"/>
                </a:cubicBezTo>
                <a:cubicBezTo>
                  <a:pt x="13242" y="9709"/>
                  <a:pt x="13292" y="9668"/>
                  <a:pt x="13395" y="9500"/>
                </a:cubicBezTo>
                <a:cubicBezTo>
                  <a:pt x="13416" y="9698"/>
                  <a:pt x="13454" y="9897"/>
                  <a:pt x="13469" y="10096"/>
                </a:cubicBezTo>
                <a:cubicBezTo>
                  <a:pt x="13469" y="10129"/>
                  <a:pt x="13469" y="10162"/>
                  <a:pt x="13469" y="10195"/>
                </a:cubicBezTo>
              </a:path>
              <a:path w="11213" h="3151">
                <a:moveTo>
                  <a:pt x="15230" y="9897"/>
                </a:moveTo>
                <a:cubicBezTo>
                  <a:pt x="15237" y="10133"/>
                  <a:pt x="15240" y="10362"/>
                  <a:pt x="15304" y="10592"/>
                </a:cubicBezTo>
                <a:cubicBezTo>
                  <a:pt x="15340" y="10722"/>
                  <a:pt x="15406" y="10911"/>
                  <a:pt x="15503" y="11013"/>
                </a:cubicBezTo>
                <a:cubicBezTo>
                  <a:pt x="15556" y="11069"/>
                  <a:pt x="15924" y="11061"/>
                  <a:pt x="15974" y="11063"/>
                </a:cubicBezTo>
                <a:cubicBezTo>
                  <a:pt x="16469" y="11081"/>
                  <a:pt x="16968" y="11098"/>
                  <a:pt x="17462" y="11137"/>
                </a:cubicBezTo>
                <a:cubicBezTo>
                  <a:pt x="17818" y="11165"/>
                  <a:pt x="18172" y="11162"/>
                  <a:pt x="18529" y="11162"/>
                </a:cubicBezTo>
                <a:cubicBezTo>
                  <a:pt x="18845" y="11162"/>
                  <a:pt x="19158" y="11154"/>
                  <a:pt x="19472" y="11137"/>
                </a:cubicBezTo>
                <a:cubicBezTo>
                  <a:pt x="19669" y="11127"/>
                  <a:pt x="19888" y="11147"/>
                  <a:pt x="20067" y="11162"/>
                </a:cubicBezTo>
                <a:cubicBezTo>
                  <a:pt x="20092" y="11162"/>
                  <a:pt x="20100" y="11162"/>
                  <a:pt x="20117" y="11162"/>
                </a:cubicBezTo>
                <a:cubicBezTo>
                  <a:pt x="20109" y="11004"/>
                  <a:pt x="20095" y="10850"/>
                  <a:pt x="20092" y="10691"/>
                </a:cubicBezTo>
                <a:cubicBezTo>
                  <a:pt x="20089" y="10530"/>
                  <a:pt x="20101" y="10377"/>
                  <a:pt x="20067" y="10220"/>
                </a:cubicBezTo>
                <a:cubicBezTo>
                  <a:pt x="20042" y="10103"/>
                  <a:pt x="20030" y="9995"/>
                  <a:pt x="19943" y="9922"/>
                </a:cubicBezTo>
                <a:cubicBezTo>
                  <a:pt x="19893" y="9880"/>
                  <a:pt x="19883" y="9920"/>
                  <a:pt x="19794" y="9922"/>
                </a:cubicBezTo>
                <a:cubicBezTo>
                  <a:pt x="19578" y="9928"/>
                  <a:pt x="19410" y="9861"/>
                  <a:pt x="19199" y="9823"/>
                </a:cubicBezTo>
                <a:cubicBezTo>
                  <a:pt x="18983" y="9783"/>
                  <a:pt x="18771" y="9739"/>
                  <a:pt x="18554" y="9699"/>
                </a:cubicBezTo>
                <a:cubicBezTo>
                  <a:pt x="18388" y="9669"/>
                  <a:pt x="18226" y="9674"/>
                  <a:pt x="18058" y="9674"/>
                </a:cubicBezTo>
                <a:cubicBezTo>
                  <a:pt x="17946" y="9674"/>
                  <a:pt x="17842" y="9656"/>
                  <a:pt x="17735" y="9649"/>
                </a:cubicBezTo>
                <a:cubicBezTo>
                  <a:pt x="17595" y="9640"/>
                  <a:pt x="17454" y="9627"/>
                  <a:pt x="17314" y="9624"/>
                </a:cubicBezTo>
                <a:cubicBezTo>
                  <a:pt x="16875" y="9613"/>
                  <a:pt x="16434" y="9626"/>
                  <a:pt x="15999" y="9649"/>
                </a:cubicBezTo>
                <a:cubicBezTo>
                  <a:pt x="15811" y="9659"/>
                  <a:pt x="15616" y="9652"/>
                  <a:pt x="15429" y="9674"/>
                </a:cubicBezTo>
                <a:cubicBezTo>
                  <a:pt x="15364" y="9682"/>
                  <a:pt x="15282" y="9700"/>
                  <a:pt x="15255" y="9748"/>
                </a:cubicBezTo>
                <a:cubicBezTo>
                  <a:pt x="15225" y="9802"/>
                  <a:pt x="15221" y="9955"/>
                  <a:pt x="15230" y="10046"/>
                </a:cubicBezTo>
                <a:cubicBezTo>
                  <a:pt x="15237" y="10113"/>
                  <a:pt x="15249" y="10178"/>
                  <a:pt x="15255" y="102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29200" y="3751200"/>
            <a:ext cx="1214640" cy="34920"/>
          </a:xfrm>
          <a:custGeom>
            <a:avLst/>
            <a:gdLst/>
            <a:ahLst/>
            <a:rect l="l" t="t" r="r" b="b"/>
            <a:pathLst>
              <a:path w="3375" h="100">
                <a:moveTo>
                  <a:pt x="16470" y="10418"/>
                </a:moveTo>
                <a:cubicBezTo>
                  <a:pt x="16478" y="10418"/>
                  <a:pt x="16487" y="10418"/>
                  <a:pt x="16495" y="10418"/>
                </a:cubicBezTo>
              </a:path>
              <a:path w="3375" h="100">
                <a:moveTo>
                  <a:pt x="19224" y="10517"/>
                </a:moveTo>
                <a:cubicBezTo>
                  <a:pt x="19434" y="10507"/>
                  <a:pt x="19638" y="10484"/>
                  <a:pt x="19844" y="104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99080" y="3562200"/>
            <a:ext cx="608040" cy="260640"/>
          </a:xfrm>
          <a:custGeom>
            <a:avLst/>
            <a:gdLst/>
            <a:ahLst/>
            <a:rect l="l" t="t" r="r" b="b"/>
            <a:pathLst>
              <a:path w="1687" h="720">
                <a:moveTo>
                  <a:pt x="15553" y="10046"/>
                </a:moveTo>
                <a:cubicBezTo>
                  <a:pt x="15564" y="10046"/>
                  <a:pt x="15714" y="10390"/>
                  <a:pt x="15751" y="10492"/>
                </a:cubicBezTo>
                <a:cubicBezTo>
                  <a:pt x="15770" y="10567"/>
                  <a:pt x="15778" y="10626"/>
                  <a:pt x="15776" y="10567"/>
                </a:cubicBezTo>
                <a:cubicBezTo>
                  <a:pt x="15715" y="10430"/>
                  <a:pt x="15715" y="10202"/>
                  <a:pt x="15949" y="10220"/>
                </a:cubicBezTo>
                <a:cubicBezTo>
                  <a:pt x="16151" y="10236"/>
                  <a:pt x="16148" y="10384"/>
                  <a:pt x="16148" y="10517"/>
                </a:cubicBezTo>
                <a:cubicBezTo>
                  <a:pt x="15955" y="10579"/>
                  <a:pt x="15851" y="10584"/>
                  <a:pt x="15677" y="10468"/>
                </a:cubicBezTo>
              </a:path>
              <a:path w="1687" h="720">
                <a:moveTo>
                  <a:pt x="16297" y="10344"/>
                </a:moveTo>
                <a:cubicBezTo>
                  <a:pt x="16414" y="10329"/>
                  <a:pt x="16530" y="10312"/>
                  <a:pt x="16644" y="10294"/>
                </a:cubicBezTo>
                <a:cubicBezTo>
                  <a:pt x="16669" y="10294"/>
                  <a:pt x="16677" y="10294"/>
                  <a:pt x="16644" y="10294"/>
                </a:cubicBezTo>
              </a:path>
              <a:path w="1687" h="720">
                <a:moveTo>
                  <a:pt x="16272" y="9996"/>
                </a:moveTo>
                <a:cubicBezTo>
                  <a:pt x="16272" y="10021"/>
                  <a:pt x="16272" y="10029"/>
                  <a:pt x="16272" y="10046"/>
                </a:cubicBezTo>
              </a:path>
              <a:path w="1687" h="720">
                <a:moveTo>
                  <a:pt x="17190" y="10120"/>
                </a:moveTo>
                <a:cubicBezTo>
                  <a:pt x="17164" y="10018"/>
                  <a:pt x="17155" y="9983"/>
                  <a:pt x="17115" y="9922"/>
                </a:cubicBezTo>
                <a:cubicBezTo>
                  <a:pt x="16830" y="9935"/>
                  <a:pt x="16768" y="10007"/>
                  <a:pt x="16768" y="10294"/>
                </a:cubicBezTo>
                <a:cubicBezTo>
                  <a:pt x="16986" y="10305"/>
                  <a:pt x="17049" y="10296"/>
                  <a:pt x="17090" y="10046"/>
                </a:cubicBezTo>
                <a:cubicBezTo>
                  <a:pt x="17090" y="10038"/>
                  <a:pt x="17090" y="10029"/>
                  <a:pt x="17090" y="10021"/>
                </a:cubicBezTo>
                <a:cubicBezTo>
                  <a:pt x="17141" y="10183"/>
                  <a:pt x="17209" y="10350"/>
                  <a:pt x="17239" y="10517"/>
                </a:cubicBezTo>
                <a:cubicBezTo>
                  <a:pt x="17239" y="10567"/>
                  <a:pt x="17239" y="10583"/>
                  <a:pt x="17239" y="1061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11960" y="3687840"/>
            <a:ext cx="258840" cy="108000"/>
          </a:xfrm>
          <a:custGeom>
            <a:avLst/>
            <a:gdLst/>
            <a:ahLst/>
            <a:rect l="l" t="t" r="r" b="b"/>
            <a:pathLst>
              <a:path w="720" h="299">
                <a:moveTo>
                  <a:pt x="18033" y="10294"/>
                </a:moveTo>
                <a:cubicBezTo>
                  <a:pt x="17891" y="10323"/>
                  <a:pt x="17843" y="10359"/>
                  <a:pt x="17810" y="10492"/>
                </a:cubicBezTo>
                <a:cubicBezTo>
                  <a:pt x="17943" y="10511"/>
                  <a:pt x="18105" y="10511"/>
                  <a:pt x="18083" y="10319"/>
                </a:cubicBezTo>
                <a:cubicBezTo>
                  <a:pt x="18060" y="10296"/>
                  <a:pt x="18056" y="10288"/>
                  <a:pt x="18033" y="10294"/>
                </a:cubicBezTo>
              </a:path>
              <a:path w="720" h="299">
                <a:moveTo>
                  <a:pt x="18331" y="10492"/>
                </a:moveTo>
                <a:cubicBezTo>
                  <a:pt x="18339" y="10509"/>
                  <a:pt x="18347" y="10525"/>
                  <a:pt x="18355" y="10542"/>
                </a:cubicBezTo>
                <a:cubicBezTo>
                  <a:pt x="18355" y="10447"/>
                  <a:pt x="18390" y="10379"/>
                  <a:pt x="18430" y="10294"/>
                </a:cubicBezTo>
                <a:cubicBezTo>
                  <a:pt x="18458" y="10237"/>
                  <a:pt x="18474" y="10223"/>
                  <a:pt x="18529" y="102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29280" y="3581280"/>
            <a:ext cx="152640" cy="401760"/>
          </a:xfrm>
          <a:custGeom>
            <a:avLst/>
            <a:gdLst/>
            <a:ahLst/>
            <a:rect l="l" t="t" r="r" b="b"/>
            <a:pathLst>
              <a:path w="423" h="1117">
                <a:moveTo>
                  <a:pt x="19248" y="9947"/>
                </a:moveTo>
                <a:cubicBezTo>
                  <a:pt x="19263" y="10091"/>
                  <a:pt x="19307" y="10229"/>
                  <a:pt x="19348" y="10368"/>
                </a:cubicBezTo>
                <a:cubicBezTo>
                  <a:pt x="19309" y="10445"/>
                  <a:pt x="19337" y="10186"/>
                  <a:pt x="19348" y="10170"/>
                </a:cubicBezTo>
                <a:cubicBezTo>
                  <a:pt x="19501" y="9950"/>
                  <a:pt x="19617" y="10225"/>
                  <a:pt x="19645" y="10344"/>
                </a:cubicBezTo>
                <a:cubicBezTo>
                  <a:pt x="19534" y="10387"/>
                  <a:pt x="19434" y="10418"/>
                  <a:pt x="19323" y="10344"/>
                </a:cubicBezTo>
                <a:cubicBezTo>
                  <a:pt x="19331" y="10344"/>
                  <a:pt x="19340" y="10344"/>
                  <a:pt x="19348" y="10344"/>
                </a:cubicBezTo>
              </a:path>
              <a:path w="423" h="1117">
                <a:moveTo>
                  <a:pt x="19670" y="10765"/>
                </a:moveTo>
                <a:cubicBezTo>
                  <a:pt x="19640" y="10646"/>
                  <a:pt x="19492" y="10663"/>
                  <a:pt x="19397" y="10691"/>
                </a:cubicBezTo>
                <a:cubicBezTo>
                  <a:pt x="19372" y="10707"/>
                  <a:pt x="19348" y="10724"/>
                  <a:pt x="19323" y="10740"/>
                </a:cubicBezTo>
                <a:cubicBezTo>
                  <a:pt x="19376" y="10901"/>
                  <a:pt x="19513" y="10954"/>
                  <a:pt x="19645" y="10790"/>
                </a:cubicBezTo>
                <a:cubicBezTo>
                  <a:pt x="19664" y="10733"/>
                  <a:pt x="19673" y="10690"/>
                  <a:pt x="19670" y="10740"/>
                </a:cubicBezTo>
                <a:cubicBezTo>
                  <a:pt x="19670" y="10848"/>
                  <a:pt x="19670" y="10955"/>
                  <a:pt x="19670" y="110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0640" y="4205160"/>
            <a:ext cx="1519200" cy="216000"/>
          </a:xfrm>
          <a:custGeom>
            <a:avLst/>
            <a:gdLst/>
            <a:ahLst/>
            <a:rect l="l" t="t" r="r" b="b"/>
            <a:pathLst>
              <a:path w="4217" h="596">
                <a:moveTo>
                  <a:pt x="3225" y="11832"/>
                </a:moveTo>
                <a:cubicBezTo>
                  <a:pt x="3249" y="11956"/>
                  <a:pt x="3257" y="11997"/>
                  <a:pt x="3225" y="12080"/>
                </a:cubicBezTo>
                <a:cubicBezTo>
                  <a:pt x="3338" y="12037"/>
                  <a:pt x="3553" y="11997"/>
                  <a:pt x="3621" y="11956"/>
                </a:cubicBezTo>
              </a:path>
              <a:path w="4217" h="596">
                <a:moveTo>
                  <a:pt x="3448" y="11708"/>
                </a:moveTo>
                <a:cubicBezTo>
                  <a:pt x="3498" y="11893"/>
                  <a:pt x="3565" y="12089"/>
                  <a:pt x="3597" y="12278"/>
                </a:cubicBezTo>
              </a:path>
              <a:path w="4217" h="596">
                <a:moveTo>
                  <a:pt x="7392" y="12179"/>
                </a:moveTo>
                <a:cubicBezTo>
                  <a:pt x="7340" y="12101"/>
                  <a:pt x="7291" y="12052"/>
                  <a:pt x="7193" y="12005"/>
                </a:cubicBezTo>
                <a:cubicBezTo>
                  <a:pt x="6792" y="11813"/>
                  <a:pt x="6302" y="11676"/>
                  <a:pt x="5854" y="11683"/>
                </a:cubicBezTo>
                <a:cubicBezTo>
                  <a:pt x="5661" y="11686"/>
                  <a:pt x="5511" y="11743"/>
                  <a:pt x="5333" y="11807"/>
                </a:cubicBezTo>
                <a:cubicBezTo>
                  <a:pt x="5134" y="11879"/>
                  <a:pt x="4975" y="11963"/>
                  <a:pt x="4787" y="12055"/>
                </a:cubicBezTo>
                <a:cubicBezTo>
                  <a:pt x="4694" y="12093"/>
                  <a:pt x="4676" y="12086"/>
                  <a:pt x="4638" y="12129"/>
                </a:cubicBezTo>
              </a:path>
              <a:path w="4217" h="596">
                <a:moveTo>
                  <a:pt x="4738" y="11832"/>
                </a:moveTo>
                <a:cubicBezTo>
                  <a:pt x="4675" y="11968"/>
                  <a:pt x="4645" y="12132"/>
                  <a:pt x="4564" y="12254"/>
                </a:cubicBezTo>
                <a:cubicBezTo>
                  <a:pt x="4720" y="12284"/>
                  <a:pt x="4852" y="12266"/>
                  <a:pt x="5011" y="12254"/>
                </a:cubicBezTo>
              </a:path>
              <a:path w="4217" h="596">
                <a:moveTo>
                  <a:pt x="7144" y="11857"/>
                </a:moveTo>
                <a:cubicBezTo>
                  <a:pt x="7252" y="11940"/>
                  <a:pt x="7345" y="12033"/>
                  <a:pt x="7441" y="12129"/>
                </a:cubicBezTo>
                <a:cubicBezTo>
                  <a:pt x="7321" y="12164"/>
                  <a:pt x="7147" y="12200"/>
                  <a:pt x="7045" y="12278"/>
                </a:cubicBezTo>
                <a:cubicBezTo>
                  <a:pt x="7070" y="12270"/>
                  <a:pt x="7094" y="12262"/>
                  <a:pt x="7119" y="122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77920" y="5000760"/>
            <a:ext cx="152280" cy="295200"/>
          </a:xfrm>
          <a:custGeom>
            <a:avLst/>
            <a:gdLst/>
            <a:ahLst/>
            <a:rect l="l" t="t" r="r" b="b"/>
            <a:pathLst>
              <a:path w="423" h="819">
                <a:moveTo>
                  <a:pt x="3274" y="14089"/>
                </a:moveTo>
                <a:cubicBezTo>
                  <a:pt x="3288" y="14126"/>
                  <a:pt x="3324" y="14331"/>
                  <a:pt x="3324" y="14213"/>
                </a:cubicBezTo>
                <a:cubicBezTo>
                  <a:pt x="3324" y="14050"/>
                  <a:pt x="3286" y="14062"/>
                  <a:pt x="3423" y="13990"/>
                </a:cubicBezTo>
                <a:cubicBezTo>
                  <a:pt x="3545" y="13928"/>
                  <a:pt x="3567" y="13912"/>
                  <a:pt x="3646" y="13891"/>
                </a:cubicBezTo>
                <a:cubicBezTo>
                  <a:pt x="3748" y="13924"/>
                  <a:pt x="3672" y="14337"/>
                  <a:pt x="3671" y="14362"/>
                </a:cubicBezTo>
                <a:cubicBezTo>
                  <a:pt x="3668" y="14508"/>
                  <a:pt x="3622" y="14683"/>
                  <a:pt x="3671" y="146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03240" y="5197320"/>
            <a:ext cx="162000" cy="17640"/>
          </a:xfrm>
          <a:custGeom>
            <a:avLst/>
            <a:gdLst/>
            <a:ahLst/>
            <a:rect l="l" t="t" r="r" b="b"/>
            <a:pathLst>
              <a:path w="447" h="51">
                <a:moveTo>
                  <a:pt x="5011" y="14486"/>
                </a:moveTo>
                <a:cubicBezTo>
                  <a:pt x="5147" y="14486"/>
                  <a:pt x="5306" y="14430"/>
                  <a:pt x="5432" y="14436"/>
                </a:cubicBezTo>
                <a:cubicBezTo>
                  <a:pt x="5440" y="14444"/>
                  <a:pt x="5449" y="14453"/>
                  <a:pt x="5457" y="144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65160" y="1919160"/>
            <a:ext cx="687600" cy="492120"/>
          </a:xfrm>
          <a:custGeom>
            <a:avLst/>
            <a:gdLst/>
            <a:ahLst/>
            <a:rect l="l" t="t" r="r" b="b"/>
            <a:pathLst>
              <a:path w="1911" h="1365">
                <a:moveTo>
                  <a:pt x="2679" y="6697"/>
                </a:moveTo>
                <a:cubicBezTo>
                  <a:pt x="2722" y="6681"/>
                  <a:pt x="2729" y="6683"/>
                  <a:pt x="2828" y="6672"/>
                </a:cubicBezTo>
                <a:cubicBezTo>
                  <a:pt x="3077" y="6645"/>
                  <a:pt x="3323" y="6582"/>
                  <a:pt x="3572" y="6548"/>
                </a:cubicBezTo>
                <a:cubicBezTo>
                  <a:pt x="3729" y="6527"/>
                  <a:pt x="3889" y="6491"/>
                  <a:pt x="4043" y="6474"/>
                </a:cubicBezTo>
                <a:cubicBezTo>
                  <a:pt x="4209" y="6456"/>
                  <a:pt x="4386" y="6478"/>
                  <a:pt x="4539" y="6449"/>
                </a:cubicBezTo>
                <a:cubicBezTo>
                  <a:pt x="4564" y="6449"/>
                  <a:pt x="4572" y="6449"/>
                  <a:pt x="4589" y="6449"/>
                </a:cubicBezTo>
              </a:path>
              <a:path w="1911" h="1365">
                <a:moveTo>
                  <a:pt x="3225" y="5358"/>
                </a:moveTo>
                <a:cubicBezTo>
                  <a:pt x="3361" y="5337"/>
                  <a:pt x="3483" y="5333"/>
                  <a:pt x="3621" y="5333"/>
                </a:cubicBezTo>
                <a:cubicBezTo>
                  <a:pt x="3629" y="5333"/>
                  <a:pt x="3638" y="5333"/>
                  <a:pt x="3646" y="53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64000" y="4205160"/>
            <a:ext cx="1224000" cy="590760"/>
          </a:xfrm>
          <a:custGeom>
            <a:avLst/>
            <a:gdLst/>
            <a:ahLst/>
            <a:rect l="l" t="t" r="r" b="b"/>
            <a:pathLst>
              <a:path w="3400" h="1638">
                <a:moveTo>
                  <a:pt x="12874" y="12229"/>
                </a:moveTo>
                <a:cubicBezTo>
                  <a:pt x="12893" y="12385"/>
                  <a:pt x="12927" y="12550"/>
                  <a:pt x="12973" y="12700"/>
                </a:cubicBezTo>
                <a:cubicBezTo>
                  <a:pt x="12981" y="12717"/>
                  <a:pt x="12990" y="12733"/>
                  <a:pt x="12998" y="12750"/>
                </a:cubicBezTo>
                <a:cubicBezTo>
                  <a:pt x="12863" y="12696"/>
                  <a:pt x="12868" y="12556"/>
                  <a:pt x="12898" y="12427"/>
                </a:cubicBezTo>
                <a:cubicBezTo>
                  <a:pt x="12935" y="12265"/>
                  <a:pt x="13149" y="12154"/>
                  <a:pt x="13295" y="12278"/>
                </a:cubicBezTo>
                <a:cubicBezTo>
                  <a:pt x="13413" y="12378"/>
                  <a:pt x="13337" y="12628"/>
                  <a:pt x="13444" y="12700"/>
                </a:cubicBezTo>
                <a:cubicBezTo>
                  <a:pt x="13551" y="12727"/>
                  <a:pt x="13592" y="12734"/>
                  <a:pt x="13667" y="12700"/>
                </a:cubicBezTo>
              </a:path>
              <a:path w="3400" h="1638">
                <a:moveTo>
                  <a:pt x="14039" y="12452"/>
                </a:moveTo>
                <a:cubicBezTo>
                  <a:pt x="14134" y="12471"/>
                  <a:pt x="14237" y="12493"/>
                  <a:pt x="14337" y="12502"/>
                </a:cubicBezTo>
                <a:cubicBezTo>
                  <a:pt x="14362" y="12502"/>
                  <a:pt x="14387" y="12502"/>
                  <a:pt x="14412" y="12502"/>
                </a:cubicBezTo>
              </a:path>
              <a:path w="3400" h="1638">
                <a:moveTo>
                  <a:pt x="14784" y="12229"/>
                </a:moveTo>
                <a:cubicBezTo>
                  <a:pt x="14784" y="12292"/>
                  <a:pt x="14755" y="12452"/>
                  <a:pt x="14808" y="12477"/>
                </a:cubicBezTo>
                <a:cubicBezTo>
                  <a:pt x="14924" y="12531"/>
                  <a:pt x="15078" y="12502"/>
                  <a:pt x="15205" y="12502"/>
                </a:cubicBezTo>
              </a:path>
              <a:path w="3400" h="1638">
                <a:moveTo>
                  <a:pt x="15106" y="12005"/>
                </a:moveTo>
                <a:cubicBezTo>
                  <a:pt x="15106" y="12248"/>
                  <a:pt x="15169" y="12567"/>
                  <a:pt x="15131" y="12799"/>
                </a:cubicBezTo>
                <a:cubicBezTo>
                  <a:pt x="15114" y="12824"/>
                  <a:pt x="15098" y="12849"/>
                  <a:pt x="15081" y="12874"/>
                </a:cubicBezTo>
              </a:path>
              <a:path w="3400" h="1638">
                <a:moveTo>
                  <a:pt x="12402" y="12055"/>
                </a:moveTo>
                <a:cubicBezTo>
                  <a:pt x="12448" y="12346"/>
                  <a:pt x="12527" y="12614"/>
                  <a:pt x="12601" y="12898"/>
                </a:cubicBezTo>
                <a:cubicBezTo>
                  <a:pt x="12643" y="13059"/>
                  <a:pt x="12640" y="13144"/>
                  <a:pt x="12650" y="13295"/>
                </a:cubicBezTo>
                <a:cubicBezTo>
                  <a:pt x="12826" y="13317"/>
                  <a:pt x="13009" y="13286"/>
                  <a:pt x="13196" y="13271"/>
                </a:cubicBezTo>
                <a:cubicBezTo>
                  <a:pt x="13956" y="13211"/>
                  <a:pt x="14718" y="13189"/>
                  <a:pt x="15478" y="13146"/>
                </a:cubicBezTo>
                <a:cubicBezTo>
                  <a:pt x="15586" y="13140"/>
                  <a:pt x="15693" y="13128"/>
                  <a:pt x="15801" y="13122"/>
                </a:cubicBezTo>
                <a:cubicBezTo>
                  <a:pt x="15667" y="12809"/>
                  <a:pt x="15603" y="12495"/>
                  <a:pt x="15577" y="12154"/>
                </a:cubicBezTo>
                <a:cubicBezTo>
                  <a:pt x="15567" y="12028"/>
                  <a:pt x="15577" y="11927"/>
                  <a:pt x="15553" y="11807"/>
                </a:cubicBezTo>
                <a:cubicBezTo>
                  <a:pt x="15539" y="11739"/>
                  <a:pt x="15550" y="11725"/>
                  <a:pt x="15453" y="11708"/>
                </a:cubicBezTo>
                <a:cubicBezTo>
                  <a:pt x="15143" y="11655"/>
                  <a:pt x="14773" y="11685"/>
                  <a:pt x="14461" y="11683"/>
                </a:cubicBezTo>
                <a:cubicBezTo>
                  <a:pt x="13974" y="11679"/>
                  <a:pt x="13522" y="11743"/>
                  <a:pt x="13047" y="11832"/>
                </a:cubicBezTo>
                <a:cubicBezTo>
                  <a:pt x="12922" y="11855"/>
                  <a:pt x="12796" y="11876"/>
                  <a:pt x="12675" y="11906"/>
                </a:cubicBezTo>
                <a:cubicBezTo>
                  <a:pt x="12630" y="11917"/>
                  <a:pt x="12589" y="11942"/>
                  <a:pt x="12551" y="119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48040" y="5045040"/>
            <a:ext cx="1162080" cy="563760"/>
          </a:xfrm>
          <a:custGeom>
            <a:avLst/>
            <a:gdLst/>
            <a:ahLst/>
            <a:rect l="l" t="t" r="r" b="b"/>
            <a:pathLst>
              <a:path w="3225" h="1563">
                <a:moveTo>
                  <a:pt x="11336" y="14362"/>
                </a:moveTo>
                <a:cubicBezTo>
                  <a:pt x="11487" y="14513"/>
                  <a:pt x="11731" y="14442"/>
                  <a:pt x="11931" y="14412"/>
                </a:cubicBezTo>
                <a:cubicBezTo>
                  <a:pt x="12022" y="14394"/>
                  <a:pt x="12029" y="14385"/>
                  <a:pt x="12080" y="14387"/>
                </a:cubicBezTo>
                <a:cubicBezTo>
                  <a:pt x="12032" y="14623"/>
                  <a:pt x="11969" y="14870"/>
                  <a:pt x="11906" y="15106"/>
                </a:cubicBezTo>
                <a:cubicBezTo>
                  <a:pt x="11898" y="15131"/>
                  <a:pt x="11889" y="15155"/>
                  <a:pt x="11881" y="15180"/>
                </a:cubicBezTo>
              </a:path>
              <a:path w="3225" h="1563">
                <a:moveTo>
                  <a:pt x="12378" y="14784"/>
                </a:moveTo>
                <a:cubicBezTo>
                  <a:pt x="12482" y="14778"/>
                  <a:pt x="12580" y="14768"/>
                  <a:pt x="12675" y="14784"/>
                </a:cubicBezTo>
              </a:path>
              <a:path w="3225" h="1563">
                <a:moveTo>
                  <a:pt x="13072" y="14684"/>
                </a:moveTo>
                <a:cubicBezTo>
                  <a:pt x="13093" y="14816"/>
                  <a:pt x="13122" y="14947"/>
                  <a:pt x="13122" y="15081"/>
                </a:cubicBezTo>
                <a:cubicBezTo>
                  <a:pt x="13075" y="14942"/>
                  <a:pt x="13020" y="14761"/>
                  <a:pt x="13171" y="14660"/>
                </a:cubicBezTo>
                <a:cubicBezTo>
                  <a:pt x="13324" y="14558"/>
                  <a:pt x="13510" y="14726"/>
                  <a:pt x="13568" y="14858"/>
                </a:cubicBezTo>
                <a:cubicBezTo>
                  <a:pt x="13627" y="14992"/>
                  <a:pt x="13553" y="15153"/>
                  <a:pt x="13767" y="15106"/>
                </a:cubicBezTo>
                <a:cubicBezTo>
                  <a:pt x="13808" y="15089"/>
                  <a:pt x="13850" y="15073"/>
                  <a:pt x="13891" y="15056"/>
                </a:cubicBezTo>
              </a:path>
              <a:path w="3225" h="1563">
                <a:moveTo>
                  <a:pt x="10964" y="14163"/>
                </a:moveTo>
                <a:cubicBezTo>
                  <a:pt x="10971" y="14380"/>
                  <a:pt x="10991" y="14674"/>
                  <a:pt x="11013" y="14908"/>
                </a:cubicBezTo>
                <a:cubicBezTo>
                  <a:pt x="11034" y="15131"/>
                  <a:pt x="11040" y="15337"/>
                  <a:pt x="11088" y="15553"/>
                </a:cubicBezTo>
                <a:cubicBezTo>
                  <a:pt x="11390" y="15546"/>
                  <a:pt x="11760" y="15521"/>
                  <a:pt x="12080" y="15503"/>
                </a:cubicBezTo>
                <a:cubicBezTo>
                  <a:pt x="12618" y="15473"/>
                  <a:pt x="13153" y="15453"/>
                  <a:pt x="13692" y="15453"/>
                </a:cubicBezTo>
                <a:cubicBezTo>
                  <a:pt x="13783" y="15453"/>
                  <a:pt x="13791" y="15453"/>
                  <a:pt x="13841" y="15453"/>
                </a:cubicBezTo>
                <a:cubicBezTo>
                  <a:pt x="13867" y="15274"/>
                  <a:pt x="13904" y="15089"/>
                  <a:pt x="13915" y="14908"/>
                </a:cubicBezTo>
                <a:cubicBezTo>
                  <a:pt x="13931" y="14642"/>
                  <a:pt x="13911" y="14365"/>
                  <a:pt x="13816" y="14114"/>
                </a:cubicBezTo>
                <a:cubicBezTo>
                  <a:pt x="13771" y="13996"/>
                  <a:pt x="13707" y="14055"/>
                  <a:pt x="13593" y="14064"/>
                </a:cubicBezTo>
                <a:cubicBezTo>
                  <a:pt x="13160" y="14100"/>
                  <a:pt x="12738" y="14073"/>
                  <a:pt x="12303" y="14064"/>
                </a:cubicBezTo>
                <a:cubicBezTo>
                  <a:pt x="11974" y="14057"/>
                  <a:pt x="11612" y="14002"/>
                  <a:pt x="11286" y="14015"/>
                </a:cubicBezTo>
                <a:cubicBezTo>
                  <a:pt x="11140" y="14021"/>
                  <a:pt x="10983" y="14061"/>
                  <a:pt x="10840" y="14089"/>
                </a:cubicBezTo>
                <a:cubicBezTo>
                  <a:pt x="10749" y="14107"/>
                  <a:pt x="10742" y="14116"/>
                  <a:pt x="10691" y="141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219320" y="20574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Workshee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9T01:21:19Z</dcterms:created>
  <dc:creator>ccps</dc:creator>
  <dc:description/>
  <dc:language>en-US</dc:language>
  <cp:lastModifiedBy>deanne e mcgrath</cp:lastModifiedBy>
  <dcterms:modified xsi:type="dcterms:W3CDTF">2011-09-19T19:17:00Z</dcterms:modified>
  <cp:revision>10</cp:revision>
  <dc:subject/>
  <dc:title>Obj 7.1:  To write expressions and equations.</dc:title>
</cp:coreProperties>
</file>